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3.wmf" ContentType="image/x-wmf"/>
  <Override PartName="/ppt/media/image4.png" ContentType="image/png"/>
  <Override PartName="/ppt/media/image5.gif" ContentType="image/gif"/>
  <Override PartName="/ppt/media/image6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57013-561D-4A27-859B-85EA79494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FA5EC-5C9B-43CF-A753-A6E90BBC6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CC73E-52EE-41CB-B3B7-1293192ED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3724B-C7C8-4345-90EC-6C81E5FF2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07A14-9491-4B5A-ADE4-89C797598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0BC68-B865-48A4-8963-DD0E73411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51D6F-E120-45BA-B6A4-C2E0AB5AF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E345D-3074-4619-B451-4173F14A7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21F29-E89F-42B8-863D-63B1C01A7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5CB2D-204B-4E93-8EBB-F796B2817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4902E-6F7B-4371-BD0D-2A87E744F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89C31-9E10-4E29-95F7-1FA6791AD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D349F-037A-4554-BC6C-A90B40EAE3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05120" y="533520"/>
            <a:ext cx="6781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cience Mentor Workshop #2 11/14/08– FRIDAY AGEN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1424160" cy="14479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066680" y="1523880"/>
            <a:ext cx="7239240" cy="50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:30 – Coffee, tea, and breakf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:35--10:15– Curriculum map contin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:15--10:25 – Brea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:30-12:00 – Finish skills on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:00-1:00 – 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:00-2:30 – Mapping changes and lev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:30-2:40 – Brea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:40-3:30 –Mapping lev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al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mplete skeleton maps and our master trend ma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me to consensus on curricular modifications based on repetitions, scaffolding, and ga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me up with a plan for developmental levels of skills and concep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reate benchmarks for each grad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7543800" y="380880"/>
            <a:ext cx="905040" cy="10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iday -- 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1532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Step 1 – Look at monthly maps and spreadsheet…make sure your information from your grade is corre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Step 2 – make corre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Step 3 – Add skills (standards 1,2, 6, 7)—use core curriculu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Step 4 – Look at the entire documen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Delete unneeded repet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dd concepts not taught or not spiral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Step 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tandard 6 – Key Idea 2 Mode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ad through the KI – brainstorm 1-3 hands-on activities where you use this in each un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rk on Trend She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x: K – plant a seed and watch it grow, and label a plant diagram as part of CF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>
            <a:lum bright="40000"/>
          </a:blip>
          <a:stretch/>
        </p:blipFill>
        <p:spPr>
          <a:xfrm>
            <a:off x="228600" y="152280"/>
            <a:ext cx="8610480" cy="65534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219320" y="942120"/>
            <a:ext cx="7315200" cy="43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spAutoFit/>
          </a:bodyPr>
          <a:p>
            <a:pPr marL="343080" indent="-343080"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Arial"/>
              </a:rPr>
              <a:t>Are there Gaps?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Arial"/>
              </a:rPr>
              <a:t>Look at trends…is there “scaffolded” learning in trended area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Arial"/>
              </a:rPr>
              <a:t>Are there unneeded Repeti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Arial"/>
              </a:rPr>
              <a:t>When the units are taught?? Pre-requisite skills…background knowledge that spira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33520" y="152280"/>
            <a:ext cx="79246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Step 4 – Look at the entire documen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8610480" cy="65534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145880" y="1905480"/>
            <a:ext cx="6910560" cy="12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re do we need to make modificatio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4191120" y="3200400"/>
            <a:ext cx="101916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5" dur="5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6" dur="5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" dur="5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8610480" cy="65534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066680" y="425880"/>
            <a:ext cx="762012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stery/Secure/Extension at what grade(s)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2133720" y="1623960"/>
          <a:ext cx="5486400" cy="3481200"/>
        </p:xfrm>
        <a:graphic>
          <a:graphicData uri="http://schemas.openxmlformats.org/drawingml/2006/table">
            <a:tbl>
              <a:tblPr/>
              <a:tblGrid>
                <a:gridCol w="548640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VELOPMENTAL  LEVEL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687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eginning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udents are first exposed to the skill through heavy teacher model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veloping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udents have knowledge, begin independent practi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687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cure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udents practice skill independently and demonstrate security with skil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189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xtension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udents are expected to apply skill independently, flexibly, and appropriately, without prompting from teacher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udents are challenged to be reflective about their practice and evaluative of their metacognitive practices in order to reinforce growt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8610480" cy="65534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276200" y="1426320"/>
            <a:ext cx="6724800" cy="26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dentify Benchmarks – Secure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5791320" y="3168720"/>
            <a:ext cx="2419200" cy="167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2T14:41:17Z</dcterms:created>
  <dc:creator>Erie 1 Staff-Mobile Labs</dc:creator>
  <dc:description/>
  <dc:language>en-US</dc:language>
  <cp:lastModifiedBy>Erie 1 Staff-Mobile Labs</cp:lastModifiedBy>
  <dcterms:modified xsi:type="dcterms:W3CDTF">2008-11-12T16:24:33Z</dcterms:modified>
  <cp:revision>11</cp:revision>
  <dc:subject/>
  <dc:title>GI – FRIDAY AGENDA</dc:title>
</cp:coreProperties>
</file>