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C35-CAC3-4A43-86C9-5B7DA2A8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DDB-7642-427A-AF28-6B4A709E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E85-05A1-4D3D-82F7-1324573F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0BE-5801-4B2D-B59F-02388829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B44-B2C6-4DA0-ADF1-13AE1548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7EA-231E-41D6-A552-866F6D1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5B7-0FBA-4BF7-8373-A593FA70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D45-586D-4E7F-BF49-629F911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EE9-49A9-466D-AC7B-1B18E1F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7A0-BF33-4ADC-A2EE-0744043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234-EE52-4AAE-BD9D-FFFC7BC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3CF-607C-455D-ABDC-0D7429D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9DD-3EE9-423F-9B24-A974C248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942120"/>
            <a:ext cx="73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that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Erie 1 Staff-Mobile Labs</cp:lastModifiedBy>
  <dcterms:modified xsi:type="dcterms:W3CDTF">2008-11-12T16:24:33Z</dcterms:modified>
  <cp:revision>11</cp:revision>
  <dc:subject/>
  <dc:title>GI – FRIDAY AGENDA</dc:title>
</cp:coreProperties>
</file>