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wmf" ContentType="image/x-wmf"/>
  <Override PartName="/ppt/media/image4.png" ContentType="image/png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C416-883D-4467-86D6-1C43C9445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62DF-612C-43EE-96CC-41107BA4C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4DEE-947F-4FB2-A1C9-6B0151E4A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F3B4-67CB-4CE0-B8AE-485DFF6FE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F3AD-03CE-4EC0-9EC2-C99303DF3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62DD-AF28-44D4-A7B9-0A643F94F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FBCE-54BD-4EE2-99BE-EF7863A15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7BC3-2740-4501-8549-476420597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D80A-2FC3-4496-B407-6DB601DE6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39A4-7F23-4A4E-B0F5-4087303BE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ED44-BACD-4D58-853F-DAD58B79F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CD05-EC0D-4EE7-942D-5F5DF738F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29675-8285-4AFF-94A7-3E7C13B139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5120" y="53352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cience Mentor Workshop #2 11/14/08– FRIDAY AGE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1424160" cy="1447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066680" y="1523880"/>
            <a:ext cx="723924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:30 – Coffee, tea, and breakf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:35--10:15– Curriculum map contin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:15--10:25 – Bre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:30-12:00 – Finish skills on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:00-1:00 – 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:00-2:30 – Mapping changes and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:30-2:40 – Bre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:40-3:30 –Mapping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lete skeleton maps and our master trend ma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e to consensus on curricular modifications based on repetitions, scaffolding, and ga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e up with a plan for developmental levels of skills and conce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eate benchmarks for each grad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543800" y="380880"/>
            <a:ext cx="90504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iday -- 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1532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tep 1 – Look at monthly maps and spreadsheet…make sure your information from your grade is corr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tep 2 – make corr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tep 3 – Add skills (standards 1,2, 6, 7)—use core curricul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tep 4 – Look at the entire documen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elete unneeded repet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dd concepts not taught or not spira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Step 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ndard 6 – Key Idea 2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d through the KI – brainstorm 1-3 hands-on activities where you use this in each un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rk on Trend She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: K – plant a seed and watch it grow, and label a plant diagram as part of CF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219320" y="942120"/>
            <a:ext cx="73152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marL="343080" indent="-343080"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Are there Gaps?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Look at trends…is there “scaffolded” learning in trended area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Are there unneeded Repet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When the units are taught?? Pre-requisite skills…background knowledge that spir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152280"/>
            <a:ext cx="79246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tep 4 – Look at the entire documen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145880" y="1905480"/>
            <a:ext cx="691056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do we need to make modifica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191120" y="3200400"/>
            <a:ext cx="10191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066680" y="425880"/>
            <a:ext cx="76201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stery/Secure/Extension at what grade(s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133720" y="1623960"/>
          <a:ext cx="5486400" cy="3481200"/>
        </p:xfrm>
        <a:graphic>
          <a:graphicData uri="http://schemas.openxmlformats.org/drawingml/2006/table">
            <a:tbl>
              <a:tblPr/>
              <a:tblGrid>
                <a:gridCol w="54864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VELOPMENTAL  LEVE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8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ginning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s are first exposed to the skill through heavy teacher mode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veloping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s have knowledge, begin independent pract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8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cure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s practice skill independently and demonstrate security with ski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tension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s are expected to apply skill independently, flexibly, and appropriately, without prompting from teache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s are challenged to be reflective about their practice and evaluative of their metacognitive practices in order to reinforce grow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276200" y="1426320"/>
            <a:ext cx="6724800" cy="26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Benchmarks – Secur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791320" y="3168720"/>
            <a:ext cx="2419200" cy="16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2T14:41:17Z</dcterms:created>
  <dc:creator>Erie 1 Staff-Mobile Labs</dc:creator>
  <dc:description/>
  <dc:language>en-US</dc:language>
  <cp:lastModifiedBy>Erie 1 Staff-Mobile Labs</cp:lastModifiedBy>
  <dcterms:modified xsi:type="dcterms:W3CDTF">2008-11-12T16:24:33Z</dcterms:modified>
  <cp:revision>11</cp:revision>
  <dc:subject/>
  <dc:title>GI – FRIDAY AGENDA</dc:title>
</cp:coreProperties>
</file>