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CD3-4EF4-4006-8C7B-D45718BC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DED-2278-4289-B389-6E6C90F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CF4-89E3-44C9-9A63-4264F1B1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D7A-8C3C-4363-A4BB-43354088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D1F-F69E-40EC-89F4-881BDF1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C59-C1F6-4F60-8CAB-3C0297D1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74D-3AE4-427A-8E5F-B196EDC6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E90-8E7E-4B19-9B01-C3D865AF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09B-39D0-465D-A362-74AD43EC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F50-2591-4019-BF2A-7944649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052-06E7-4A8E-9997-E8FE6E2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F9B-B40C-40ED-883D-14A06951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4309-DA95-416C-9FE1-1D6823A93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942120"/>
            <a:ext cx="73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that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Erie 1 Staff-Mobile Labs</cp:lastModifiedBy>
  <dcterms:modified xsi:type="dcterms:W3CDTF">2008-11-12T16:24:33Z</dcterms:modified>
  <cp:revision>11</cp:revision>
  <dc:subject/>
  <dc:title>GI – FRIDAY AGENDA</dc:title>
</cp:coreProperties>
</file>