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A03-94EE-4BF5-AA24-1726590F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3C3-1424-4ECD-B652-C9C989D9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A28-6313-42CD-8DA1-5503FDAE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5581-78BE-4C4E-B1F1-645B7332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2740-812A-4670-8DF8-3B0BCE17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33AE-A1CB-4F6D-A6AD-4EA7D0FA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779-435A-4478-95F2-81FF7B64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A13-58AA-48A3-9A05-F518A5B0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071-4CB9-4816-B59F-1B80030E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424A-F5FA-4798-9D97-CF1A616A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FA0-6773-42D8-AC1E-0A6DCAC4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1A0-C66F-4278-AD22-1CEC24FC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7803-127A-42B9-B378-1F0EC87FA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elcome…to our LAST meeting of the school year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ease write down some norms for this meeting that you feel will set a good environment for accomplishing our go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is chart paper on the wal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Last Meet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 Goals K-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a common format for elementary curriculum ma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ly review changes in each grade level curriculum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summer dates for Science Mentor work – July 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2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e PIs and MUs as: introduced, developed, secured, and ex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skills to Curriculum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upon key vocabulary for each unit and prioritize vocabulary (master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needs of how to support faculty with training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instructional strategies and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-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als for next science workshop in May Grades 5-8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ish matrix (on line 8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mental levels (I, D, S, 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 vocabulary and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e will try to have new vocabulary finished by the end of this school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zzle Masters (break up K-4 and 5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directions on your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932200"/>
            <a:ext cx="56390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rie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it feel to collaborate without commun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it feel to attempt to reach a goal without knowing what that goal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re their any analogies you could make to what has happened this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72200" y="2362320"/>
            <a:ext cx="2781360" cy="2866680"/>
            <a:chOff x="6172200" y="2362320"/>
            <a:chExt cx="2781360" cy="2866680"/>
          </a:xfrm>
        </p:grpSpPr>
        <p:sp>
          <p:nvSpPr>
            <p:cNvPr id="53" name="Puzzle3"/>
            <p:cNvSpPr/>
            <p:nvPr/>
          </p:nvSpPr>
          <p:spPr>
            <a:xfrm>
              <a:off x="7526520" y="2362320"/>
              <a:ext cx="1092960" cy="15235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Puzzle2"/>
            <p:cNvSpPr/>
            <p:nvPr/>
          </p:nvSpPr>
          <p:spPr>
            <a:xfrm>
              <a:off x="7208640" y="3472200"/>
              <a:ext cx="1744920" cy="13874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Puzzle4"/>
            <p:cNvSpPr/>
            <p:nvPr/>
          </p:nvSpPr>
          <p:spPr>
            <a:xfrm>
              <a:off x="6533280" y="3454920"/>
              <a:ext cx="1051920" cy="17740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Puzzle1"/>
            <p:cNvSpPr/>
            <p:nvPr/>
          </p:nvSpPr>
          <p:spPr>
            <a:xfrm>
              <a:off x="6172200" y="2823120"/>
              <a:ext cx="1766520" cy="10576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oles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eam Record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ecords notes for the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port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ummarizes and shares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ounc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nsures focus of group on topic and is cogniscent of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rms Keep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kes sure the group stays positive and re-enforces n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mmon goal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izing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ing (If there is a “I”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, what level/type of learning occur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roduc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topic/concept is introduced to the students to build backgrou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velo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students are actively engaged in the learning and build upon pri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cu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learning has been mastered by the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ten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learning has moved beyond the standard to encompass mor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li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-8: finish placing “I’s” on map (starting on line 87 (Juli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developmental learning on maps (Mon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9625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-4: Put developmental levels on maps (Mon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ormat maps (Jul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Ou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ebration of Succes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you proud o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something positive you learned about or from some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accomplish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like to accomplish over Summer and Next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48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Presents from Julie and Mon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5:22:35Z</dcterms:created>
  <dc:creator>Monica Daigler</dc:creator>
  <dc:description/>
  <dc:language>en-US</dc:language>
  <cp:lastModifiedBy>Monica Daigler</cp:lastModifiedBy>
  <dcterms:modified xsi:type="dcterms:W3CDTF">2009-06-03T18:33:54Z</dcterms:modified>
  <cp:revision>5</cp:revision>
  <dc:subject/>
  <dc:title>Welcome…to our LAST meeting of the school year!!</dc:title>
</cp:coreProperties>
</file>