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B57-4A74-4853-9688-916AC841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1E5-5E70-45BF-AC2D-0688B7D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DC1-8A49-404C-9BF4-9B28A7BD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FCA-0116-49A3-8ABD-01716BD0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BEE-1852-47BD-8649-8E32615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BE6-465C-418B-B975-D912030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C79-8E35-45F0-97B6-48E5041C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103-4626-4E9E-9E52-0C6F5F75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E48-027B-48BA-A9CC-17676EA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8AE-2103-4606-B3AE-8E769D9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5E3-0898-4848-A7ED-87F3134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A13-E348-4D93-BC6E-5CE05DA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6B2E-54C4-4E02-A841-FE186D87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elcome…to our LAST meeting of the school yea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write down some norms for this meeting that you feel will set a good environment for accomplishing our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chart paper on the wal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Last Meet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 Goals K-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a common format for elementary curriculum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ly review changes in each grade level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 summer dates for Science Mentor work – July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PIs and MUs as: introduced, developed, secured, and ex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kills to Curriculum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upon key vocabulary for each unit and prioritize vocabulary (master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eds of how to support faculty with training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structional strategies and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-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next science workshop in May Grades 5-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sh matrix (on line 8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al levels (I, D, S, 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vocabulary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e will try to have new vocabulary finished by the end of this school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zzle Masters (break up K-4 and 5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direction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32200"/>
            <a:ext cx="5639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collaborate without commun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it feel to attempt to reach a goal without knowing what that goal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 their any analogies you could make to what has happened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2200" y="2362320"/>
            <a:ext cx="2781360" cy="2866680"/>
            <a:chOff x="6172200" y="2362320"/>
            <a:chExt cx="2781360" cy="2866680"/>
          </a:xfrm>
        </p:grpSpPr>
        <p:sp>
          <p:nvSpPr>
            <p:cNvPr id="53" name="Puzzle3"/>
            <p:cNvSpPr/>
            <p:nvPr/>
          </p:nvSpPr>
          <p:spPr>
            <a:xfrm>
              <a:off x="7526520" y="2362320"/>
              <a:ext cx="1092960" cy="15235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Puzzle2"/>
            <p:cNvSpPr/>
            <p:nvPr/>
          </p:nvSpPr>
          <p:spPr>
            <a:xfrm>
              <a:off x="7208640" y="3472200"/>
              <a:ext cx="1744920" cy="1387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Puzzle4"/>
            <p:cNvSpPr/>
            <p:nvPr/>
          </p:nvSpPr>
          <p:spPr>
            <a:xfrm>
              <a:off x="6533280" y="3454920"/>
              <a:ext cx="1051920" cy="1774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1"/>
            <p:cNvSpPr/>
            <p:nvPr/>
          </p:nvSpPr>
          <p:spPr>
            <a:xfrm>
              <a:off x="6172200" y="2823120"/>
              <a:ext cx="1766520" cy="1057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ol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am Record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cords notes for th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port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ummarizes and share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ounc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sures focus of group on topic and is cognisce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rms Keeper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s sure the group stays positive and re-enforces n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mon goal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ing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ing (If there is a “I”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, what level/type of learning occur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opic/concept is introduced to the students to build 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el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students are actively engaged in the learning and build upon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been mastered by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te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learning has moved beyond the standard to encompass mor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l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8: finish placing “I’s” on map (starting on line 87 (Juli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developmental learning on maps (Mon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9625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-4: Put developmental levels on maps (Mon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maps (Ju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Suc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something positive you learned about or from some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accomplis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accomplish over Summer and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8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Presents from Julie and Mon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22:35Z</dcterms:created>
  <dc:creator>Monica Daigler</dc:creator>
  <dc:description/>
  <dc:language>en-US</dc:language>
  <cp:lastModifiedBy>Monica Daigler</cp:lastModifiedBy>
  <dcterms:modified xsi:type="dcterms:W3CDTF">2009-06-03T18:33:54Z</dcterms:modified>
  <cp:revision>5</cp:revision>
  <dc:subject/>
  <dc:title>Welcome…to our LAST meeting of the school year!!</dc:title>
</cp:coreProperties>
</file>