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3.wmf" ContentType="image/x-wmf"/>
  <Override PartName="/ppt/media/image4.png" ContentType="image/png"/>
  <Override PartName="/ppt/media/image5.gif" ContentType="image/gif"/>
  <Override PartName="/ppt/media/image6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7853C-1F22-4B0A-984E-B18D5331B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71C87-729C-4559-8CDA-293849B47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DDD57-28FE-41E9-9B23-FA4405897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EDDD7-32EE-4C88-B92A-94FCD8E52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7398A-E2BC-4127-B27C-B6EDB9E88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15636-ADDD-4DFA-ACBC-AE65A9787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1AC36-FDA8-44AC-BC9F-331E209B9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E0309-70D7-4E24-8442-CB3FEEC7E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9849D-7108-41B9-9DBF-087F44BFF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9A5CD-9290-4B9F-943D-37D78062C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BC6F7-8EFB-4136-B64E-94177642A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B80AA-D70A-4F9D-B327-0DE4B118F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687C2-E9DB-4D70-B322-D67F8F477A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05120" y="533520"/>
            <a:ext cx="6781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cience Mentor Workshop #2 11/14/08– FRIDAY AGEN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1424160" cy="14479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066680" y="1523880"/>
            <a:ext cx="7239240" cy="50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:30 – Coffee, tea, and breakf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:35--10:15– Curriculum map contin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:15--10:25 – Brea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:30-12:00 – Finish skills on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:00-1:00 – 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:00-2:30 – Mapping changes and lev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:30-2:40 – Brea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:40-3:30 –Mapping lev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al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mplete skeleton maps and our master trend ma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me to consensus on curricular modifications based on repetitions, scaffolding, and ga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me up with a plan for developmental levels of skills and concep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reate benchmarks for each grad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7543800" y="380880"/>
            <a:ext cx="905040" cy="10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iday -- 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1532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Step 1 – Look at monthly maps and spreadsheet…make sure your information from your grade is corre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Step 2 – make corre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Step 3 – Add skills (standards 1,2, 6, 7)—use core curriculu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Step 4 – Look at the entire documen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Delete unneeded repet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dd concepts not taught or not spiral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Step 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tandard 6 – Key Idea 2 Mode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ad through the KI – brainstorm 1-3 hands-on activities where you use this in each un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rk on Trend She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x: K – plant a seed and watch it grow, and label a plant diagram as part of CF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>
            <a:lum bright="40000"/>
          </a:blip>
          <a:stretch/>
        </p:blipFill>
        <p:spPr>
          <a:xfrm>
            <a:off x="228600" y="152280"/>
            <a:ext cx="8610480" cy="65534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143000" y="839880"/>
            <a:ext cx="5105520" cy="42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spAutoFit/>
          </a:bodyPr>
          <a:p>
            <a:pPr marL="343080" indent="-343080"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Are there Gaps?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Look at trends…is there “scaffolded” learning in trended area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Are there unneeded Repet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When the units are taught?? Pre-requisite skills…background knowledge </a:t>
            </a: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that</a:t>
            </a: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 spir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33520" y="152280"/>
            <a:ext cx="79246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Step 4 – Look at the entire documen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4084920"/>
            <a:ext cx="731520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867280" y="1295280"/>
            <a:ext cx="1143000" cy="3276720"/>
          </a:xfrm>
          <a:custGeom>
            <a:avLst/>
            <a:gdLst>
              <a:gd name="textAreaLeft" fmla="*/ 0 w 1143000"/>
              <a:gd name="textAreaRight" fmla="*/ 412560 w 1143000"/>
              <a:gd name="textAreaTop" fmla="*/ 85320 h 3276720"/>
              <a:gd name="textAreaBottom" fmla="*/ 3191400 h 327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086600" y="1828800"/>
            <a:ext cx="175248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Re-visit Maps and Health (Look at and make chang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8610480" cy="65534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752480" y="473040"/>
            <a:ext cx="6629400" cy="32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ere do we need to make modification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SUPPORT do we (and our teachers) need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4343400" y="3352680"/>
            <a:ext cx="101916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3" dur="5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4" dur="5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" dur="5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dd Ski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dd skills from department meetings to Map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Now let’s look at map again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ecured areas of learning “S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8610480" cy="655344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066680" y="425880"/>
            <a:ext cx="762012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stery/Secure/Extension at what grade(s)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2133720" y="1623960"/>
          <a:ext cx="5486400" cy="3481200"/>
        </p:xfrm>
        <a:graphic>
          <a:graphicData uri="http://schemas.openxmlformats.org/drawingml/2006/table">
            <a:tbl>
              <a:tblPr/>
              <a:tblGrid>
                <a:gridCol w="548640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VELOPMENTAL  LEVEL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687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eginning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udents are first exposed to the skill through heavy teacher model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veloping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udents have knowledge, begin independent practi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687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cure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udents practice skill independently and demonstrate security with skil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189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xtension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udents are expected to apply skill independently, flexibly, and appropriately, without prompting from teacher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udents are challenged to be reflective about their practice and evaluative of their metacognitive practices in order to reinforce growt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8610480" cy="65534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276200" y="1426320"/>
            <a:ext cx="6724800" cy="26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dentify Benchmarks – Secure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5791320" y="3168720"/>
            <a:ext cx="2419200" cy="167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2T14:41:17Z</dcterms:created>
  <dc:creator>Erie 1 Staff-Mobile Labs</dc:creator>
  <dc:description/>
  <dc:language>en-US</dc:language>
  <cp:lastModifiedBy>Monica Daigler</cp:lastModifiedBy>
  <dcterms:modified xsi:type="dcterms:W3CDTF">2008-12-05T17:26:59Z</dcterms:modified>
  <cp:revision>13</cp:revision>
  <dc:subject/>
  <dc:title>GI – FRIDAY AGENDA</dc:title>
</cp:coreProperties>
</file>