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wmf" ContentType="image/x-wmf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63EE-5E66-49EA-97DD-93D4505F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6A7-2F3D-48B0-89BD-5BF318A3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FE9C-55C7-429B-BDE5-7BA287C2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1DC-5EE7-4819-83AB-515B68E4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35F5-48B9-4783-8F26-620C266D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401-1CB4-467D-A078-7A85BBE4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83D-0C70-4F85-9104-6A793DD5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523A-CCE3-4BF0-BD52-04C6116C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A354-D869-48A0-B101-733F4C5D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8D7-814B-4869-ACA6-7C998E12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BED-D985-423F-8DA6-1AD70E3C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E6B-5826-4205-BC1F-9E29C234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F0C5-D9E6-4470-AD0F-B2B5A19B4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ce Mentor Workshop #2 11/14/08– FRIDAY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1424160" cy="1447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66680" y="1523880"/>
            <a:ext cx="72392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0 – Coffee, tea, and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5--10:15– Curriculum map contin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15--10:25 –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30-12:00 – Finish skills on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:00-1:00 –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00-2:30 – Mapping changes and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30-2:40 –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40-3:30 –Mapp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skeleton maps and our master trend 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to consensus on curricular modifications based on repetitions, scaffolding, and g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up with a plan for developmental levels of skills and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benchmarks for each grad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43800" y="380880"/>
            <a:ext cx="9050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 -- 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1 – Look at monthly maps and spreadsheet…make sure your information from your grade is cor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2 – make cor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3 – Add skills (standards 1,2, 6, 7)—use core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4 – Look at the entire doc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lete unneeded repe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d concepts not taught or not spir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tep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6 – Key Idea 2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through the KI – brainstorm 1-3 hands-on activities where you use this in each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 on Trend 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: K – plant a seed and watch it grow, and label a plant diagram as part of CF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000" y="839880"/>
            <a:ext cx="510552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en the units are taught?? Pre-requisite skills…background knowledge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at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spi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5228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4 – Look at the entire doc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4084920"/>
            <a:ext cx="73152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1295280"/>
            <a:ext cx="1143000" cy="3276720"/>
          </a:xfrm>
          <a:custGeom>
            <a:avLst/>
            <a:gdLst>
              <a:gd name="textAreaLeft" fmla="*/ 0 w 1143000"/>
              <a:gd name="textAreaRight" fmla="*/ 412560 w 11430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86600" y="1828800"/>
            <a:ext cx="17524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e-visit Maps and Health (Look at and mak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52480" y="473040"/>
            <a:ext cx="66294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do we need to make modific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UPPORT do we (and our teachers) ne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43400" y="335268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d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d skills from department meetings to Ma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w let’s look at map again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ured areas of learning “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42588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y/Secure/Extension at what grade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133720" y="1623960"/>
          <a:ext cx="5486400" cy="3481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AL 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first exposed to the skill through heavy teacher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have knowledge, begin independent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practice skill independently and demonstrate security with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ns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expected to apply skill independently, flexibly, and appropriately, without prompting from tea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challenged to be reflective about their practice and evaluative of their metacognitive practices in order to reinforc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76200" y="1426320"/>
            <a:ext cx="67248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Benchmarks – Sec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91320" y="3168720"/>
            <a:ext cx="241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4:41:17Z</dcterms:created>
  <dc:creator>Erie 1 Staff-Mobile Labs</dc:creator>
  <dc:description/>
  <dc:language>en-US</dc:language>
  <cp:lastModifiedBy>Monica Daigler</cp:lastModifiedBy>
  <dcterms:modified xsi:type="dcterms:W3CDTF">2008-12-05T17:26:59Z</dcterms:modified>
  <cp:revision>13</cp:revision>
  <dc:subject/>
  <dc:title>GI – FRIDAY AGENDA</dc:title>
</cp:coreProperties>
</file>