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3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B76C5-4CB0-415A-AB69-4D44BADC8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67EC9-D254-4447-8EA1-2FEED9A30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9FF95-1084-4A9F-8234-8EB0319A7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9D876-61EC-4415-BB93-F7DAAB5A2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4A103-A2E4-43BA-919B-B96989087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73D39-D53B-453D-8320-B7CAFB289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55447-5669-471B-A4E3-9E4136E70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C2A11-0706-4ABF-8731-9497C2236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60F0B-2C5E-44D4-8B30-238EF60F7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F14B4-01EC-4EE1-B0C0-F3912AF2A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E2817-60C5-4071-BA0F-961D0454B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81F0F-A3D0-477B-B64F-EC44E749E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958A6-A373-4DB4-A400-F4B47EBC8B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castlelearning.com/review/SAAssignments.asp" TargetMode="Externa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362320" y="2590560"/>
            <a:ext cx="64008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volution: DI</a:t>
            </a: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Using Hands-On Science Discovery Streaming and Castle Learnin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04920" y="1905120"/>
            <a:ext cx="207324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agnostic:  Where is your understand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09680" y="1676520"/>
            <a:ext cx="4724640" cy="45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arning Pack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819520" y="1447920"/>
            <a:ext cx="345420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4T16:01:19Z</dcterms:created>
  <dc:creator>Monica Daigler</dc:creator>
  <dc:description/>
  <dc:language>en-US</dc:language>
  <cp:lastModifiedBy>Monica Daigler</cp:lastModifiedBy>
  <dcterms:modified xsi:type="dcterms:W3CDTF">2008-12-04T16:02:54Z</dcterms:modified>
  <cp:revision>2</cp:revision>
  <dc:subject/>
  <dc:title>Evolution: DI Using Hands-On Science Discovery Streaming and Castle Learning</dc:title>
</cp:coreProperties>
</file>