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11E-0E1C-4141-9085-C4423CFB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7FB-6FB4-4096-8FA4-526B3D2A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C90-991E-48C1-B2FB-3941519E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75C-EAB7-4319-B039-DE178400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D2E-5FC3-463A-BDB7-BBAF5096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7CD-357A-4124-A577-B63FA30F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7A9-C6D3-40FA-92A6-628C36E2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DAE-6AB2-4991-8C71-D6A1FCF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0F1-3B8E-4FF6-B46D-882C175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9F4-0FAC-40EC-A177-D10401C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611-7261-4A74-A0FE-10B9872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C76-257E-4BEE-89C3-7564B5B3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2702-B478-42D4-9B68-BDA03B58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tlelearning.com/review/SAAssignments.as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2590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olution: DI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ing Hands-On Science Discovery Streaming and Castl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07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:  Where is your underst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7246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54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01:19Z</dcterms:created>
  <dc:creator>Monica Daigler</dc:creator>
  <dc:description/>
  <dc:language>en-US</dc:language>
  <cp:lastModifiedBy>Monica Daigler</cp:lastModifiedBy>
  <dcterms:modified xsi:type="dcterms:W3CDTF">2008-12-04T16:02:54Z</dcterms:modified>
  <cp:revision>2</cp:revision>
  <dc:subject/>
  <dc:title>Evolution: DI Using Hands-On Science Discovery Streaming and Castle Learning</dc:title>
</cp:coreProperties>
</file>