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D6B-3A13-46F3-88E6-F86647C2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944-F5FE-459C-BCAC-C6C2340F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831-8000-4048-820F-B2C7D60F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7AC-B540-4F77-AE2A-882E34E0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97D-664D-40BA-9E46-5EF7B84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6D1-00A2-4C5A-A92A-918BF3CF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7B9-2DE3-4FA9-97CF-9B99A61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EB7-E94D-4764-8067-E86905C2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3CC-4E90-48E8-ABD6-9096A1D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274-9FA0-4693-8C2A-E66BFF3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6E6-2B87-4243-B88A-4CAADE3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9A7-F961-4746-ABCD-BD75DAB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F4D6-2658-41A5-8865-5C29AACE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tlelearning.com/review/SAAssignments.as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2590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olution: DI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ing Hands-On Science Discovery Streaming and Castl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07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:  Where is your underst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7246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54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01:19Z</dcterms:created>
  <dc:creator>Monica Daigler</dc:creator>
  <dc:description/>
  <dc:language>en-US</dc:language>
  <cp:lastModifiedBy>Monica Daigler</cp:lastModifiedBy>
  <dcterms:modified xsi:type="dcterms:W3CDTF">2008-12-04T16:02:54Z</dcterms:modified>
  <cp:revision>2</cp:revision>
  <dc:subject/>
  <dc:title>Evolution: DI Using Hands-On Science Discovery Streaming and Castle Learning</dc:title>
</cp:coreProperties>
</file>