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1F0-B507-4442-BF57-958B48C0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151-CE3A-4F71-A69C-2D399092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F73-A37A-4898-916D-09BB5D24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F57-F86B-4A23-AEE3-D4BE1F95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071-745C-482A-B4BA-299F4DF7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7C5-A115-4CB3-B969-85E8394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A14-3A20-466A-AE52-66B20FC2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B26-A624-4CB6-826F-A15EA221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A34-DA29-490C-B6EF-5F0FB82E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6A2-5D7B-4F1E-AAE2-65BAF57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23F-FCB6-47CF-895B-E0AD0194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ABE-EF78-4801-9DF0-FE5C3D75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75D-00F8-4534-AE0E-A54B8F87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tlelearning.com/review/SAAssignments.as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259056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olution: DI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ing Hands-On Science Discovery Streaming and Castl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07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:  Where is your underst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7246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54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6:01:19Z</dcterms:created>
  <dc:creator>Monica Daigler</dc:creator>
  <dc:description/>
  <dc:language>en-US</dc:language>
  <cp:lastModifiedBy>Monica Daigler</cp:lastModifiedBy>
  <dcterms:modified xsi:type="dcterms:W3CDTF">2008-12-04T16:02:54Z</dcterms:modified>
  <cp:revision>2</cp:revision>
  <dc:subject/>
  <dc:title>Evolution: DI Using Hands-On Science Discovery Streaming and Castle Learning</dc:title>
</cp:coreProperties>
</file>