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22DD-9C84-4E13-9CA9-B8505500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DF6E-3188-431C-8D67-781E8FDA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BE3-3F6F-4F18-91F8-8A470902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452F-DA54-47D7-B33F-69B7A0BA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0BD3-CB57-4F00-8F75-890B0F07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DA93-7245-4284-8EEC-DC7FE03F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5EC9-C79E-47AF-9B9B-481E5837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9AA4-2C04-4B1F-A92B-0EAEFE41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ADD0-20B3-4165-A57C-F3989416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E09E-B7DB-49E4-A0CB-5F058C0F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A6E2-C616-46BA-8C23-1DB120FE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69B7-65C8-485F-9D21-79571CF6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1297-25E1-4E60-9F0E-064F4CF85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Video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7696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5:02:44Z</dcterms:created>
  <dc:creator>Monica Daigler</dc:creator>
  <dc:description/>
  <dc:language>en-US</dc:language>
  <cp:lastModifiedBy>Monica Daigler</cp:lastModifiedBy>
  <dcterms:modified xsi:type="dcterms:W3CDTF">2008-12-04T15:36:52Z</dcterms:modified>
  <cp:revision>3</cp:revision>
  <dc:subject/>
  <dc:title>Evolution Video Clip</dc:title>
</cp:coreProperties>
</file>