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5C2F-9B70-4FDE-A67E-92AECAB1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3457-444E-47F7-A750-93DBBAD2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3842-E1C3-453A-99C4-A7C86D1C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65D4-9FD7-4EA0-BA3A-8662EB6C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2134-6BFA-4420-BDB7-37172B16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75D7-494F-4689-9A65-D3621B41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74BC-E83E-4850-9B37-83B9086E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EF43-9746-48C2-B239-6EE91C46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F17-B58D-4432-88EA-A55CD6CE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8905-48E6-48ED-9980-136B5BAE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F96-6103-4FBB-9A1B-4E5E8928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ABA3-4339-4029-9B9D-6B376046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1792-7D25-4F7F-B223-977DD8BCE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 Video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07696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5:02:44Z</dcterms:created>
  <dc:creator>Monica Daigler</dc:creator>
  <dc:description/>
  <dc:language>en-US</dc:language>
  <cp:lastModifiedBy>Monica Daigler</cp:lastModifiedBy>
  <dcterms:modified xsi:type="dcterms:W3CDTF">2008-12-04T15:36:52Z</dcterms:modified>
  <cp:revision>3</cp:revision>
  <dc:subject/>
  <dc:title>Evolution Video Clip</dc:title>
</cp:coreProperties>
</file>