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75B-1925-4DF4-BA54-955A8B18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781-D269-4E79-9B15-3903AEB5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497A-6DFF-4D96-85F0-78FEE27F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966-496A-4B75-A915-22FED42F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17C-F1CF-4195-9CDE-4FDC2922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4FAF-90A3-494C-8B1D-B10957DE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CAB6-E78F-4D6C-95A3-656D634D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E17-4908-462A-8A80-FB355847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4993-6FB9-4458-8D0D-9837B1DB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46B-AC1B-49CC-AE3F-FDF903B3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1D2-B0C6-4623-AD27-AE99333F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324-8BC1-4F74-AE1A-CA577A8C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7FC3-3F2A-45F7-903F-59937B607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Video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5:02:44Z</dcterms:created>
  <dc:creator>Monica Daigler</dc:creator>
  <dc:description/>
  <dc:language>en-US</dc:language>
  <cp:lastModifiedBy>Monica Daigler</cp:lastModifiedBy>
  <dcterms:modified xsi:type="dcterms:W3CDTF">2008-12-04T15:36:52Z</dcterms:modified>
  <cp:revision>3</cp:revision>
  <dc:subject/>
  <dc:title>Evolution Video Clip</dc:title>
</cp:coreProperties>
</file>