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F0CA-D4F8-4B02-86F1-2EA2FB0B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123-F548-4287-B08B-A0F0A1BA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C4B-FCA1-4F29-8634-6F95F464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3928-AF96-4510-8126-0814A96F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9047-3911-4C44-87C5-66BDF028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9E6-9C30-4376-924C-2CD3D82E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5EC-1949-4E08-B261-A605BE26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D68-B2AF-4F83-8952-5ED52D66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AEF-99E7-4916-AC03-E8A7DC9B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D0B0-CFEB-4E1D-A2E0-71981D72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5BFB-4B29-4FA4-9DF4-C203BF73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2746-729E-47F6-8B5B-469B4E8A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E948-B6E6-430E-9FEC-71807DDD6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Video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5:02:44Z</dcterms:created>
  <dc:creator>Monica Daigler</dc:creator>
  <dc:description/>
  <dc:language>en-US</dc:language>
  <cp:lastModifiedBy>Monica Daigler</cp:lastModifiedBy>
  <dcterms:modified xsi:type="dcterms:W3CDTF">2008-12-04T15:36:52Z</dcterms:modified>
  <cp:revision>3</cp:revision>
  <dc:subject/>
  <dc:title>Evolution Video Clip</dc:title>
</cp:coreProperties>
</file>