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C93-61C4-4805-B681-406367BC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F4E-0929-46E2-92B8-5747CA45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9AC-7BFD-4A84-B01F-6C47465B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884-4527-449F-9539-EE74E808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C42-F4C3-4FD4-A524-C74A50F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BC7-C761-4520-AE09-51D8EB99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6E2-52E9-4F13-9363-6AC965C5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D48-F198-4317-8BB0-184F8397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E5A-DC17-46FD-9CC2-22926B3C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A15-6ED7-4EB7-92A2-4A607CB6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83F-9EA1-4800-A321-E37C8D84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CDA-53A3-4A52-8803-4E37CEA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6B90-CC4A-483F-AFA8-B02F53A0F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02:44Z</dcterms:created>
  <dc:creator>Monica Daigler</dc:creator>
  <dc:description/>
  <dc:language>en-US</dc:language>
  <cp:lastModifiedBy>Monica Daigler</cp:lastModifiedBy>
  <dcterms:modified xsi:type="dcterms:W3CDTF">2008-12-04T15:36:52Z</dcterms:modified>
  <cp:revision>3</cp:revision>
  <dc:subject/>
  <dc:title>Evolution Video Clip</dc:title>
</cp:coreProperties>
</file>