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815-AF2D-411D-996C-1A80AF26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4E45-289B-475A-B187-2ECF9E9C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BF7C-C2DE-4377-937D-49D53C30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9E6-3BCD-48B6-B35E-C78660BE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3FBC-C85C-49CE-83F1-26D2601A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9E10-F81C-4B36-9E8F-A235D951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4063-000D-48FA-9DB7-F4DB3F55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2ED5-EF71-4C06-B7B6-062196C2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3E1-A348-442B-AE55-BCFAF915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4A2F-8358-4445-B662-6007E21C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83CA-C955-4CBB-8C0C-6BF4B4A4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AAA-4217-4416-B3E6-10D144BF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F588-162E-43C6-A0A5-0FF5DB285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E011E1B/SHARED/IRT/Maryvale/Science/alignment2.do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ryva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38480" y="2133360"/>
            <a:ext cx="4648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 3 an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Roll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242064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828800" y="380880"/>
            <a:ext cx="5029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end and Gap Dat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905120"/>
            <a:ext cx="73915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057400"/>
            <a:ext cx="6858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look at the last couple of years and see if we can find trends in the questions they are asking from each PI and gaps in “trended”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  Look at our Curriculum (specifically for Gaps). Is it spiraled?  Are we teaching what they need to learn?  And then, HOW are we teaching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ook at Trend and Gap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3-5 PI’s where there is trend data, recent Q’s asked, AND ga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econstruction Template to Deconstruct the PI AND the Q’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– Standard 4 (LE and 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 –Standard 1,2,6,7 (ski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28600" y="2666880"/>
          <a:ext cx="8153280" cy="2849760"/>
        </p:xfrm>
        <a:graphic>
          <a:graphicData uri="http://schemas.openxmlformats.org/drawingml/2006/table">
            <a:tbl>
              <a:tblPr/>
              <a:tblGrid>
                <a:gridCol w="914400"/>
                <a:gridCol w="1905120"/>
                <a:gridCol w="1981080"/>
                <a:gridCol w="1676520"/>
                <a:gridCol w="1676160"/>
              </a:tblGrid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nt (VOCABULA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gnitive L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85800" y="1066680"/>
            <a:ext cx="15228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600"/>
            <a:ext cx="2895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rom trends and gap da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742840" y="4419360"/>
            <a:ext cx="304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563868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se gap data document and co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2209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14600" y="1295280"/>
            <a:ext cx="3562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rom assessments AND core vocab.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552720" y="4495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4120" y="5715000"/>
            <a:ext cx="3047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erbs in core AND assess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7620120" y="1676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324480" y="457200"/>
            <a:ext cx="2590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loom's Level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828800" y="380880"/>
            <a:ext cx="5029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end and Gap Data Finding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905120"/>
            <a:ext cx="73915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057400"/>
            <a:ext cx="69339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our findings with last year’s assessment AND trend and gap data, let’s come up with a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and 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14:03:13Z</dcterms:created>
  <dc:creator>Erie 1 Staff-Mobile Labs</dc:creator>
  <dc:description/>
  <dc:language>en-US</dc:language>
  <cp:lastModifiedBy>Monica Daigler</cp:lastModifiedBy>
  <dcterms:modified xsi:type="dcterms:W3CDTF">2009-01-16T13:23:33Z</dcterms:modified>
  <cp:revision>34</cp:revision>
  <dc:subject/>
  <dc:title>Slide 1</dc:title>
</cp:coreProperties>
</file>