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D13F-4528-461C-AE40-B080308FA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F53B-11D7-4112-9064-0C5DD0573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82FA-3A9A-42A4-8F1D-C42BFC3EC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8A5C-4792-43DB-92EE-201ECFA3B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0F1A-3365-4C93-A0B9-8CC55446A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089A-3A33-4FD1-8877-EE48001E6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1354-0BA9-4B51-A75E-C7BA7C6A3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6EA8-0C1A-426A-8C05-E0C70D3BC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A65A-7E02-4442-93CF-3DA0F2CFD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0225-EC27-4279-B951-511C5E591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A460-1ED7-4AB8-800B-A529D3825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98B9-CF8C-484E-ADE3-1DAFB376D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5000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6C22A-9780-4DDF-97C5-4254CBDBD8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E011E1B/SHARED/IRT/Maryvale/Science/alignment2.doc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5000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Maryva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038480" y="2133360"/>
            <a:ext cx="464832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ience  3 and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Roll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219320" y="2057400"/>
            <a:ext cx="2420640" cy="35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5000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1828800" y="380880"/>
            <a:ext cx="5029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Trend and Gap Data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1905120"/>
            <a:ext cx="7391520" cy="3733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2057400"/>
            <a:ext cx="685800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’s look at the last couple of years and see if we can find trends in the questions they are asking from each PI and gaps in “trended” are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?  Look at our Curriculum (specifically for Gaps). Is it spiraled?  Are we teaching what they need to learn?  And then, HOW are we teaching 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5000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Look at Trend and Gap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ck 3-5 PI’s where there is trend data, recent Q’s asked, AND gap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Deconstruction Template to Deconstruct the PI AND the Q’s f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ent – Standard 4 (LE and P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ills –Standard 1,2,6,7 (skil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gnitive Lo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5000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228600" y="2666880"/>
          <a:ext cx="8153280" cy="2849760"/>
        </p:xfrm>
        <a:graphic>
          <a:graphicData uri="http://schemas.openxmlformats.org/drawingml/2006/table">
            <a:tbl>
              <a:tblPr/>
              <a:tblGrid>
                <a:gridCol w="914400"/>
                <a:gridCol w="1905120"/>
                <a:gridCol w="1981080"/>
                <a:gridCol w="1676520"/>
                <a:gridCol w="1676160"/>
              </a:tblGrid>
              <a:tr h="951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andar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tent (VOCABULAR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ki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gnitive Lo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"/>
          <p:cNvSpPr/>
          <p:nvPr/>
        </p:nvSpPr>
        <p:spPr>
          <a:xfrm>
            <a:off x="685800" y="1066680"/>
            <a:ext cx="152280" cy="1752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228600"/>
            <a:ext cx="28954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from trends and gap dat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52" name=""/>
          <p:cNvSpPr/>
          <p:nvPr/>
        </p:nvSpPr>
        <p:spPr>
          <a:xfrm flipH="1" flipV="1">
            <a:off x="2742840" y="4419360"/>
            <a:ext cx="30492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838080" y="5638680"/>
            <a:ext cx="3886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use gap data document and cor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22096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514600" y="1295280"/>
            <a:ext cx="3562200" cy="98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707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from assessments AND core vocab.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6552720" y="4495680"/>
            <a:ext cx="22860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5334120" y="5715000"/>
            <a:ext cx="30477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verbs in core AND assessmen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8" name=""/>
          <p:cNvSpPr/>
          <p:nvPr/>
        </p:nvSpPr>
        <p:spPr>
          <a:xfrm>
            <a:off x="7620120" y="167652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324480" y="457200"/>
            <a:ext cx="25909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Bloom's Level</a:t>
            </a:r>
            <a:endParaRPr b="0" lang="en-US" sz="2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5000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1828800" y="380880"/>
            <a:ext cx="5029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Trend and Gap Data Findings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1" name=""/>
          <p:cNvSpPr/>
          <p:nvPr/>
        </p:nvSpPr>
        <p:spPr>
          <a:xfrm>
            <a:off x="838080" y="1905120"/>
            <a:ext cx="7391520" cy="3733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90720" y="2057400"/>
            <a:ext cx="693396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d on our findings with last year’s assessment AND trend and gap data, let’s come up with a pl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mary and Find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on Pla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5T14:03:13Z</dcterms:created>
  <dc:creator>Erie 1 Staff-Mobile Labs</dc:creator>
  <dc:description/>
  <dc:language>en-US</dc:language>
  <cp:lastModifiedBy>Monica Daigler</cp:lastModifiedBy>
  <dcterms:modified xsi:type="dcterms:W3CDTF">2009-01-16T13:23:33Z</dcterms:modified>
  <cp:revision>34</cp:revision>
  <dc:subject/>
  <dc:title>Slide 1</dc:title>
</cp:coreProperties>
</file>