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7F0-1E23-4F73-86C0-181B4E24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5FB-7AF8-4419-912E-8C4019DB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DE1-D8CD-43C5-8D7E-3279E348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08F-7A59-425B-A209-B9276DF4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9EE-C670-4BAA-BD2B-F961B0BD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63B-E3DE-4E77-B568-9C31C2D3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452-E3AC-4D10-B092-E1795329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0E8-CE9D-41C5-AD1D-4F12A63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A6E-5C25-4610-935D-5DEE63ED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09B-5A4B-480E-B383-8BF52E4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D69-A288-4B66-A687-F1B48A1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911-26DC-4DD4-9637-E6E2232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B2D4-0272-4DFC-A6C7-9C1EEF81C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E011E1B/SHARED/IRT/Maryvale/Science/alignment2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2133360"/>
            <a:ext cx="4648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 3 an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o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420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057400"/>
            <a:ext cx="6858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look at the last couple of years and see if we can find trends in the questions they are asking from each PI and gaps in “trended”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 Look at our Curriculum (specifically for Gaps). Is it spiraled?  Are we teaching what they need to learn?  And then, HOW are we teaching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ok at Trend and Gap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3-5 PI’s where there is trend data, recent Q’s asked, AND g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construction Template to Deconstruct the PI AND the Q’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– Standard 4 (LE and 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–Standard 1,2,6,7 (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28600" y="2666880"/>
          <a:ext cx="8153280" cy="2849760"/>
        </p:xfrm>
        <a:graphic>
          <a:graphicData uri="http://schemas.openxmlformats.org/drawingml/2006/table">
            <a:tbl>
              <a:tblPr/>
              <a:tblGrid>
                <a:gridCol w="914400"/>
                <a:gridCol w="1905120"/>
                <a:gridCol w="1981080"/>
                <a:gridCol w="1676520"/>
                <a:gridCol w="167616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t (VOCABUL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gnitiv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85800" y="1066680"/>
            <a:ext cx="1522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trends and gap 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42840" y="44193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56386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e gap data document and co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209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1295280"/>
            <a:ext cx="3562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rom assessments AND core vocab.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552720" y="4495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4120" y="5715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s in core AND assess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24480" y="4572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loom's Level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28800" y="3808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end and Gap Data Finding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905120"/>
            <a:ext cx="73915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6933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our findings with last year’s assessment AND trend and gap data, let’s come up with a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4:03:13Z</dcterms:created>
  <dc:creator>Erie 1 Staff-Mobile Labs</dc:creator>
  <dc:description/>
  <dc:language>en-US</dc:language>
  <cp:lastModifiedBy>Monica Daigler</cp:lastModifiedBy>
  <dcterms:modified xsi:type="dcterms:W3CDTF">2009-01-16T13:23:33Z</dcterms:modified>
  <cp:revision>34</cp:revision>
  <dc:subject/>
  <dc:title>Slide 1</dc:title>
</cp:coreProperties>
</file>