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B708-FF75-4958-A546-62AD953C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501-4841-43A0-9C36-46480D23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703-DE05-4C80-A0F5-CCEDA644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E2B-522D-4408-80F3-7EC0B27F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240-B940-48CD-8D03-606BCBBB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908-47C3-4500-BC2B-23E8B546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E28-DCDD-48DC-A4B1-FD76A7AB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468-D14F-42DF-A014-6B96511F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2C3-FB75-4998-8A2C-1D89565D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847-E1A8-43AF-8908-C5AFC755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95C-224D-4A9B-B8A9-E417DD8B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6C3-ACBA-41E0-8D75-6FC22922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82D5-9FAB-4557-BC5A-3B5F8E6DC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E011E1B/SHARED/IRT/Maryvale/Science/alignment2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yva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480" y="2133360"/>
            <a:ext cx="4648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 3 an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Roll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42064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28800" y="38088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end and Gap Dat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905120"/>
            <a:ext cx="73915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057400"/>
            <a:ext cx="6858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look at the last couple of years and see if we can find trends in the questions they are asking from each PI and gaps in “trended”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 Look at our Curriculum (specifically for Gaps). Is it spiraled?  Are we teaching what they need to learn?  And then, HOW are we teaching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ook at Trend and Gap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3-5 PI’s where there is trend data, recent Q’s asked, AND ga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econstruction Template to Deconstruct the PI AND the Q’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– Standard 4 (LE and 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 –Standard 1,2,6,7 (ski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2666880"/>
          <a:ext cx="8153280" cy="2849760"/>
        </p:xfrm>
        <a:graphic>
          <a:graphicData uri="http://schemas.openxmlformats.org/drawingml/2006/table">
            <a:tbl>
              <a:tblPr/>
              <a:tblGrid>
                <a:gridCol w="914400"/>
                <a:gridCol w="1905120"/>
                <a:gridCol w="1981080"/>
                <a:gridCol w="1676520"/>
                <a:gridCol w="167616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t (VOCABULA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gnitive 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85800" y="1066680"/>
            <a:ext cx="1522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600"/>
            <a:ext cx="2895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rom trends and gap d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742840" y="4419360"/>
            <a:ext cx="304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563868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se gap data document and co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2209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14600" y="1295280"/>
            <a:ext cx="3562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rom assessments AND core vocab.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552720" y="4495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4120" y="5715000"/>
            <a:ext cx="304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rbs in core AND assess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7620120" y="1676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324480" y="457200"/>
            <a:ext cx="2590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loom's Level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828800" y="38088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end and Gap Data Finding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905120"/>
            <a:ext cx="73915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057400"/>
            <a:ext cx="69339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our findings with last year’s assessment AND trend and gap data, let’s come up with a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4:03:13Z</dcterms:created>
  <dc:creator>Erie 1 Staff-Mobile Labs</dc:creator>
  <dc:description/>
  <dc:language>en-US</dc:language>
  <cp:lastModifiedBy>Monica Daigler</cp:lastModifiedBy>
  <dcterms:modified xsi:type="dcterms:W3CDTF">2009-01-16T13:23:33Z</dcterms:modified>
  <cp:revision>34</cp:revision>
  <dc:subject/>
  <dc:title>Slide 1</dc:title>
</cp:coreProperties>
</file>