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65D-6C0E-4C8E-B4F2-48132D6A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5DA-FD26-4643-BE69-9DD30374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175-C58D-4108-937F-B9285783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B27-CA54-483A-B1C7-3F14989B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986-82BA-4BC2-A4FE-590F2F78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652-62AA-4D3D-B3CC-7818F139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B7D-DBB5-4B4B-A731-3C07A388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655-FE3D-4E36-B306-C8EDAD75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B3A-5C1A-4826-B193-42EE57C7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A8B-7B52-4950-AAE1-E5732C1B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F42-4C40-43FE-8611-DA0A08B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01B-5E22-4A0B-9004-2159F7E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C0F2-21EB-4E45-AEB3-09A882D2B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scoveryeducation.com/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scoveryeducation.com/flash/passcodeDemo/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scovery Strea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iscoveryeducation.com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code Lo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41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88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590920" y="10476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ate the Problem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e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5562720"/>
            <a:ext cx="9144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26708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53080" y="4952880"/>
            <a:ext cx="1143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3809880"/>
            <a:ext cx="11430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00600" y="1905120"/>
            <a:ext cx="11430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8643" r="0" b="7408"/>
          <a:stretch/>
        </p:blipFill>
        <p:spPr>
          <a:xfrm>
            <a:off x="228600" y="533520"/>
            <a:ext cx="891540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and Play (this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esn’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at up any of your hard drive spac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reating Hyperli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ve clip as you did in embedding into a PowerPoint (save target as)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word you want to hyperlink clip to and right cl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38280" y="3124080"/>
            <a:ext cx="4343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ientific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343080"/>
            <a:ext cx="86868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word you want to hyperlink clip to and right cl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66880" y="3124080"/>
            <a:ext cx="409572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cientific Meth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hy Hyperlink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o see the control in Windows Media or Quick Time Play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ow you try it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00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71800" y="104760"/>
            <a:ext cx="2990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eate a Log in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Search for Mythbu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933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 want to embed it into a PowerPoin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86200" y="4419720"/>
            <a:ext cx="5335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19720" y="3200400"/>
            <a:ext cx="297180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167652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ht Click and go to “Save Target As ” and save it to a designated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095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1371600"/>
            <a:ext cx="1447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43400" y="182880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3048120"/>
            <a:ext cx="396252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where you save it is the same location as where you will be playing the PowerPoi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114800" y="1981080"/>
            <a:ext cx="144792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3505320"/>
            <a:ext cx="16765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9:04:09Z</dcterms:created>
  <dc:creator>Erie 1 Staff-Mobile Labs</dc:creator>
  <dc:description/>
  <dc:language>en-US</dc:language>
  <cp:lastModifiedBy>Erie 1 Staff-Mobile Labs</cp:lastModifiedBy>
  <dcterms:modified xsi:type="dcterms:W3CDTF">2008-09-15T16:42:24Z</dcterms:modified>
  <cp:revision>12</cp:revision>
  <dc:subject/>
  <dc:title>Discovery Streaming</dc:title>
</cp:coreProperties>
</file>