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267-F22A-48C7-B81A-78471CB5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F4A-7016-43CD-89F0-4F1FB5E3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42C-70CA-41B1-A898-705E0526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B52-830A-460B-BCB3-6AEC1BAD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59A-8C53-4D18-9B8E-4297AEA7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B66-32F0-426B-B999-41EA2FBC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98F-D031-43C6-95FC-E7CD8E4E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846-0140-46A7-B5FB-6AEA28E7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D61-DD81-434C-A006-287FEF17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EAB-3AD6-4094-A86F-9417EE4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4AA-4540-4A18-9178-3F6F4D2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084-1676-4A1C-9818-127B357D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E1BA-15C6-440C-B769-606157F3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scoveryeducation.com/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scoveryeducation.com/flash/passcodeDemo/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scovery Strea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iscoveryeducation.com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code Lo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41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88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590920" y="10476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ate the Problem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e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5562720"/>
            <a:ext cx="9144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26708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53080" y="4952880"/>
            <a:ext cx="1143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3809880"/>
            <a:ext cx="1143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00600" y="1905120"/>
            <a:ext cx="11430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8643" r="0" b="7408"/>
          <a:stretch/>
        </p:blipFill>
        <p:spPr>
          <a:xfrm>
            <a:off x="228600" y="533520"/>
            <a:ext cx="891540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and Play (this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esn’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at up any of your hard drive spac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reating Hyperli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ve clip as you did in embedding into a PowerPoint (save target as)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word you want to hyperlink clip to and right cl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38280" y="3124080"/>
            <a:ext cx="4343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ientific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343080"/>
            <a:ext cx="86868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word you want to hyperlink clip to and right cl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66880" y="3124080"/>
            <a:ext cx="409572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ientific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hy Hyperlink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o see the control in Windows Media or Quick Time Play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71800" y="104760"/>
            <a:ext cx="2990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eate a Log in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Search for Mythbu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933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 want to embed it into a PowerPoi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86200" y="4419720"/>
            <a:ext cx="5335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19720" y="3200400"/>
            <a:ext cx="297180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167652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ht Click and go to “Save Target As ” and save it to a designated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095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1371600"/>
            <a:ext cx="1447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43400" y="182880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3048120"/>
            <a:ext cx="396252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where you save it is the same location as where you will be playing the PowerPoi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114800" y="1981080"/>
            <a:ext cx="144792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3505320"/>
            <a:ext cx="16765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9:04:09Z</dcterms:created>
  <dc:creator>Erie 1 Staff-Mobile Labs</dc:creator>
  <dc:description/>
  <dc:language>en-US</dc:language>
  <cp:lastModifiedBy>Erie 1 Staff-Mobile Labs</cp:lastModifiedBy>
  <dcterms:modified xsi:type="dcterms:W3CDTF">2008-09-15T16:42:24Z</dcterms:modified>
  <cp:revision>12</cp:revision>
  <dc:subject/>
  <dc:title>Discovery Streaming</dc:title>
</cp:coreProperties>
</file>