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A6D-B30C-4F86-BA14-A444BCAA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227-E001-4FE2-86DB-486684CE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4D8-DAF7-43EF-9D46-22C35C87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B24-B7EA-4B05-8042-A3886377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B06-0C47-400F-991F-ED42BAB6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E9B-C42B-496B-B7B8-630A339E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FBC-292A-42E0-85CD-DB26C77D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E8F-DFAF-4A36-B25A-C69DAE7B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E8D-F5CE-4AF3-8CF2-B2426113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C46-B67E-42FD-8C04-04142D0B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B40-3A60-4072-9D8C-5F558B7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956-29AA-4B5A-9EA3-E8AA2210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586E-D903-458E-BE3E-3BEBEE537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scoveryeducation.com/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scoveryeducation.com/flash/passcodeDemo/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scovery Strea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iscoveryeducation.com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scode Lo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241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88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590920" y="10476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ate the Problem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e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5562720"/>
            <a:ext cx="9144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4267080"/>
            <a:ext cx="9144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53080" y="4952880"/>
            <a:ext cx="11430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3809880"/>
            <a:ext cx="11430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00600" y="1905120"/>
            <a:ext cx="11430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8643" r="0" b="7408"/>
          <a:stretch/>
        </p:blipFill>
        <p:spPr>
          <a:xfrm>
            <a:off x="228600" y="533520"/>
            <a:ext cx="891540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and Play (this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esn’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at up any of your hard drive spac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reating Hyperli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ve clip as you did in embedding into a PowerPoint (save target as)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word you want to hyperlink clip to and right cl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38280" y="3124080"/>
            <a:ext cx="4343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cientific Meth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343080"/>
            <a:ext cx="86868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word you want to hyperlink clip to and right cl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66880" y="3124080"/>
            <a:ext cx="4095720" cy="18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cientific Meth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hy Hyperlink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o see the control in Windows Media or Quick Time Play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71800" y="104760"/>
            <a:ext cx="2990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eate a Log in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Search for Mythbu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933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I want to embed it into a PowerPoi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86200" y="4419720"/>
            <a:ext cx="5335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19720" y="3200400"/>
            <a:ext cx="297180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1676520"/>
            <a:ext cx="167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ght Click and go to “Save Target As ” and save it to a designated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095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1371600"/>
            <a:ext cx="14479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43400" y="182880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3048120"/>
            <a:ext cx="3962520" cy="301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where you save it is the same location as where you will be playing the PowerPoi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114800" y="1981080"/>
            <a:ext cx="1447920" cy="99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3505320"/>
            <a:ext cx="16765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9:04:09Z</dcterms:created>
  <dc:creator>Erie 1 Staff-Mobile Labs</dc:creator>
  <dc:description/>
  <dc:language>en-US</dc:language>
  <cp:lastModifiedBy>Erie 1 Staff-Mobile Labs</cp:lastModifiedBy>
  <dcterms:modified xsi:type="dcterms:W3CDTF">2008-09-15T16:42:24Z</dcterms:modified>
  <cp:revision>12</cp:revision>
  <dc:subject/>
  <dc:title>Discovery Streaming</dc:title>
</cp:coreProperties>
</file>