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F9B-BD0B-4685-BB4A-905A1894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212-9C02-4FAF-A825-8E199B00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FB0-C488-40E2-95D1-6C8BFA3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EB0-A692-454C-AECD-795304E3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10E-3900-466F-A881-1F3DCE3C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2B2-E3E1-4378-9BE3-E75E157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69A-84B0-4E9D-B0DB-AC77E04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34C-E96C-4FC4-8A5E-3D1BF6F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CC7-01B1-41C6-AC82-AEFE7A3D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9F8-2FE1-4D09-B3A1-21CC143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F7E-F240-460A-8A40-3487FD5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4FF-B57C-4074-BE46-E7FC0D7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A3AC-B609-4807-89A0-F32EA5C3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flash/passcodeDemo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overy Stre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scoveryeducation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code Lo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10476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ate the Problem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55627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26708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4952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3809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1905120"/>
            <a:ext cx="11430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8643" r="0" b="7408"/>
          <a:stretch/>
        </p:blipFill>
        <p:spPr>
          <a:xfrm>
            <a:off x="228600" y="533520"/>
            <a:ext cx="89154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and Play (this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at up any of your hard drive spac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reating Hyperli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ve clip as you did in embedding into a PowerPoint (save target as)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38280" y="3124080"/>
            <a:ext cx="4343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3124080"/>
            <a:ext cx="409572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hy Hyperlink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see the control in Windows Media or Quick Time Play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04760"/>
            <a:ext cx="299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ate a Log in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arch for Mythb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933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 want to embed it into a PowerPoi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4419720"/>
            <a:ext cx="5335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19720" y="3200400"/>
            <a:ext cx="2971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167652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Click and go to “Save Target As ” and save it to a designated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095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37160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182880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048120"/>
            <a:ext cx="396252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where you save it is the same location as where you will be playing the PowerPoi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114800" y="198108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505320"/>
            <a:ext cx="1676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04:09Z</dcterms:created>
  <dc:creator>Erie 1 Staff-Mobile Labs</dc:creator>
  <dc:description/>
  <dc:language>en-US</dc:language>
  <cp:lastModifiedBy>Erie 1 Staff-Mobile Labs</cp:lastModifiedBy>
  <dcterms:modified xsi:type="dcterms:W3CDTF">2008-09-15T16:42:24Z</dcterms:modified>
  <cp:revision>12</cp:revision>
  <dc:subject/>
  <dc:title>Discovery Streaming</dc:title>
</cp:coreProperties>
</file>