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knowgramming.com/metaphor_lists.htm" TargetMode="External"/><Relationship Id="rId2" Type="http://schemas.openxmlformats.org/officeDocument/2006/relationships/hyperlink" Target="http://www.csun.edu/~vceed002/books/sourcebook/chapters/13-games/index.html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aboo.doc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Creating Metaphors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assroom Instruction that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Work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dentifying Similarities and Differenc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Graphic Organizer for Metaphor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990720"/>
          <a:ext cx="8229600" cy="5506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iteral Patte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bstract Relation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iteral Patte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 txBox="1"/>
          <p:nvPr/>
        </p:nvSpPr>
        <p:spPr>
          <a:xfrm>
            <a:off x="2209680" y="5562720"/>
            <a:ext cx="5257800" cy="5713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actice with an example from your content area!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Guiding Student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nce students are familiar with the process, you can increase the rigor by presenting one element of the metaphor and asking students to provide the second element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 description of the abstract relationship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aramond"/>
              </a:rPr>
              <a:t>Disease is________________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1" lang="en" sz="2400" spc="-1" strike="noStrike">
                <a:solidFill>
                  <a:srgbClr val="000000"/>
                </a:solidFill>
                <a:latin typeface="Garamond"/>
              </a:rPr>
              <a:t>The ocean is ____________________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o complete these metaphors, students must use what they know about the given element and make connections to similar thing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ome websites: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General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Gam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99"/>
                </a:solidFill>
                <a:uFillTx/>
                <a:latin typeface="Garamond"/>
              </a:rPr>
              <a:t>Ideas for Metaphor Gam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Taboo Gam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Or Pictionary:  Have the students create metaphors for specific vocabulary terms…these metaphors are the words they have to draw and then the students must figure out the vocabulary word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rainstorm ideas or uses in your classroom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Life’s but a walking shadow, a poor play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That struts and frets his hour upon the sta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And then is heard no more:  it is a ta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Told by an idiot, full of sound and fury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ignifying nothing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hakespeare, W. 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Macbe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Act V Scene V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fcc99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99"/>
                </a:solidFill>
                <a:latin typeface="Garamond"/>
              </a:rPr>
              <a:t>Some that I like…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That’s so dial-up!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1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The season for change…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1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peech is silver, but silence is golden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1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Heart of the matter…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1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elbow greas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1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a main artery of traffic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reating Metaphor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dentifying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general or basic pattern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in a specific topic and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finding another topic that seems quite differen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at the literal level but ha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same general pattern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  They are used to give readers a strong messag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reating Metaphor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etaphors help students creat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Garamond"/>
              </a:rPr>
              <a:t>deeper meaning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out of the content they are learn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reating Metaphors is a complex process that students need to practi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reating Metaphor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omplete the reflection sheet on page 33 of your workbook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Discuss with your group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62720" y="1905120"/>
            <a:ext cx="251460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reating Metaphor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mplete the reflection sheet on page 33 of your workboo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iscuss with your group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440" y="1440"/>
          <a:ext cx="9139320" cy="68565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913932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reating Metaphor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udents need to have the thinking process modeled for them…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ook at the example in the workbook on page 34 “My brother is a tyrant.”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ating the relationship between “my brother” and “tyrant” in more general terms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—cruel ruler who treats innocent and weaker people unfairly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helps students understand the reasoning behind the metapho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teps to Creating a Metapho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dentify the important or basic elements of the information or situation with which you are work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rite that basic information as a general pattern b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94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-replacing words for specific things with words for more general thing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94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-summarizing information whenever possibl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nd new information or a situation it which the general pattern appli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94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94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20:30:43Z</dcterms:created>
  <dc:creator>Erie 1 Staff-Mobile Labs</dc:creator>
  <dc:description/>
  <dc:language>en-US</dc:language>
  <cp:lastModifiedBy>Monica Burgio-Daigler</cp:lastModifiedBy>
  <dcterms:modified xsi:type="dcterms:W3CDTF">2010-08-11T16:04:08Z</dcterms:modified>
  <cp:revision>8</cp:revision>
  <dc:subject/>
  <dc:title>Creating Metaphors</dc:title>
</cp:coreProperties>
</file>