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9BC-034A-4727-8F10-9251AD79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965-8FA6-4F37-9143-15D111FA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919-1559-4AAF-8EF5-EE57E79D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E63-68E1-46D2-ACC5-6639A05A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B136-1691-4545-B9F9-7A0DA986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C9CA-999C-4F14-91DB-20DCE74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C2C0-E11B-4B0B-B924-B5F1B1A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7DD9-ADE2-40FD-B7B8-56BDEA9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4011-8FC6-4D1B-ABB6-7DC67F4E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7AAC-430F-4E4E-B155-A62E5D9A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655-C88C-40D9-AD00-7BD3D5B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F8C-7295-417C-B8AB-B49B4379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0BBA-076A-4FE7-85D6-6BF65E6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03DD-89AA-4607-A879-3FF2EA5B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2E8C-A5B1-4E91-B08E-45FC08B0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B3D6-718D-426A-A34D-460467EE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5780-3C95-4CFF-9FE7-4B1C1563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F38-20CE-4822-A3D7-178BCA0D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2A1-E808-4920-A9C0-999559AD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088-35D7-4D8F-98A2-B95AAA1F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4DC-1305-4C93-9BB6-20680504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E2B-881A-477A-B95C-7386F0B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65B-A954-4B84-9293-2EB1424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71D-D676-49ED-BA4B-A69BD6D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9754-2C3C-4681-83C1-A4B9E7A01F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B4F6-001A-4703-B8CC-4D88993622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Burgio-Daigler</cp:lastModifiedBy>
  <dcterms:modified xsi:type="dcterms:W3CDTF">2010-08-11T15:49:00Z</dcterms:modified>
  <cp:revision>9</cp:revision>
  <dc:subject/>
  <dc:title>Creating Analogies</dc:title>
</cp:coreProperties>
</file>