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A60-A036-4863-AA7D-4E143281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57A-D93A-439C-820F-5B17D129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98A-2CCD-40E1-8CED-7417DFF1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043-A217-4AE5-98BD-46F0417E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D10-B6F7-446A-A5C1-CF9CFA32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4EC9-373F-45BA-9CB8-35A579C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C8FE-4994-462E-88A8-BC52A64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F240-B84E-47FF-B808-118FC15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F601-8CB0-4D1C-BAF1-1DDC4F6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41DF-FF25-41CC-B112-B1D52BEC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35E-27F7-492D-A628-5960EC2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DBE-17E6-4661-B914-0DFA665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E936-42B8-4647-B257-D8A4771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90FA-433E-4307-B226-D9E82FC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457-96B6-4B13-9902-5374A591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3C1C-CA5D-4050-B7A8-A00559A2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BAEE-3F87-4881-A4F6-C6A2E9DF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DBD-C5A4-46F6-818B-FE4E9AD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6C1-9A21-413D-941A-58EE189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A4F-EBEF-48D8-9ADC-18FDE05D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626-CF93-463B-8DF7-EA041933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39B-BE6F-4B63-B3CF-52AF970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FAF-8369-4C7C-9080-5576187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466-EA5A-4F5B-A253-2FB64B9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2DB-47E4-4DC9-999E-7088568695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2986-9662-4D0C-AD59-CB65553374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Burgio-Daigler</cp:lastModifiedBy>
  <dcterms:modified xsi:type="dcterms:W3CDTF">2010-08-11T15:49:00Z</dcterms:modified>
  <cp:revision>9</cp:revision>
  <dc:subject/>
  <dc:title>Creating Analogies</dc:title>
</cp:coreProperties>
</file>