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96ED-2E9B-4C54-84D2-C45E5D472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04E6-08E2-4330-9C5D-88AA55C9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31AC-C3AC-4F58-BECC-2959EC0BF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5580-F28A-445C-A513-B4B6BB01E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32D6-3F2F-4BCE-9DF0-84F43734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BA61-C42E-4D17-AB2C-6FB1977A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E465-28FC-463E-A03A-60D0490D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66B2-8B2A-4DF2-A391-DF576E07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D597-323C-4539-B2D8-A699FA60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757E-6112-4181-B0D6-F1192018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2712-6688-456A-B4FC-E96C633F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AC4D-276A-4F83-B7F4-8DCC9631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5EBC-1D28-4E3C-8878-C44D7A92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18B5-90A3-471B-B02D-1AD34D95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9E2D-4436-4279-A9CA-B0561B4A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97D2-DF98-47FA-9D76-6FA3D5274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A503-4174-45F0-A0F8-EFB5D316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2F7B-1CCB-4202-856A-08D5299A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831B-786D-46FB-9C57-32A71206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512B-F6AE-4463-9B10-ED53F63F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60A4-AC36-47BA-8EEA-F6BAC4BB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357D-2D06-4085-842E-65C8C662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4903-D4E6-4801-99F8-372543F0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5489-253F-4C57-9E1F-EE905E6A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B187-B081-4806-9DCE-634FA579FA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F339-BB03-4662-A16E-DC71DB53C7B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room Instruction tha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Similarities and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Guiding Student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can be provided the complete analogy and must explain the relationship between the items in each pair, as well as the relationship between the two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  down:up::under: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provide a partial analogy and students must fill in the missing part and explain the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hecking your own understanding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the activity on paged 48-49 of your hand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Planning for Analogies Worksheet on page 51 and discuss with your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o or what am I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he story on the colored pa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or what am I?  Write in the box on page 7 of learning pac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down three analogies that helped you and your thinking throughout the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way to introduce literacy into your class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Brainstorm…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process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dentifying relationship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pairs of concepts.  Analogies help u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ke conne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things that seem very diffe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way to look at is, you are identifying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lationships between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reflection on page 43 of your workbook and share your thoughts with your group me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 an analogy follows the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B::C: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- A is to B as C is to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py:Sad::Big: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py is to Sad as Big is to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is bringing back SAT nightmares for anyone else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at’s the Point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ogies can help explain an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unfamilia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 by making a comparison to something that w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underst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Creating Analogies…Common Themes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similar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Memb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Name or Class Me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to Wh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ity/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page 45 for examples of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need to be given concrete examples of these relationships so they can recognize the patt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they understand the structure of analogies, they can begin to discover the complexities of the relationships and create new analogies that explain different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457200"/>
            <a:ext cx="9144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dentifying Similarities and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1190520"/>
            <a:ext cx="7315200" cy="1373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aphic Organizer for the Abstract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 Ana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2666880"/>
            <a:ext cx="7238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2895480"/>
            <a:ext cx="23619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2895480"/>
            <a:ext cx="2362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4952880"/>
            <a:ext cx="2362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4952880"/>
            <a:ext cx="2362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441972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85800" y="2936880"/>
            <a:ext cx="21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k Market Crash of 19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971800"/>
            <a:ext cx="21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5029200"/>
            <a:ext cx="215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sure to g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51400" y="506412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91480" y="29718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20080" y="50292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20760" y="5029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42640" y="396252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lation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3733920"/>
            <a:ext cx="582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hing attacks a system and weakens 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ility to prevent serious affl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 always wish students would includ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deeper analysi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n their writing.  Analogies can help students develop this 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8:45:42Z</dcterms:created>
  <dc:creator>Erie 1 Staff-Mobile Labs</dc:creator>
  <dc:description/>
  <dc:language>en-US</dc:language>
  <cp:lastModifiedBy>Monica Burgio-Daigler</cp:lastModifiedBy>
  <dcterms:modified xsi:type="dcterms:W3CDTF">2010-08-11T15:49:00Z</dcterms:modified>
  <cp:revision>9</cp:revision>
  <dc:subject/>
  <dc:title>Creating Analogies</dc:title>
</cp:coreProperties>
</file>