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D0D-A737-4A2C-8BD4-60261B57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814-D22C-4D6A-A8F1-BD824BDA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F2F3-3D1B-403A-AACD-D4D4C169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97CF-E37B-4071-9EC9-F9675B0A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282D-147D-465B-B4A3-6F4E34F9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8158-505A-49E4-894F-C9C21F39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6E54-9A64-4DA5-A046-5C773CB3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C928-E423-49E7-A34E-D1C59750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6363-9355-4D91-AF6D-47CB36DC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6B5A-D906-46AA-985A-80CAE82B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8FBE-86CD-4C31-B20F-8F5825C6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FF0-CA2F-493A-91AC-134B8C5C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EC21-5C30-4548-82CF-E881D241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1753-C132-4F10-80AD-94CBCFA4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85AF-6584-4F2B-9602-8641381C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122B-9CE7-4E5B-A624-DE7BAD17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873F-9AF8-4C77-BCBA-C25B8517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7A5-9F10-4ABA-A593-CF12E931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2776-8646-40BA-9C03-EA5DC5BC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B9B-1821-4CF8-9D04-48568994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84F-F27F-49BE-8BDE-E7E213DF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5446-163F-425A-8DA4-19BE63C6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AE5C-1130-4589-B801-2ED483E4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AE98-FD66-4323-8E0C-8F477969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217C-D8B8-4B96-9F2F-41AD40BBCA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3331-992B-4D53-8A20-984F35D6F5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room Instruction tha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Similarities and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uiding Student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can be provided the complete analogy and must explain the relationship between the items in each pair, as well as the relationship between the two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  down:up::under: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provide a partial analogy and students must fill in the missing part and explain the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hecking your own understand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activity on paged 48-49 of your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Planning for Analogies Worksheet on page 51 and discuss with your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o or what am I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story on the colored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or what am I?  Write in the box on page 7 of learning pa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own three analogies that helped you and your thinking throughout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way to introduce literacy into your class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rainstorm…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process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dentifying relationshi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pairs of concepts.  Analogies help u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ke conne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things that seem very diffe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way to look at is, you are identifyin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tionships between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reflection on page 43 of your workbook and share your thoughts with your group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an analogy follows th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B::C: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- A is to B as C is to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:Sad::Big: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 is to Sad as Big is to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is bringing back SAT nightmares for anyone else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’s the Point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ies can help explain a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famili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 by making a comparison to something that w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nderst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reating Analogies…Common Theme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emb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Name or Class 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to 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y/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page 45 for examples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need to be given concrete examples of these relationships so they can recognize the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ey understand the structure of analogies, they can begin to discover the complexities of the relationships and create new analogies that explain different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190520"/>
            <a:ext cx="7315200" cy="1373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aphic Organizer for the Abstract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Ana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2666880"/>
            <a:ext cx="7238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895480"/>
            <a:ext cx="23619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28954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441972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85800" y="29368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k Market Crash of 19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97180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5029200"/>
            <a:ext cx="21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sure to g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51400" y="506412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1480" y="2971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0080" y="50292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2076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42640" y="396252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lation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3733920"/>
            <a:ext cx="58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hing attacks a system and weakens 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ility to prevent serious affl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always wish students would includ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eeper analys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n their writing.  Analogies can help students develop this 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8:45:42Z</dcterms:created>
  <dc:creator>Erie 1 Staff-Mobile Labs</dc:creator>
  <dc:description/>
  <dc:language>en-US</dc:language>
  <cp:lastModifiedBy>Monica Burgio-Daigler</cp:lastModifiedBy>
  <dcterms:modified xsi:type="dcterms:W3CDTF">2010-08-11T15:49:00Z</dcterms:modified>
  <cp:revision>9</cp:revision>
  <dc:subject/>
  <dc:title>Creating Analogies</dc:title>
</cp:coreProperties>
</file>