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6267-6899-44D6-A172-9967632C7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6919-338F-4946-8107-9178DFCB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9E5E-4280-459A-BE3C-A9B63C939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3372-19D0-4D08-9105-331AA9E1C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421F-E66C-4ADB-86F9-DB13BA21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E582-6A82-4C5D-96DE-C82C4533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88A5-6EDE-4C7E-A585-DEF588E0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B118-89A9-4F73-9D0E-DBEDFE2A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4E1E-71BB-4E80-9016-88FB42C2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9DC2-6248-4861-8C6B-3992DE78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8C3F-C66C-48C7-B22E-770EC070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EF41-899E-4684-8D6D-D0321F64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9815-CCC0-4898-B5F7-8A2103ED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6CEC-DA45-4E5B-A445-A098FCAC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8EB2-678D-48D2-8244-57273546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BFB2-F60E-4B62-96DE-4FE1669CE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B862-3665-4E86-80C5-F030C0D40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4AF8-FD97-430F-A1F6-F911D02F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8EAA-408E-4F5A-AFEB-0B79E164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E545-B2CF-4F13-A7F4-C27D4A11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58C8-DBAA-4643-8EE7-3724BC0C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5FD0-F609-4B11-9755-B95BAD16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A5D5-5753-4F09-BFCA-4E3AEA80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5E4C-E38F-4222-9D11-BD26B2D2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D7A8-F675-454C-90C3-D5D0A79C15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0AC5-1F70-41BD-AE12-9EA1CAAB740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room Instruction that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Similarities and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Guiding Student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can be provided the complete analogy and must explain the relationship between the items in each pair, as well as the relationship between the two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  down:up::under: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provide a partial analogy and students must fill in the missing part and explain the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hecking your own understanding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the activity on paged 48-49 of your hand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Planning for Analogies Worksheet on page 51 and discuss with your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ho or what am I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he story on the colored pa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or what am I?  Write in the box on page 7 of learning pac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down three analogies that helped you and your thinking throughout the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 way to introduce literacy into your class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Brainstorm…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process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dentifying relationship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tween pairs of concepts.  Analogies help u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ke conne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tween things that seem very differ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way to look at is, you are identifying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lationships between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the reflection on page 43 of your workbook and share your thoughts with your group me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ly an analogy follows the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B::C: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- A is to B as C is to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ppy:Sad::Big: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ppy is to Sad as Big is to 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is bringing back SAT nightmares for anyone else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hat’s the Point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ogies can help explain an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unfamilia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pt by making a comparison to something that w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underst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Creating Analogies…Common Themes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similar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Memb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Name or Class Me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to Wh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tity/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page 45 for examples of 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need to be given concrete examples of these relationships so they can recognize the patt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they understand the structure of analogies, they can begin to discover the complexities of the relationships and create new analogies that explain different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457200"/>
            <a:ext cx="9144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dentifying Similarities and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1190520"/>
            <a:ext cx="7315200" cy="1373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raphic Organizer for the Abstract 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 Ana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2666880"/>
            <a:ext cx="7238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2895480"/>
            <a:ext cx="23619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2895480"/>
            <a:ext cx="2362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4952880"/>
            <a:ext cx="2362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4952880"/>
            <a:ext cx="2362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441972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85800" y="2936880"/>
            <a:ext cx="21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k Market Crash of 19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971800"/>
            <a:ext cx="21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5029200"/>
            <a:ext cx="215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sure to g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51400" y="5064120"/>
            <a:ext cx="21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91480" y="29718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20080" y="50292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20760" y="5029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42640" y="3962520"/>
            <a:ext cx="18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lation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3733920"/>
            <a:ext cx="582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hing attacks a system and weakens 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ility to prevent serious affl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 always wish students would includ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deeper analysi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n their writing.  Analogies can help students develop this 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8:45:42Z</dcterms:created>
  <dc:creator>Erie 1 Staff-Mobile Labs</dc:creator>
  <dc:description/>
  <dc:language>en-US</dc:language>
  <cp:lastModifiedBy>Monica Burgio-Daigler</cp:lastModifiedBy>
  <dcterms:modified xsi:type="dcterms:W3CDTF">2010-08-11T15:49:00Z</dcterms:modified>
  <cp:revision>9</cp:revision>
  <dc:subject/>
  <dc:title>Creating Analogies</dc:title>
</cp:coreProperties>
</file>