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881B-61B8-4BDE-A36C-1B11A2A9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2D41-4325-48A7-8A04-A3DDA94A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29A-F6B3-452E-A2BC-858F7ABE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60A-9DCB-4CCA-BC2E-A7856735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A4EB-1592-456D-9091-59E4EA60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A709-2E37-4AFB-845E-6E5AB484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1CAF-3A66-4894-A000-5D33346E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4AAB-D40D-43C6-9EFC-8CB2A7C6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EB16-102F-478B-9D16-5B0A5D7F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8EF8-C7DE-43D2-BCA4-322CA1DC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DED7-E1E3-4F6B-8BD8-59F5DAAD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21A6-EE4F-4C13-A37D-922B3ED8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C2E8-EF97-45A5-ACB7-AADE98DC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81BB-8C7A-481E-9C9C-30005426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2AED-E48D-4928-BCD5-A663F158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4A83-ED20-49BC-A93B-CE777160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A7DF-3BCB-43D7-BBFC-72305FF4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0F13-06C0-4369-BDE6-0CA31C24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FA48-40F5-49C2-923E-4289DCED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9CE8-2947-4F79-8F5D-D6DCA324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BB97-7E6B-4CA4-ABE5-B1497366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857-2817-40D2-8FA3-846020BA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F48D-DE49-4BCF-8A9A-E246480B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7A46-9A73-41AA-83A1-5E50A365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ED09-EE67-4610-84C2-EB4F224629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E03F-8EAE-44D2-AC75-3BA93BBB2DD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room Instruction tha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Similarities and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Guiding Student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can be provided the complete analogy and must explain the relationship between the items in each pair, as well as the relationship between the two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  down:up::under: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provide a partial analogy and students must fill in the missing part and explain the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hecking your own understandin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the activity on paged 48-49 of your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Planning for Analogies Worksheet on page 51 and discuss with your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o or what am I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story on the colored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or what am I?  Write in the box on page 7 of learning pa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down three analogies that helped you and your thinking throughout th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way to introduce literacy into your class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Brainstorm…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process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dentifying relationshi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pairs of concepts.  Analogies help u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ke conne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things that seem very diffe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way to look at is, you are identifying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lationships between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reflection on page 43 of your workbook and share your thoughts with your group me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an analogy follows the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B::C: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- A is to B as C is to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y:Sad::Big: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y is to Sad as Big is to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is bringing back SAT nightmares for anyone else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at’s the Point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ogies can help explain an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nfamili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 by making a comparison to something that w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nderst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Creating Analogies…Common Themes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similar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Memb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Name or Class M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to Wh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ty/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page 45 for examples of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need to be given concrete examples of these relationships so they can recognize the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they understand the structure of analogies, they can begin to discover the complexities of the relationships and create new analogies that explain different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4572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dentifying Similarities an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190520"/>
            <a:ext cx="7315200" cy="1373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aphic Organizer for the Abstract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 Ana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2666880"/>
            <a:ext cx="7238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2895480"/>
            <a:ext cx="23619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28954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49528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49528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441972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85800" y="2936880"/>
            <a:ext cx="21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k Market Crash of 19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971800"/>
            <a:ext cx="21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5029200"/>
            <a:ext cx="21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sure to g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51400" y="506412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1480" y="2971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0080" y="50292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20760" y="502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42640" y="396252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lation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3733920"/>
            <a:ext cx="58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hing attacks a system and weakens 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ility to prevent serious affl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always wish students would includ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eeper analys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n their writing.  Analogies can help students develop this 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8:45:42Z</dcterms:created>
  <dc:creator>Erie 1 Staff-Mobile Labs</dc:creator>
  <dc:description/>
  <dc:language>en-US</dc:language>
  <cp:lastModifiedBy>Monica Burgio-Daigler</cp:lastModifiedBy>
  <dcterms:modified xsi:type="dcterms:W3CDTF">2010-08-11T15:49:00Z</dcterms:modified>
  <cp:revision>9</cp:revision>
  <dc:subject/>
  <dc:title>Creating Analogies</dc:title>
</cp:coreProperties>
</file>