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926263" cy="92122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Garamond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faculty.washington.edu/chudler/metaphor.html" TargetMode="External"/><Relationship Id="rId2" Type="http://schemas.openxmlformats.org/officeDocument/2006/relationships/hyperlink" Target="http://knowgramming.com/metaphor_lists.htm" TargetMode="External"/><Relationship Id="rId3" Type="http://schemas.openxmlformats.org/officeDocument/2006/relationships/hyperlink" Target="http://www.csun.edu/~vceed002/books/sourcebook/chapters/13-games/index.html" TargetMode="External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taboo.doc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ppt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Garamond"/>
              </a:rPr>
              <a:t>Creating Metaphors</a:t>
            </a:r>
            <a:endParaRPr b="0" lang="en-US" sz="5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assroom Instruction that </a:t>
            </a:r>
            <a:r>
              <a:rPr b="1" i="1" lang="en-US" sz="3200" spc="-1" strike="noStrike">
                <a:solidFill>
                  <a:srgbClr val="000000"/>
                </a:solidFill>
                <a:latin typeface="Garamond"/>
              </a:rPr>
              <a:t>Works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Identifying Similarities and Difference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aramond"/>
              </a:rPr>
              <a:t>Graphic Organizer for Metaphors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457200" y="990720"/>
          <a:ext cx="8229600" cy="550692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Ele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Literal Patter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Abstract Relationshi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Literal Patter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Ele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2" name=""/>
          <p:cNvSpPr txBox="1"/>
          <p:nvPr/>
        </p:nvSpPr>
        <p:spPr>
          <a:xfrm>
            <a:off x="2209680" y="5562720"/>
            <a:ext cx="5257800" cy="571320"/>
          </a:xfrm>
          <a:prstGeom prst="rect">
            <a:avLst/>
          </a:prstGeom>
        </p:spPr>
        <p:txBody>
          <a:bodyPr wrap="none" lIns="36360" rIns="36360" tIns="36360" bIns="3636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Practice with an example from your content area!</a:t>
            </a:r>
            <a:endParaRPr b="0" lang="en-US" sz="1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Guiding Students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Once students are familiar with the process, you can increase the rigor by presenting one element of the metaphor and asking students to provide the second element </a:t>
            </a:r>
            <a:r>
              <a:rPr b="0" i="1" lang="en-US" sz="2800" spc="-1" strike="noStrike">
                <a:solidFill>
                  <a:srgbClr val="000000"/>
                </a:solidFill>
                <a:latin typeface="Garamond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a description of the abstract relationship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Garamond"/>
              </a:rPr>
              <a:t>Disease is________________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Garamond"/>
              </a:rPr>
              <a:t>–</a:t>
            </a:r>
            <a:r>
              <a:rPr b="1" lang="en" sz="2400" spc="-1" strike="noStrike">
                <a:solidFill>
                  <a:srgbClr val="000000"/>
                </a:solidFill>
                <a:latin typeface="Garamond"/>
              </a:rPr>
              <a:t>The brain is ______________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Garamond"/>
              </a:rPr>
              <a:t>–</a:t>
            </a:r>
            <a:r>
              <a:rPr b="1" lang="en" sz="2400" spc="-1" strike="noStrike">
                <a:solidFill>
                  <a:srgbClr val="000000"/>
                </a:solidFill>
                <a:latin typeface="Garamond"/>
              </a:rPr>
              <a:t>Atoms are ______________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Garamond"/>
              </a:rPr>
              <a:t>–</a:t>
            </a:r>
            <a:r>
              <a:rPr b="1" lang="en" sz="2400" spc="-1" strike="noStrike">
                <a:solidFill>
                  <a:srgbClr val="000000"/>
                </a:solidFill>
                <a:latin typeface="Garamond"/>
              </a:rPr>
              <a:t>The Earth’s Crust is ____________________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90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To complete these metaphors, students must use what they know about the given element and make connections to similar thing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690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ome websites: 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Garamond"/>
                <a:hlinkClick r:id="rId1"/>
              </a:rPr>
              <a:t>Brain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Garamond"/>
                <a:hlinkClick r:id="rId2"/>
              </a:rPr>
              <a:t>General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Garamond"/>
                <a:hlinkClick r:id="rId3"/>
              </a:rPr>
              <a:t>Game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0099"/>
                </a:solidFill>
                <a:uFillTx/>
                <a:latin typeface="Garamond"/>
              </a:rPr>
              <a:t>Ideas for Metaphor Games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9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Garamond"/>
                <a:hlinkClick r:id="rId2"/>
              </a:rPr>
              <a:t>Taboo Game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Or Pictionary:  Have the students create metaphors for specific vocabulary terms…these metaphors are the words they have to draw and then the students must figure out the vocabulary word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Brainstorm ideas or uses in your classroom?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aramond"/>
              </a:rPr>
              <a:t>Life’s but a walking shadow, a poor player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Garamond"/>
              </a:rPr>
              <a:t>That struts and frets his hour upon the stag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Garamond"/>
              </a:rPr>
              <a:t>And then is heard no more:  it is a tal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Garamond"/>
              </a:rPr>
              <a:t>Told by an idiot, full of sound and fury,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Garamond"/>
              </a:rPr>
              <a:t>Signifying nothing.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hakespeare, W.  </a:t>
            </a:r>
            <a:r>
              <a:rPr b="0" i="1" lang="en-US" sz="2800" spc="-1" strike="noStrike">
                <a:solidFill>
                  <a:srgbClr val="000000"/>
                </a:solidFill>
                <a:latin typeface="Garamond"/>
              </a:rPr>
              <a:t>Macbeth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, Act V Scene V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99"/>
            </a:gs>
            <a:gs pos="50000">
              <a:srgbClr val="ffcc99"/>
            </a:gs>
            <a:gs pos="100000">
              <a:srgbClr val="ff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99"/>
                </a:solidFill>
                <a:latin typeface="Garamond"/>
              </a:rPr>
              <a:t>Some that I like…</a:t>
            </a:r>
            <a:endParaRPr b="0" lang="en-US" sz="6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11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That’s so dial-up!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11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The season for change…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11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Speech is silver, but silence is golden.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11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…</a:t>
            </a: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Heart of the matter…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11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elbow grease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11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a main artery of traffic 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  <a:p>
            <a:pPr marL="31536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Creating Metaphors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Identifying 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Garamond"/>
              </a:rPr>
              <a:t>general or basic pattern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in a specific topic and the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Garamond"/>
              </a:rPr>
              <a:t>finding another topic that seems quite different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at the literal level but has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Garamond"/>
              </a:rPr>
              <a:t>same general pattern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.  They are used to give readers a strong message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Creating Metaphors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Metaphors help students create 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Garamond"/>
              </a:rPr>
              <a:t>deeper meaning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out of the content they are learning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reating Metaphors is a complex process that students need to practice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Creating Metaphors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Complete the reflection sheet on page 33 of your workbook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Discuss with your group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5562720" y="1905120"/>
            <a:ext cx="2514600" cy="24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Creating Metaphors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Complete the reflection sheet on page 33 of your workbook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Discuss with your group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0" y="1440"/>
          <a:ext cx="9144000" cy="685656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440"/>
                    <a:ext cx="9144000" cy="685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7315200" y="2819520"/>
            <a:ext cx="380880" cy="685800"/>
          </a:xfrm>
          <a:custGeom>
            <a:avLst/>
            <a:gdLst>
              <a:gd name="textAreaLeft" fmla="*/ 0 w 380880"/>
              <a:gd name="textAreaRight" fmla="*/ 137520 w 38088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391520" y="3809880"/>
            <a:ext cx="761760" cy="1828800"/>
          </a:xfrm>
          <a:custGeom>
            <a:avLst/>
            <a:gdLst>
              <a:gd name="textAreaLeft" fmla="*/ 0 w 761760"/>
              <a:gd name="textAreaRight" fmla="*/ 275040 w 76176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 rot="5400000">
            <a:off x="7238880" y="2743200"/>
            <a:ext cx="1523880" cy="3045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 Black"/>
              </a:rPr>
              <a:t>Not Science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5" name=""/>
          <p:cNvSpPr txBox="1"/>
          <p:nvPr/>
        </p:nvSpPr>
        <p:spPr>
          <a:xfrm rot="5400000">
            <a:off x="7325640" y="4636800"/>
            <a:ext cx="2130480" cy="476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 Black"/>
              </a:rPr>
              <a:t>Science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Creating Metaphors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tudents need to have the thinking process modeled for them…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Look at the example in the workbook on page 34 “My brother is a tyrant.”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tating the relationship between “my brother” and “tyrant” in more general terms</a:t>
            </a:r>
            <a:r>
              <a:rPr b="0" i="1" lang="en-US" sz="2800" spc="-1" strike="noStrike">
                <a:solidFill>
                  <a:srgbClr val="000000"/>
                </a:solidFill>
                <a:latin typeface="Garamond"/>
              </a:rPr>
              <a:t>—cruel ruler who treats innocent and weaker people unfairly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helps students understand the reasoning behind the metaphor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Steps to Creating a Metaphor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-578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Identify the important or basic elements of the information or situation with which you are working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578880" indent="-578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Write that basic information as a general pattern by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941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-replacing words for specific things with words for more general thing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941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-summarizing information whenever possible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578880" indent="-578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nd new information or a situation it which the general pattern applies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578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941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941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4T20:30:43Z</dcterms:created>
  <dc:creator>Erie 1 Staff-Mobile Labs</dc:creator>
  <dc:description/>
  <dc:language>en-US</dc:language>
  <cp:lastModifiedBy>Monica Daigler</cp:lastModifiedBy>
  <dcterms:modified xsi:type="dcterms:W3CDTF">2008-12-18T20:51:17Z</dcterms:modified>
  <cp:revision>6</cp:revision>
  <dc:subject/>
  <dc:title>Creating Metaphors</dc:title>
</cp:coreProperties>
</file>