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3BB-3D4A-4F1D-B691-99BBCCB3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969-160F-4DE1-80E7-114D213C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0DC-C7D8-4383-A3F1-EBFFF298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3F1-68AF-4E02-BB2F-C0D870A2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38B1-CC89-4A4E-82D6-E7C0FCA5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3DAD-C1FE-4C17-B28C-EFF50058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815D-57EB-4CD9-9705-67E5CC8B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3DC9-C14A-480B-98CA-ABB5519F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B9FD-E8F0-495D-8664-7DC3B069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0D19-12B5-4E10-908B-3366994A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BD2E-85B3-4C5C-BF7A-608F6A1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432-4D7E-47D8-BE74-DFDEC3C8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1167-93DC-4AC8-85DC-51C1F0CD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99A8-EB0C-475D-A6F0-7D87726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0758-616D-41A2-96F8-5F76C3E1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98D7-7511-48B4-A7BC-B3452251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F32C-6E5B-497D-A228-AAB36299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1A2-3C7C-4752-81CE-8A6B7E10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E9D-79C8-478D-91B3-56FF3746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931-29FA-492F-87A9-1D175F72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10B-5076-4A00-8F3C-696EED0B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0FF-466E-4ED1-BE7A-3985CF13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915-ADCB-40B4-A290-11772496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0D0-4726-43AF-9019-EEACCEC9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2DCC-E21C-47B6-B9A4-F2C2DF8B1B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6417-5657-4D7B-85F6-895F8CEDFD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ersnetwork.org/ntol/howto/science/analogies.htm" TargetMode="External"/><Relationship Id="rId2" Type="http://schemas.openxmlformats.org/officeDocument/2006/relationships/hyperlink" Target="http://www.scienceanalogies.info/webanalogylinks.html" TargetMode="External"/><Relationship Id="rId3" Type="http://schemas.openxmlformats.org/officeDocument/2006/relationships/hyperlink" Target="http://www.csun.edu/~vceed002/books/sourcebook/chapters/10-analogies/analogie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the sites below and discuss with your grou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teachersnetwork.org/ntol/howto/science/analogies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www.scienceanalogies.info/webanalogylink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www.csun.edu/~vceed002/books/sourcebook/chapters/10-analogies/analogi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6172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l Analogy Project...I have included a sample projec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logo graphic"/>
          <p:cNvPicPr/>
          <p:nvPr/>
        </p:nvPicPr>
        <p:blipFill>
          <a:blip r:embed="rId1"/>
          <a:srcRect l="23003" t="0" r="23589" b="0"/>
          <a:stretch/>
        </p:blipFill>
        <p:spPr>
          <a:xfrm>
            <a:off x="914400" y="914400"/>
            <a:ext cx="6934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Daigler</cp:lastModifiedBy>
  <dcterms:modified xsi:type="dcterms:W3CDTF">2008-12-24T18:52:39Z</dcterms:modified>
  <cp:revision>8</cp:revision>
  <dc:subject/>
  <dc:title>Creating Analogies</dc:title>
</cp:coreProperties>
</file>