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484-D0B5-4E68-9C24-27883293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2A3-E816-4EF4-B817-EFF7A043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12C-8F53-4584-A4F4-B7A1B850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D7C-7E3A-45FA-9EB3-E158216D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B5CA-9AB7-4769-8714-5D878D8A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EBF6-13E1-4C04-A963-CA30D219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0C57-EADA-4A47-A5BD-15979E2D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D040-3445-4500-A3F9-A3BF4079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9605-F878-4049-A61D-663EE3BA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0480-D66A-4A68-A41A-30A0D9C0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55AA-F800-4ECE-9FA3-DD70A5AB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2BA-BE2E-466D-B945-9690506D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6367-2EA5-4CD7-8DB0-7A7D3E4F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708E-4475-4A91-A237-2AD6C90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C82C-7F6D-4810-83CD-36C956DD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A345-7DC0-4713-B24E-DA2A4F49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60E0-55AC-4771-8DD8-717CD4EE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50F-1A1F-4175-AC65-0F8F9C25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F79-F429-408A-9B74-817D0401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ACB-78DB-4F5C-B228-FADD1770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934-36F9-43BD-80B2-AD1B16EB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780-0427-4CF0-B178-12F66954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EA2-4490-48F7-97D7-A040A2F8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CA9-0E12-4760-ADBB-55F27F1D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F036-53FD-430C-9598-8E511D31C7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EC5C-0801-4525-8BB7-0FBA21A6AD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ersnetwork.org/ntol/howto/science/analogies.htm" TargetMode="External"/><Relationship Id="rId2" Type="http://schemas.openxmlformats.org/officeDocument/2006/relationships/hyperlink" Target="http://www.scienceanalogies.info/webanalogylinks.html" TargetMode="External"/><Relationship Id="rId3" Type="http://schemas.openxmlformats.org/officeDocument/2006/relationships/hyperlink" Target="http://www.csun.edu/~vceed002/books/sourcebook/chapters/10-analogies/analogie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the sites below and discuss with your grou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teachersnetwork.org/ntol/howto/science/analogies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www.scienceanalogies.info/webanalogylink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www.csun.edu/~vceed002/books/sourcebook/chapters/10-analogies/analogi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6172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l Analogy Project...I have included a sample projec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logo graphic"/>
          <p:cNvPicPr/>
          <p:nvPr/>
        </p:nvPicPr>
        <p:blipFill>
          <a:blip r:embed="rId1"/>
          <a:srcRect l="23003" t="0" r="23589" b="0"/>
          <a:stretch/>
        </p:blipFill>
        <p:spPr>
          <a:xfrm>
            <a:off x="914400" y="914400"/>
            <a:ext cx="6934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Daigler</cp:lastModifiedBy>
  <dcterms:modified xsi:type="dcterms:W3CDTF">2008-12-24T18:52:39Z</dcterms:modified>
  <cp:revision>8</cp:revision>
  <dc:subject/>
  <dc:title>Creating Analogies</dc:title>
</cp:coreProperties>
</file>