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4A9A-B693-41D2-BE0B-453497C7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C2DD-7D8B-470C-889F-A265ED21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294B-B931-4C18-8E97-932BF22B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E264-82D3-4A57-8685-09C11378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0929-6B6D-484B-A183-26C1FE51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4CE9-9F08-48A2-B0DE-C0B3D137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6594-AF4E-4CA0-A381-8B96ED53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46DC-C33F-4647-A053-77A0F605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4667-2CFB-483B-9FE9-8D63112D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44CB-658C-405C-B84F-6C1D5C4A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59E9-A2E3-48C0-8688-58B0D401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2858-B289-4BC0-B38F-7FEBE159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7741-CAB6-4E5A-B4C3-6311A6BE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7A0B-7721-466C-A2A4-AE480058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973E-7D9C-44E4-AD4B-790D1BDC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E99B-4260-4F0D-B059-31122850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8970-1DC3-4A33-973F-90E6B235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D670-A976-4259-85CE-94F587C3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7BAE-937D-467A-A1BD-7536A50F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984E-10C9-4941-A0D7-B2A4D810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30B8-3F24-4CB3-AC75-036E5D18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1476-C23E-401D-B8D7-4A7C656C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4BD3-1752-484C-813F-90625C54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DAE1-1207-4C48-B5BA-9A1B0012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D4F2-1FBA-46AF-8B55-841133358B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2A65-68A2-4092-9EFD-028A098799D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eachersnetwork.org/ntol/howto/science/analogies.htm" TargetMode="External"/><Relationship Id="rId2" Type="http://schemas.openxmlformats.org/officeDocument/2006/relationships/hyperlink" Target="http://www.scienceanalogies.info/webanalogylinks.html" TargetMode="External"/><Relationship Id="rId3" Type="http://schemas.openxmlformats.org/officeDocument/2006/relationships/hyperlink" Target="http://www.csun.edu/~vceed002/books/sourcebook/chapters/10-analogies/analogies.html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room Instruction tha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Similarities and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always wish students would includ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eeper analys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n their writing.  Analogies can help students develop this 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Guiding Student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can be provided the complete analogy and must explain the relationship between the items in each pair, as well as the relationship between the two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  down:up::under: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provide a partial analogy and students must fill in the missing part and explain the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the sites below and discuss with your group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http://teachersnetwork.org/ntol/howto/science/analogies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http://www.scienceanalogies.info/webanalogylink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3"/>
              </a:rPr>
              <a:t>http://www.csun.edu/~vceed002/books/sourcebook/chapters/10-analogies/analogie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hecking your own understandin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the activity on paged 48-49 of your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Planning for Analogies Worksheet on page 51 and discuss with your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o or what am I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story on the colored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or what am I?  Write in the box on page 7 of learning pa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down three analogies that helped you and your thinking throughout th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way to introduce literacy into your class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Brainstorm…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process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dentifying relationshi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pairs of concepts.  Analogies help u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ke conne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things that seem very diffe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way to look at is, you are identifying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lationships between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reflection on page 43 of your workbook and share your thoughts with your group me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an analogy follows the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B::C: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- A is to B as C is to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y:Sad::Big: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y is to Sad as Big is to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is bringing back SAT nightmares for anyone else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at’s the Point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ogies can help explain an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nfamili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 by making a comparison to something that w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nderst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Creating Analogies…Common Themes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similar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Memb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Name or Class M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to Wh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ty/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page 45 for examples of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need to be given concrete examples of these relationships so they can recognize the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they understand the structure of analogies, they can begin to discover the complexities of the relationships and create new analogies that explain different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61722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ell Analogy Project...I have included a sample project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logo graphic"/>
          <p:cNvPicPr/>
          <p:nvPr/>
        </p:nvPicPr>
        <p:blipFill>
          <a:blip r:embed="rId1"/>
          <a:srcRect l="23003" t="0" r="23589" b="0"/>
          <a:stretch/>
        </p:blipFill>
        <p:spPr>
          <a:xfrm>
            <a:off x="914400" y="914400"/>
            <a:ext cx="693432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4572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dentifying Similarities an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190520"/>
            <a:ext cx="7315200" cy="1373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aphic Organizer for the Abstract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 Ana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666880"/>
            <a:ext cx="7238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2895480"/>
            <a:ext cx="23619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28954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49528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49528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41972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85800" y="2936880"/>
            <a:ext cx="21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k Market Crash of 19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2971800"/>
            <a:ext cx="21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5029200"/>
            <a:ext cx="21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sure to g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51400" y="506412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91480" y="2971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20080" y="50292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20760" y="502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2640" y="396252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lation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733920"/>
            <a:ext cx="58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hing attacks a system and weakens 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ility to prevent serious affl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8:45:42Z</dcterms:created>
  <dc:creator>Erie 1 Staff-Mobile Labs</dc:creator>
  <dc:description/>
  <dc:language>en-US</dc:language>
  <cp:lastModifiedBy>Monica Daigler</cp:lastModifiedBy>
  <dcterms:modified xsi:type="dcterms:W3CDTF">2008-12-24T18:52:39Z</dcterms:modified>
  <cp:revision>8</cp:revision>
  <dc:subject/>
  <dc:title>Creating Analogies</dc:title>
</cp:coreProperties>
</file>