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17D-BFA6-4B37-9710-1436A103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833-B3D6-4758-9FB8-9E79ABDF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902-B5B7-4B2B-874A-9233C2C2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C24-10DB-4251-9F1D-4746D321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727C-AF6F-4BB1-BE75-6E63E2E0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ABC5-604A-42B6-AE47-2265CDFA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AD7B-2082-4107-A3EC-3F0CA1D5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78E9-2A74-4AFF-8F56-248C86F5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0A17-A03A-4DAA-8924-2551AD65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19B3-D11D-4950-9BDB-DA2F9165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FE2F-606C-4759-9116-D734B781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933-4653-4DB3-A0AA-40ACC480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E288-89E6-4A72-B88C-68DB4A69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5DA4-4E89-4457-866E-77AD19FA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9723-DC34-4DA6-8D2E-185FBBA1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D833-A285-417B-B37A-83846DBD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2052-4BFB-443D-A154-2D3BD8F0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63A-CA55-434B-9E6B-2B5C27E8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BB58-F2E8-48A1-90F5-3663938F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CB6-E567-4757-B849-7FBCDE5C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DF79-6A8C-42C8-BB61-C0BF7B33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93A-ECDB-4F0D-9F9D-3E5BA2D2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30E-7E40-4FE2-AAB5-22314C0D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515-C79E-40D0-B72E-445BDADD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1C54-3066-420E-A3DD-6448D1656F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010C-5DC3-4479-A5ED-A5740D4D35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achersnetwork.org/ntol/howto/science/analogies.htm" TargetMode="External"/><Relationship Id="rId2" Type="http://schemas.openxmlformats.org/officeDocument/2006/relationships/hyperlink" Target="http://www.scienceanalogies.info/webanalogylinks.html" TargetMode="External"/><Relationship Id="rId3" Type="http://schemas.openxmlformats.org/officeDocument/2006/relationships/hyperlink" Target="http://www.csun.edu/~vceed002/books/sourcebook/chapters/10-analogies/analogies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room Instruction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always wish students would includ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eeper analys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n their writing.  Analogies can help students develop this 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uiding Studen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an be provided the complete analogy and must explain the relationship between the items in each pair, as well as the relationship between the tw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 down:up::under: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provide a partial analogy and students must fill in the missing part and explain th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the sites below and discuss with your grou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teachersnetwork.org/ntol/howto/science/analogies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www.scienceanalogies.info/webanalogylink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http://www.csun.edu/~vceed002/books/sourcebook/chapters/10-analogies/analogie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hecking your own understand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activity on paged 48-49 of your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lanning for Analogies Worksheet on page 51 and discuss with you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o or what am I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story on the colored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or what am I?  Write in the box on page 7 of learning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three analogies that helped you and your thinking throughout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way to introduce literacy into your clas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rainstorm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ces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ying relationshi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pairs of concepts.  Analogies help u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ke conn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ings that seem very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to look at is, you are identify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tionships betwee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eflection on page 43 of your workbook and share your thoughts with your group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n analogy follows th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B::C: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- A is to B as C is t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:Sad::Big: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 is to Sad as Big is to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bringing back SAT nightmares for anyone els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’s the Point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ies can help explain 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famili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by making a comparison to something that w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der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reating Analogies…Common Theme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Name or Clas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to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/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page 45 for examples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need to be given concrete examples of these relationships so they can recognize th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y understand the structure of analogies, they can begin to discover the complexities of the relationships and create new analogies that explain diffe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6172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ll Analogy Project...I have included a sample project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logo graphic"/>
          <p:cNvPicPr/>
          <p:nvPr/>
        </p:nvPicPr>
        <p:blipFill>
          <a:blip r:embed="rId1"/>
          <a:srcRect l="23003" t="0" r="23589" b="0"/>
          <a:stretch/>
        </p:blipFill>
        <p:spPr>
          <a:xfrm>
            <a:off x="914400" y="914400"/>
            <a:ext cx="69343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190520"/>
            <a:ext cx="731520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aphic Organizer for the Abstract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666880"/>
            <a:ext cx="723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895480"/>
            <a:ext cx="2361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28954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85800" y="29368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 Market Crash of 1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297180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5029200"/>
            <a:ext cx="21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ure to g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51400" y="506412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480" y="2971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0080" y="50292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2076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2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733920"/>
            <a:ext cx="58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attacks a system and weakens 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prevent serious affl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45:42Z</dcterms:created>
  <dc:creator>Erie 1 Staff-Mobile Labs</dc:creator>
  <dc:description/>
  <dc:language>en-US</dc:language>
  <cp:lastModifiedBy>Monica Daigler</cp:lastModifiedBy>
  <dcterms:modified xsi:type="dcterms:W3CDTF">2008-12-24T18:52:39Z</dcterms:modified>
  <cp:revision>8</cp:revision>
  <dc:subject/>
  <dc:title>Creating Analogies</dc:title>
</cp:coreProperties>
</file>