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CA3-F89B-4E05-B164-A2002E15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AA6-0AB0-4F48-BFA0-704F4E5F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0F8-B5F4-4678-A7FB-3264DF07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54E-93E7-414F-B627-F9B745AD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1598-D4F0-4F0E-A88A-C7392B13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92E5-CB2C-4D69-92DB-3C6CBB1C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851C-10AC-4EC8-8D1A-CB49570B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D233-1229-409A-9B14-2A33A77B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7113-16C2-4390-B8D1-ECD93FA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1971-8ABC-4C5E-BF9D-1C138CD6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8059-883A-4D9B-B795-9179E4C3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08B-F8FF-4674-89FB-6A8D0A7A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B392-2AF4-43AD-8B94-CEE8BA77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1B8D-E831-4509-96ED-6A3FD05E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1E5-53E7-4B14-9E42-57DF08BD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78D4-7041-4F2C-937D-3664C7E5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89CB-039C-413F-94B0-DCDCF3BE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908-AE31-4ED6-B493-6E461C05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559-E5A1-4290-9BF7-2E8270DD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6B0-5EAC-4278-94C4-631D7983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B21-B3F1-4F39-A87A-7CF9F59C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01D-B6A4-46B9-80EB-866E4090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05F-687C-493F-AA23-CE926C68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90A-E1A7-4F64-8842-F630004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7873-BEAA-485D-A4BB-63DAD4F315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1A68-1DAD-4DA2-BFFB-5790F7131B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ersnetwork.org/ntol/howto/science/analogies.htm" TargetMode="External"/><Relationship Id="rId2" Type="http://schemas.openxmlformats.org/officeDocument/2006/relationships/hyperlink" Target="http://www.scienceanalogies.info/webanalogylinks.html" TargetMode="External"/><Relationship Id="rId3" Type="http://schemas.openxmlformats.org/officeDocument/2006/relationships/hyperlink" Target="http://www.csun.edu/~vceed002/books/sourcebook/chapters/10-analogies/analogie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sites below and discuss with your grou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teachersnetwork.org/ntol/howto/science/analogies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www.scienceanalogies.info/webanalogylink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www.csun.edu/~vceed002/books/sourcebook/chapters/10-analogies/analogi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172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 Analogy Project...I have included a sample projec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logo graphic"/>
          <p:cNvPicPr/>
          <p:nvPr/>
        </p:nvPicPr>
        <p:blipFill>
          <a:blip r:embed="rId1"/>
          <a:srcRect l="23003" t="0" r="23589" b="0"/>
          <a:stretch/>
        </p:blipFill>
        <p:spPr>
          <a:xfrm>
            <a:off x="914400" y="914400"/>
            <a:ext cx="6934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Daigler</cp:lastModifiedBy>
  <dcterms:modified xsi:type="dcterms:W3CDTF">2008-12-24T18:52:39Z</dcterms:modified>
  <cp:revision>8</cp:revision>
  <dc:subject/>
  <dc:title>Creating Analogies</dc:title>
</cp:coreProperties>
</file>