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244-D46B-499F-AE6E-44994DFA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615-9AC1-4183-8536-2013FC76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F03-0A4A-42C6-92A6-8AE54441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5F1-2718-4496-8D56-9D0A30BD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444C-C045-493A-B1D4-695FC7E8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4A9F-FA0F-4137-B9B0-98C68269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3E52-1829-4650-AF71-2C901FB8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6824-44AB-45CD-B4D5-259F4DF3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5902-8E44-4B4E-BA9D-76BF4EEF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EE04-5A06-447F-8EEA-C29D7DD2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467A-A7FB-422A-9CD2-6A2ABAC1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676-D110-406D-9406-E285F675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6E9C-F24B-4CF3-A4BF-06C97A9B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44C6-EB47-4BA0-BA80-21A446FF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FE44-4B30-41A4-A8A1-AD92F89C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F37C-4FC3-41A8-9D2C-2DC3D39F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6885-3AE1-4A3E-A504-DEDB3D7C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A21-4AFC-4F38-8884-9A4A12A4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153-D139-4DF3-AC33-8C0397B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347-0FD3-4016-B650-CD84B3E9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A1F-7CC5-45F6-9129-3F5DA48C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127-863C-4ECC-ABA2-4847FBBB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2F1-D1A7-4591-B5C1-AE920C7F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584-A022-4476-8B8C-3D73C52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95BF-6DA0-4763-A0A7-7386C057630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824C-7260-4FE4-AEC1-384190059FF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un.edu/~vceed002/books/sourcebook/chapters/9-graphic-organizers/files/venn-topic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omparing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8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room Instruction that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- 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1066680"/>
            <a:ext cx="251460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143000"/>
            <a:ext cx="251460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91120"/>
            <a:ext cx="251460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51460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1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657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2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438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080" y="5029200"/>
            <a:ext cx="3276720" cy="457200"/>
            <a:chOff x="838080" y="5029200"/>
            <a:chExt cx="3276720" cy="457200"/>
          </a:xfrm>
        </p:grpSpPr>
        <p:sp>
          <p:nvSpPr>
            <p:cNvPr id="117" name=""/>
            <p:cNvSpPr/>
            <p:nvPr/>
          </p:nvSpPr>
          <p:spPr>
            <a:xfrm>
              <a:off x="205740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7400" y="5257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7400" y="5486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43400" y="1219320"/>
            <a:ext cx="4800240" cy="2125440"/>
            <a:chOff x="4343400" y="1219320"/>
            <a:chExt cx="4800240" cy="2125440"/>
          </a:xfrm>
        </p:grpSpPr>
        <p:sp>
          <p:nvSpPr>
            <p:cNvPr id="123" name=""/>
            <p:cNvSpPr/>
            <p:nvPr/>
          </p:nvSpPr>
          <p:spPr>
            <a:xfrm>
              <a:off x="4343400" y="1219320"/>
              <a:ext cx="4800240" cy="2056320"/>
            </a:xfrm>
            <a:prstGeom prst="leftArrowCallout">
              <a:avLst>
                <a:gd name="adj1" fmla="val 25002"/>
                <a:gd name="adj2" fmla="val 25000"/>
                <a:gd name="adj3" fmla="val 38906"/>
                <a:gd name="adj4" fmla="val 666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75200" y="1301040"/>
              <a:ext cx="32680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asy to see that items are very different for this characteristic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4267080"/>
            <a:ext cx="4952160" cy="1905120"/>
            <a:chOff x="4419720" y="4267080"/>
            <a:chExt cx="4952160" cy="1905120"/>
          </a:xfrm>
        </p:grpSpPr>
        <p:sp>
          <p:nvSpPr>
            <p:cNvPr id="126" name=""/>
            <p:cNvSpPr/>
            <p:nvPr/>
          </p:nvSpPr>
          <p:spPr>
            <a:xfrm>
              <a:off x="4419720" y="4267080"/>
              <a:ext cx="4750560" cy="1905120"/>
            </a:xfrm>
            <a:prstGeom prst="leftArrowCallout">
              <a:avLst>
                <a:gd name="adj1" fmla="val 25002"/>
                <a:gd name="adj2" fmla="val 25000"/>
                <a:gd name="adj3" fmla="val 41560"/>
                <a:gd name="adj4" fmla="val 666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37640" y="4343400"/>
              <a:ext cx="3234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very similar for this characteristi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057400" y="571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6110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762120"/>
            <a:ext cx="2743200" cy="2286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380880" y="152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762120"/>
            <a:ext cx="2971800" cy="22860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6110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66880" y="1371600"/>
            <a:ext cx="3657600" cy="1218600"/>
            <a:chOff x="2666880" y="1371600"/>
            <a:chExt cx="3657600" cy="1218600"/>
          </a:xfrm>
        </p:grpSpPr>
        <p:sp>
          <p:nvSpPr>
            <p:cNvPr id="136" name=""/>
            <p:cNvSpPr/>
            <p:nvPr/>
          </p:nvSpPr>
          <p:spPr>
            <a:xfrm>
              <a:off x="2707560" y="1371600"/>
              <a:ext cx="1097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666880" y="1501920"/>
              <a:ext cx="3657600" cy="1088280"/>
              <a:chOff x="2666880" y="1501920"/>
              <a:chExt cx="3657600" cy="10882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2666880" y="1501920"/>
                <a:ext cx="3657600" cy="174240"/>
                <a:chOff x="2666880" y="1501920"/>
                <a:chExt cx="3657600" cy="174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666880" y="1501920"/>
                  <a:ext cx="1097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5227200" y="1545480"/>
                  <a:ext cx="1097280" cy="130680"/>
                  <a:chOff x="5227200" y="1545480"/>
                  <a:chExt cx="1097280" cy="1306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5227200" y="167616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227200" y="15454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3885840" y="1545480"/>
                <a:ext cx="1137960" cy="1044720"/>
                <a:chOff x="3885840" y="1545480"/>
                <a:chExt cx="1137960" cy="104472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3926520" y="1980720"/>
                  <a:ext cx="1097280" cy="130320"/>
                  <a:chOff x="3926520" y="1980720"/>
                  <a:chExt cx="1097280" cy="1303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3926520" y="211104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926520" y="198072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3885840" y="2459880"/>
                  <a:ext cx="1097280" cy="130320"/>
                  <a:chOff x="3885840" y="2459880"/>
                  <a:chExt cx="1097280" cy="1303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885840" y="259020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885840" y="24598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3885840" y="1545480"/>
                  <a:ext cx="1097280" cy="130320"/>
                  <a:chOff x="3885840" y="1545480"/>
                  <a:chExt cx="1097280" cy="1303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3885840" y="167580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885840" y="15454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3" name=""/>
          <p:cNvSpPr/>
          <p:nvPr/>
        </p:nvSpPr>
        <p:spPr>
          <a:xfrm>
            <a:off x="2209680" y="3886200"/>
            <a:ext cx="2894040" cy="2286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886200"/>
            <a:ext cx="2895480" cy="22860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19520" y="4267080"/>
            <a:ext cx="3200040" cy="1371240"/>
            <a:chOff x="2819520" y="4267080"/>
            <a:chExt cx="3200040" cy="1371240"/>
          </a:xfrm>
        </p:grpSpPr>
        <p:sp>
          <p:nvSpPr>
            <p:cNvPr id="156" name=""/>
            <p:cNvSpPr/>
            <p:nvPr/>
          </p:nvSpPr>
          <p:spPr>
            <a:xfrm>
              <a:off x="2920320" y="4419360"/>
              <a:ext cx="909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819520" y="4267080"/>
              <a:ext cx="3200040" cy="1371240"/>
              <a:chOff x="2819520" y="4267080"/>
              <a:chExt cx="3200040" cy="1371240"/>
            </a:xfrm>
          </p:grpSpPr>
          <p:sp>
            <p:nvSpPr>
              <p:cNvPr id="158" name=""/>
              <p:cNvSpPr/>
              <p:nvPr/>
            </p:nvSpPr>
            <p:spPr>
              <a:xfrm>
                <a:off x="2954160" y="4267080"/>
                <a:ext cx="909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819520" y="4927320"/>
                <a:ext cx="909360" cy="152280"/>
                <a:chOff x="2819520" y="4927320"/>
                <a:chExt cx="909360" cy="152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819520" y="50796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19520" y="49273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42880" y="4470120"/>
                <a:ext cx="909360" cy="152280"/>
                <a:chOff x="5042880" y="4470120"/>
                <a:chExt cx="909360" cy="152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042880" y="46224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42880" y="44701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110200" y="5028840"/>
                <a:ext cx="909360" cy="152280"/>
                <a:chOff x="5110200" y="5028840"/>
                <a:chExt cx="909360" cy="152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110200" y="51811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110200" y="50288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886840" y="5384520"/>
                <a:ext cx="909360" cy="152280"/>
                <a:chOff x="2886840" y="5384520"/>
                <a:chExt cx="909360" cy="152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886840" y="55368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886840" y="53845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931200" y="4622760"/>
                <a:ext cx="909360" cy="152280"/>
                <a:chOff x="3931200" y="4622760"/>
                <a:chExt cx="909360" cy="152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931200" y="47750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931200" y="462276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941720" y="5486040"/>
                <a:ext cx="909360" cy="152280"/>
                <a:chOff x="4941720" y="5486040"/>
                <a:chExt cx="909360" cy="152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41720" y="56383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941720" y="54860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7" name=""/>
          <p:cNvSpPr/>
          <p:nvPr/>
        </p:nvSpPr>
        <p:spPr>
          <a:xfrm>
            <a:off x="1600200" y="3048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other way to increase the rigor of a Venn Diagram is to require a written summary at the botto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 example next sl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4800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838080"/>
            <a:ext cx="4495680" cy="36576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58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914400"/>
            <a:ext cx="4572000" cy="36576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472000"/>
            <a:ext cx="9144000" cy="352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mmary: Animals and plants have many similarities and differe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arison Matrix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phically represents similarities and differen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lps students systematically organize information about the items they are compar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2280" y="533520"/>
          <a:ext cx="8686800" cy="6019560"/>
        </p:xfrm>
        <a:graphic>
          <a:graphicData uri="http://schemas.openxmlformats.org/drawingml/2006/table">
            <a:tbl>
              <a:tblPr/>
              <a:tblGrid>
                <a:gridCol w="1752840"/>
                <a:gridCol w="1371600"/>
                <a:gridCol w="1371600"/>
                <a:gridCol w="1641240"/>
                <a:gridCol w="25495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  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sing Organizers to facilitate writing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phic Organizers can be turned into useful tools to facilitate wri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 example on next sl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04920" y="838080"/>
          <a:ext cx="3276360" cy="2361960"/>
        </p:xfrm>
        <a:graphic>
          <a:graphicData uri="http://schemas.openxmlformats.org/drawingml/2006/table">
            <a:tbl>
              <a:tblPr/>
              <a:tblGrid>
                <a:gridCol w="482400"/>
                <a:gridCol w="480960"/>
                <a:gridCol w="482760"/>
                <a:gridCol w="480960"/>
                <a:gridCol w="134928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4952880" y="304920"/>
            <a:ext cx="3962520" cy="647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5720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10040" y="1083600"/>
            <a:ext cx="5750640" cy="891000"/>
            <a:chOff x="410040" y="1083600"/>
            <a:chExt cx="5750640" cy="891000"/>
          </a:xfrm>
        </p:grpSpPr>
        <p:sp>
          <p:nvSpPr>
            <p:cNvPr id="195" name=""/>
            <p:cNvSpPr/>
            <p:nvPr/>
          </p:nvSpPr>
          <p:spPr>
            <a:xfrm flipV="1">
              <a:off x="410040" y="1083600"/>
              <a:ext cx="5586840" cy="89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356840" y="1224000"/>
              <a:ext cx="4803840" cy="1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105520" y="1523880"/>
            <a:ext cx="373356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59092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365760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6880" y="1752480"/>
            <a:ext cx="3353040" cy="2590920"/>
            <a:chOff x="2666880" y="1752480"/>
            <a:chExt cx="3353040" cy="2590920"/>
          </a:xfrm>
        </p:grpSpPr>
        <p:sp>
          <p:nvSpPr>
            <p:cNvPr id="201" name=""/>
            <p:cNvSpPr/>
            <p:nvPr/>
          </p:nvSpPr>
          <p:spPr>
            <a:xfrm>
              <a:off x="2743200" y="2362320"/>
              <a:ext cx="320040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6880" y="1752480"/>
              <a:ext cx="3200400" cy="3812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95480" y="2895480"/>
              <a:ext cx="3124440" cy="14479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64832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9480" y="3886200"/>
            <a:ext cx="2667240" cy="1676160"/>
            <a:chOff x="609480" y="3886200"/>
            <a:chExt cx="2667240" cy="1676160"/>
          </a:xfrm>
        </p:grpSpPr>
        <p:grpSp>
          <p:nvGrpSpPr>
            <p:cNvPr id="206" name=""/>
            <p:cNvGrpSpPr/>
            <p:nvPr/>
          </p:nvGrpSpPr>
          <p:grpSpPr>
            <a:xfrm>
              <a:off x="2133720" y="3886200"/>
              <a:ext cx="1143000" cy="609480"/>
              <a:chOff x="2133720" y="3886200"/>
              <a:chExt cx="1143000" cy="609480"/>
            </a:xfrm>
          </p:grpSpPr>
          <p:sp>
            <p:nvSpPr>
              <p:cNvPr id="207" name=""/>
              <p:cNvSpPr/>
              <p:nvPr/>
            </p:nvSpPr>
            <p:spPr>
              <a:xfrm>
                <a:off x="213372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1460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09480" y="3886200"/>
              <a:ext cx="1143000" cy="609480"/>
              <a:chOff x="609480" y="3886200"/>
              <a:chExt cx="1143000" cy="609480"/>
            </a:xfrm>
          </p:grpSpPr>
          <p:sp>
            <p:nvSpPr>
              <p:cNvPr id="210" name=""/>
              <p:cNvSpPr/>
              <p:nvPr/>
            </p:nvSpPr>
            <p:spPr>
              <a:xfrm>
                <a:off x="60948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9036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143000" y="4952880"/>
              <a:ext cx="1143000" cy="609480"/>
              <a:chOff x="1143000" y="4952880"/>
              <a:chExt cx="1143000" cy="6094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43000" y="495288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23880" y="495288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1066680" y="2209680"/>
            <a:ext cx="5486400" cy="3124440"/>
            <a:chOff x="1066680" y="2209680"/>
            <a:chExt cx="5486400" cy="3124440"/>
          </a:xfrm>
        </p:grpSpPr>
        <p:sp>
          <p:nvSpPr>
            <p:cNvPr id="216" name=""/>
            <p:cNvSpPr/>
            <p:nvPr/>
          </p:nvSpPr>
          <p:spPr>
            <a:xfrm flipV="1">
              <a:off x="1066680" y="2209680"/>
              <a:ext cx="4419720" cy="18288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438280" y="3123720"/>
              <a:ext cx="41148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600200" y="4343400"/>
              <a:ext cx="4419720" cy="9907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uiding Studen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lower level students-choose the characteristics yoursel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higher level students-ask students to choose the characteristics upon which to base the comparis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hecking your own understand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plete the exercise on page 16 in your workbook… and discuss with group memb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ar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ents compare objects and ideas all the time in their personal liv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can use this process to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deliberately and rigorousl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deepen student’s understanding of the knowledge they are learn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Module Reflection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nk about the questions on page 18 and share any though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the planning guide on page 19 to record ideas and thoughts for implementation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eat Website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csun.edu/~vceed002/books/sourcebook/chapters/9-graphic-organizers/files/venn-topics.htm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Comparing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omplete the Reflection on page 10 of your workbook…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ompare” your thoughts with your group memb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Compar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s module will cover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How to give students a model for the proc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Using familiar content to teach students the steps for compar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2514600"/>
            <a:ext cx="906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the characteristic of the items on which you want to base your compar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EPS TO COMPA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8380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the items you want to com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4038480"/>
            <a:ext cx="8762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in how the items are similar and different with respect to th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ive Students a Mode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Students need to be pushed beyond the kind of comparing they do on a daily bas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The key to an effective comparison is to identify important characteristics that will enhance their understanding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Use Familiar Conte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everyday examples when teaching the proc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feteria food vs. homemade lunch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Xbox vs. W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bercrombie vs. American Eag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ents will be able to understand the process more deeply when using familiar content at firs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ive Students Graphic Organiz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isual tools are important in making comparis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nn Diagrams can be made more rigorous by introduc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characteristic or qualit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to be compar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view the use of characteristics in Venn Diagrams on pp12-13 in your workboo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03:07Z</dcterms:created>
  <dc:creator>Erie 1 Staff-Mobile Labs</dc:creator>
  <dc:description/>
  <cp:keywords/>
  <dc:language>en-US</dc:language>
  <cp:lastModifiedBy>Monica Burgio-Daigler</cp:lastModifiedBy>
  <dcterms:modified xsi:type="dcterms:W3CDTF">2010-08-11T15:10:34Z</dcterms:modified>
  <cp:revision>8</cp:revision>
  <dc:subject/>
  <dc:title>Compa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