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802-1314-4357-AB11-6AEA2F1A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268-92AF-47C1-BA76-B9BF8D86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61F-6F21-4058-934E-C66EDC59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032-18D1-48EA-BA63-5DD55C0B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A544-451B-4C3C-A07E-378E5C5A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6A9C-5316-4485-98F1-6F0FF96D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BB67-0C4B-4067-90F8-307C331D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8DE1-1F13-4CE5-A0AD-10B28E5D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A169-83B5-41CA-9328-23BE9C25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03F8-DCE3-41DD-AB49-D9EBF93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2072-0DE1-4B61-BA5B-9FD8CCF3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3CC-03DE-42F4-829D-DC159DB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B688-73CF-46F5-AFF8-81E07D7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5AD5-6C27-4B57-9F69-484F821C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FC76-2505-4D0A-9224-E3524BB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A20-380F-4576-88D8-5D303574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B937-3170-47DB-8D4C-856FBF56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05E-89E1-4C25-B9C4-2746C963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DFB-3BF4-4CA3-AE5F-28060644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253-D41B-47A4-AD2B-B89E3F9E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972-738C-4787-A4B1-30CB58B6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AF2-8AA4-4270-BA37-19884254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03E-C84F-440C-A416-FD722951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79C-4510-422D-B7FC-78E7B97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A622-38AD-4B37-A7DD-0D059539F6A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BF54-2B99-4C9E-863C-292EB84C6F7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un.edu/~vceed002/books/sourcebook/chapters/9-graphic-organizers/files/venn-topic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8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room Instruction that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- 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106668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14300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1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657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2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5029200"/>
            <a:ext cx="3276720" cy="457200"/>
            <a:chOff x="838080" y="5029200"/>
            <a:chExt cx="3276720" cy="457200"/>
          </a:xfrm>
        </p:grpSpPr>
        <p:sp>
          <p:nvSpPr>
            <p:cNvPr id="117" name=""/>
            <p:cNvSpPr/>
            <p:nvPr/>
          </p:nvSpPr>
          <p:spPr>
            <a:xfrm>
              <a:off x="2057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7400" y="5257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5486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43400" y="1219320"/>
            <a:ext cx="4800240" cy="2125440"/>
            <a:chOff x="4343400" y="1219320"/>
            <a:chExt cx="4800240" cy="2125440"/>
          </a:xfrm>
        </p:grpSpPr>
        <p:sp>
          <p:nvSpPr>
            <p:cNvPr id="123" name=""/>
            <p:cNvSpPr/>
            <p:nvPr/>
          </p:nvSpPr>
          <p:spPr>
            <a:xfrm>
              <a:off x="4343400" y="1219320"/>
              <a:ext cx="4800240" cy="2056320"/>
            </a:xfrm>
            <a:prstGeom prst="leftArrowCallout">
              <a:avLst>
                <a:gd name="adj1" fmla="val 25002"/>
                <a:gd name="adj2" fmla="val 25000"/>
                <a:gd name="adj3" fmla="val 38906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5200" y="1301040"/>
              <a:ext cx="3268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asy to see that items are very different for this characteristic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4267080"/>
            <a:ext cx="4952160" cy="1905120"/>
            <a:chOff x="4419720" y="4267080"/>
            <a:chExt cx="4952160" cy="1905120"/>
          </a:xfrm>
        </p:grpSpPr>
        <p:sp>
          <p:nvSpPr>
            <p:cNvPr id="126" name=""/>
            <p:cNvSpPr/>
            <p:nvPr/>
          </p:nvSpPr>
          <p:spPr>
            <a:xfrm>
              <a:off x="4419720" y="4267080"/>
              <a:ext cx="4750560" cy="1905120"/>
            </a:xfrm>
            <a:prstGeom prst="leftArrowCallout">
              <a:avLst>
                <a:gd name="adj1" fmla="val 25002"/>
                <a:gd name="adj2" fmla="val 25000"/>
                <a:gd name="adj3" fmla="val 41560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7640" y="4343400"/>
              <a:ext cx="323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very similar for this characteristi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057400" y="571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6110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762120"/>
            <a:ext cx="274320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380880" y="152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762120"/>
            <a:ext cx="297180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6110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66880" y="1371600"/>
            <a:ext cx="3657600" cy="1218600"/>
            <a:chOff x="2666880" y="1371600"/>
            <a:chExt cx="3657600" cy="1218600"/>
          </a:xfrm>
        </p:grpSpPr>
        <p:sp>
          <p:nvSpPr>
            <p:cNvPr id="136" name=""/>
            <p:cNvSpPr/>
            <p:nvPr/>
          </p:nvSpPr>
          <p:spPr>
            <a:xfrm>
              <a:off x="2707560" y="1371600"/>
              <a:ext cx="109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666880" y="1501920"/>
              <a:ext cx="3657600" cy="1088280"/>
              <a:chOff x="2666880" y="1501920"/>
              <a:chExt cx="3657600" cy="1088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2666880" y="1501920"/>
                <a:ext cx="3657600" cy="174240"/>
                <a:chOff x="2666880" y="1501920"/>
                <a:chExt cx="3657600" cy="174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66880" y="1501920"/>
                  <a:ext cx="1097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5227200" y="1545480"/>
                  <a:ext cx="1097280" cy="130680"/>
                  <a:chOff x="5227200" y="1545480"/>
                  <a:chExt cx="1097280" cy="1306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5227200" y="167616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22720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885840" y="1545480"/>
                <a:ext cx="1137960" cy="1044720"/>
                <a:chOff x="3885840" y="1545480"/>
                <a:chExt cx="1137960" cy="10447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3926520" y="1980720"/>
                  <a:ext cx="1097280" cy="130320"/>
                  <a:chOff x="3926520" y="1980720"/>
                  <a:chExt cx="1097280" cy="130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926520" y="211104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926520" y="198072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885840" y="2459880"/>
                  <a:ext cx="1097280" cy="130320"/>
                  <a:chOff x="3885840" y="2459880"/>
                  <a:chExt cx="1097280" cy="1303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85840" y="25902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85840" y="24598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3885840" y="1545480"/>
                  <a:ext cx="1097280" cy="130320"/>
                  <a:chOff x="3885840" y="1545480"/>
                  <a:chExt cx="1097280" cy="130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885840" y="16758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8584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"/>
          <p:cNvSpPr/>
          <p:nvPr/>
        </p:nvSpPr>
        <p:spPr>
          <a:xfrm>
            <a:off x="2209680" y="3886200"/>
            <a:ext cx="289404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886200"/>
            <a:ext cx="289548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19520" y="4267080"/>
            <a:ext cx="3200040" cy="1371240"/>
            <a:chOff x="2819520" y="4267080"/>
            <a:chExt cx="3200040" cy="1371240"/>
          </a:xfrm>
        </p:grpSpPr>
        <p:sp>
          <p:nvSpPr>
            <p:cNvPr id="156" name=""/>
            <p:cNvSpPr/>
            <p:nvPr/>
          </p:nvSpPr>
          <p:spPr>
            <a:xfrm>
              <a:off x="2920320" y="4419360"/>
              <a:ext cx="909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819520" y="4267080"/>
              <a:ext cx="3200040" cy="1371240"/>
              <a:chOff x="2819520" y="4267080"/>
              <a:chExt cx="3200040" cy="13712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54160" y="4267080"/>
                <a:ext cx="909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19520" y="4927320"/>
                <a:ext cx="909360" cy="152280"/>
                <a:chOff x="2819520" y="4927320"/>
                <a:chExt cx="909360" cy="15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819520" y="50796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19520" y="4927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42880" y="4470120"/>
                <a:ext cx="909360" cy="152280"/>
                <a:chOff x="5042880" y="4470120"/>
                <a:chExt cx="909360" cy="15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42880" y="46224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42880" y="4470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110200" y="5028840"/>
                <a:ext cx="909360" cy="152280"/>
                <a:chOff x="5110200" y="5028840"/>
                <a:chExt cx="909360" cy="15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110200" y="5181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10200" y="50288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886840" y="5384520"/>
                <a:ext cx="909360" cy="152280"/>
                <a:chOff x="2886840" y="5384520"/>
                <a:chExt cx="909360" cy="15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886840" y="55368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886840" y="53845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931200" y="4622760"/>
                <a:ext cx="909360" cy="152280"/>
                <a:chOff x="3931200" y="4622760"/>
                <a:chExt cx="909360" cy="15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931200" y="4775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31200" y="462276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41720" y="5486040"/>
                <a:ext cx="909360" cy="152280"/>
                <a:chOff x="4941720" y="5486040"/>
                <a:chExt cx="909360" cy="15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1720" y="5638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41720" y="5486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" name=""/>
          <p:cNvSpPr/>
          <p:nvPr/>
        </p:nvSpPr>
        <p:spPr>
          <a:xfrm>
            <a:off x="1600200" y="3048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other way to increase the rigor of a Venn Diagram is to require a written summary at the botto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838080"/>
            <a:ext cx="4495680" cy="36576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914400"/>
            <a:ext cx="4572000" cy="36576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72000"/>
            <a:ext cx="9144000" cy="352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mmary: Animals and plants have many similarities and differe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son Matrix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ally represents similarities and differen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lps students systematically organize information about the items they are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280" y="533520"/>
          <a:ext cx="8686800" cy="6019560"/>
        </p:xfrm>
        <a:graphic>
          <a:graphicData uri="http://schemas.openxmlformats.org/drawingml/2006/table">
            <a:tbl>
              <a:tblPr/>
              <a:tblGrid>
                <a:gridCol w="1752840"/>
                <a:gridCol w="1371600"/>
                <a:gridCol w="1371600"/>
                <a:gridCol w="1641240"/>
                <a:gridCol w="25495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sing Organizers to facilitate writing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 Organizers can be turned into useful tools to facilitate wri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on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04920" y="838080"/>
          <a:ext cx="3276360" cy="2361960"/>
        </p:xfrm>
        <a:graphic>
          <a:graphicData uri="http://schemas.openxmlformats.org/drawingml/2006/table">
            <a:tbl>
              <a:tblPr/>
              <a:tblGrid>
                <a:gridCol w="482400"/>
                <a:gridCol w="480960"/>
                <a:gridCol w="482760"/>
                <a:gridCol w="480960"/>
                <a:gridCol w="13492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4952880" y="304920"/>
            <a:ext cx="3962520" cy="647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572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0040" y="1083600"/>
            <a:ext cx="5750640" cy="891000"/>
            <a:chOff x="410040" y="1083600"/>
            <a:chExt cx="5750640" cy="891000"/>
          </a:xfrm>
        </p:grpSpPr>
        <p:sp>
          <p:nvSpPr>
            <p:cNvPr id="195" name=""/>
            <p:cNvSpPr/>
            <p:nvPr/>
          </p:nvSpPr>
          <p:spPr>
            <a:xfrm flipV="1">
              <a:off x="410040" y="1083600"/>
              <a:ext cx="5586840" cy="89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56840" y="1224000"/>
              <a:ext cx="4803840" cy="1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05520" y="1523880"/>
            <a:ext cx="37335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5909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6576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6880" y="1752480"/>
            <a:ext cx="3353040" cy="2590920"/>
            <a:chOff x="2666880" y="1752480"/>
            <a:chExt cx="3353040" cy="2590920"/>
          </a:xfrm>
        </p:grpSpPr>
        <p:sp>
          <p:nvSpPr>
            <p:cNvPr id="201" name=""/>
            <p:cNvSpPr/>
            <p:nvPr/>
          </p:nvSpPr>
          <p:spPr>
            <a:xfrm>
              <a:off x="2743200" y="2362320"/>
              <a:ext cx="32004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1752480"/>
              <a:ext cx="3200400" cy="3812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95480" y="2895480"/>
              <a:ext cx="3124440" cy="14479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6483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3886200"/>
            <a:ext cx="2667240" cy="1676160"/>
            <a:chOff x="609480" y="3886200"/>
            <a:chExt cx="2667240" cy="1676160"/>
          </a:xfrm>
        </p:grpSpPr>
        <p:grpSp>
          <p:nvGrpSpPr>
            <p:cNvPr id="206" name=""/>
            <p:cNvGrpSpPr/>
            <p:nvPr/>
          </p:nvGrpSpPr>
          <p:grpSpPr>
            <a:xfrm>
              <a:off x="2133720" y="3886200"/>
              <a:ext cx="1143000" cy="609480"/>
              <a:chOff x="2133720" y="3886200"/>
              <a:chExt cx="1143000" cy="609480"/>
            </a:xfrm>
          </p:grpSpPr>
          <p:sp>
            <p:nvSpPr>
              <p:cNvPr id="207" name=""/>
              <p:cNvSpPr/>
              <p:nvPr/>
            </p:nvSpPr>
            <p:spPr>
              <a:xfrm>
                <a:off x="213372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1460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09480" y="3886200"/>
              <a:ext cx="1143000" cy="609480"/>
              <a:chOff x="609480" y="3886200"/>
              <a:chExt cx="1143000" cy="609480"/>
            </a:xfrm>
          </p:grpSpPr>
          <p:sp>
            <p:nvSpPr>
              <p:cNvPr id="210" name=""/>
              <p:cNvSpPr/>
              <p:nvPr/>
            </p:nvSpPr>
            <p:spPr>
              <a:xfrm>
                <a:off x="60948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9036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43000" y="4952880"/>
              <a:ext cx="1143000" cy="609480"/>
              <a:chOff x="1143000" y="4952880"/>
              <a:chExt cx="1143000" cy="6094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4300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2388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1066680" y="2209680"/>
            <a:ext cx="5486400" cy="3124440"/>
            <a:chOff x="1066680" y="2209680"/>
            <a:chExt cx="5486400" cy="3124440"/>
          </a:xfrm>
        </p:grpSpPr>
        <p:sp>
          <p:nvSpPr>
            <p:cNvPr id="216" name=""/>
            <p:cNvSpPr/>
            <p:nvPr/>
          </p:nvSpPr>
          <p:spPr>
            <a:xfrm flipV="1">
              <a:off x="1066680" y="2209680"/>
              <a:ext cx="4419720" cy="18288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438280" y="3123720"/>
              <a:ext cx="41148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600200" y="4343400"/>
              <a:ext cx="4419720" cy="9907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uiding Studen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lower level students-choose the characteristics yoursel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higher level students-ask students to choose the characteristics upon which to base the comparis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ecking your own understand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plete the exercise on page 16 in your workbook… and discuss with group memb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compare objects and ideas all the time in their personal l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can use this process to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eliberately and rigorousl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deepen student’s understanding of the knowledge they are learn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odule Reflectio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nk about the questions on page 18 and share any though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the planning guide on page 19 to record ideas and thoughts for implementation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eat Websit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csun.edu/~vceed002/books/sourcebook/chapters/9-graphic-organizers/files/venn-topics.htm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Comparing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lete the Reflection on page 10 of your workbook…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are” your thoughts with your group memb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Compar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s module will cover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How to give students a model for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Using familiar content to teach students the steps for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2514600"/>
            <a:ext cx="906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characteristic of the items on which you want to base your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EPS TO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8380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items you want to com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038480"/>
            <a:ext cx="8762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in how the items are similar and different with respect to th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ive Students a Mode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tudents need to be pushed beyond the kind of comparing they do on a daily bas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he key to an effective comparison is to identify important characteristics that will enhance their understandi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Use Familiar Cont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everyday examples when teaching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feteria food vs. homemade lunc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box vs. W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ercrombie vs. American Eag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will be able to understand the process more deeply when using familiar content at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ive Students Graphic Organiz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isual tools are important in making comparis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nn Diagrams can be made more rigorous by introduc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haracteristic or qualit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to be compar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iew the use of characteristics in Venn Diagrams on pp12-13 in your workboo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03:07Z</dcterms:created>
  <dc:creator>Erie 1 Staff-Mobile Labs</dc:creator>
  <dc:description/>
  <cp:keywords/>
  <dc:language>en-US</dc:language>
  <cp:lastModifiedBy>Monica Burgio-Daigler</cp:lastModifiedBy>
  <dcterms:modified xsi:type="dcterms:W3CDTF">2010-08-11T15:10:34Z</dcterms:modified>
  <cp:revision>8</cp:revision>
  <dc:subject/>
  <dc:title>Compa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