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E6D-B7D5-4B18-921B-55B96B54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A9A-A1A2-4015-BE4A-DA72D14E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626-C755-4C0F-B4A6-ACA470A4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746E-D5AF-4563-99DD-5E7A5D97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73CB-366B-4A15-BDCA-B0BAB768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F65B-B132-449F-9E7B-F6AE225C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B0D2-C0AD-4A93-9B27-D1252494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7969-5610-47DC-98C3-800017BB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0066-0804-4211-8E35-AE187EDF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C419-E05C-40C2-BAB6-BDB717FE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6123-53B1-4F8C-83BD-64B2EAC8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596-EB66-48C2-82F5-34A15826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B30F-D598-426C-8820-0442F5E7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28E4-B2FD-4F93-81AF-7D21841A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BDC5-A995-4B47-92D4-743CA507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FB93-37FA-4D74-9E54-0759C0BD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3E8C-E7FB-4930-AB2F-DE4489A1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BB10-7F48-476A-A8FE-E5D3785E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F20-ABAA-43AC-8710-E89BBBDE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FD03-9648-4DE4-B8E2-0CC8AB0E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3BD-CFD6-4244-896D-4589F728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E95A-3BEF-41F1-8150-E9F94E64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B008-6CD9-4378-B994-129111E8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B41-B7EA-4CD5-B890-A9D4EC41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5799-5D32-4A30-AD7F-E4D18771AA5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D4FF-4299-4237-9DEB-8B4C52885C0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sun.edu/~vceed002/books/sourcebook/chapters/9-graphic-organizers/files/venn-topics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omparing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8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assroom Instruction that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- Identifying Similarities and Differenc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1066680"/>
            <a:ext cx="2514600" cy="2362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1143000"/>
            <a:ext cx="2514600" cy="2362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191120"/>
            <a:ext cx="2514600" cy="2361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514600" cy="2361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808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1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3657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2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905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209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2209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1905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438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2666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38080" y="5029200"/>
            <a:ext cx="3276720" cy="457200"/>
            <a:chOff x="838080" y="5029200"/>
            <a:chExt cx="3276720" cy="457200"/>
          </a:xfrm>
        </p:grpSpPr>
        <p:sp>
          <p:nvSpPr>
            <p:cNvPr id="117" name=""/>
            <p:cNvSpPr/>
            <p:nvPr/>
          </p:nvSpPr>
          <p:spPr>
            <a:xfrm>
              <a:off x="2057400" y="5029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57400" y="5257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57400" y="54864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5029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00400" y="5029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43400" y="1219320"/>
            <a:ext cx="4800240" cy="2125440"/>
            <a:chOff x="4343400" y="1219320"/>
            <a:chExt cx="4800240" cy="2125440"/>
          </a:xfrm>
        </p:grpSpPr>
        <p:sp>
          <p:nvSpPr>
            <p:cNvPr id="123" name=""/>
            <p:cNvSpPr/>
            <p:nvPr/>
          </p:nvSpPr>
          <p:spPr>
            <a:xfrm>
              <a:off x="4343400" y="1219320"/>
              <a:ext cx="4800240" cy="2056320"/>
            </a:xfrm>
            <a:prstGeom prst="leftArrowCallout">
              <a:avLst>
                <a:gd name="adj1" fmla="val 25002"/>
                <a:gd name="adj2" fmla="val 25000"/>
                <a:gd name="adj3" fmla="val 38906"/>
                <a:gd name="adj4" fmla="val 6667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75200" y="1301040"/>
              <a:ext cx="326808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asy to see that items are very different for this characteristic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419720" y="4267080"/>
            <a:ext cx="4952160" cy="1905120"/>
            <a:chOff x="4419720" y="4267080"/>
            <a:chExt cx="4952160" cy="1905120"/>
          </a:xfrm>
        </p:grpSpPr>
        <p:sp>
          <p:nvSpPr>
            <p:cNvPr id="126" name=""/>
            <p:cNvSpPr/>
            <p:nvPr/>
          </p:nvSpPr>
          <p:spPr>
            <a:xfrm>
              <a:off x="4419720" y="4267080"/>
              <a:ext cx="4750560" cy="1905120"/>
            </a:xfrm>
            <a:prstGeom prst="leftArrowCallout">
              <a:avLst>
                <a:gd name="adj1" fmla="val 25002"/>
                <a:gd name="adj2" fmla="val 25000"/>
                <a:gd name="adj3" fmla="val 41560"/>
                <a:gd name="adj4" fmla="val 6667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37640" y="4343400"/>
              <a:ext cx="32342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very similar for this characteristic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057400" y="5715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19320" y="61102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762120"/>
            <a:ext cx="2743200" cy="22860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380880" y="152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762120"/>
            <a:ext cx="2971800" cy="228600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61102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66880" y="1371600"/>
            <a:ext cx="3657600" cy="1218600"/>
            <a:chOff x="2666880" y="1371600"/>
            <a:chExt cx="3657600" cy="1218600"/>
          </a:xfrm>
        </p:grpSpPr>
        <p:sp>
          <p:nvSpPr>
            <p:cNvPr id="136" name=""/>
            <p:cNvSpPr/>
            <p:nvPr/>
          </p:nvSpPr>
          <p:spPr>
            <a:xfrm>
              <a:off x="2707560" y="1371600"/>
              <a:ext cx="1097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666880" y="1501920"/>
              <a:ext cx="3657600" cy="1088280"/>
              <a:chOff x="2666880" y="1501920"/>
              <a:chExt cx="3657600" cy="108828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2666880" y="1501920"/>
                <a:ext cx="3657600" cy="174240"/>
                <a:chOff x="2666880" y="1501920"/>
                <a:chExt cx="3657600" cy="1742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666880" y="1501920"/>
                  <a:ext cx="1097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" name=""/>
                <p:cNvGrpSpPr/>
                <p:nvPr/>
              </p:nvGrpSpPr>
              <p:grpSpPr>
                <a:xfrm>
                  <a:off x="5227200" y="1545480"/>
                  <a:ext cx="1097280" cy="130680"/>
                  <a:chOff x="5227200" y="1545480"/>
                  <a:chExt cx="1097280" cy="1306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5227200" y="167616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227200" y="154548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" name=""/>
              <p:cNvGrpSpPr/>
              <p:nvPr/>
            </p:nvGrpSpPr>
            <p:grpSpPr>
              <a:xfrm>
                <a:off x="3885840" y="1545480"/>
                <a:ext cx="1137960" cy="1044720"/>
                <a:chOff x="3885840" y="1545480"/>
                <a:chExt cx="1137960" cy="104472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3926520" y="1980720"/>
                  <a:ext cx="1097280" cy="130320"/>
                  <a:chOff x="3926520" y="1980720"/>
                  <a:chExt cx="1097280" cy="13032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3926520" y="211104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3926520" y="198072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3885840" y="2459880"/>
                  <a:ext cx="1097280" cy="130320"/>
                  <a:chOff x="3885840" y="2459880"/>
                  <a:chExt cx="1097280" cy="1303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3885840" y="259020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3885840" y="245988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3885840" y="1545480"/>
                  <a:ext cx="1097280" cy="130320"/>
                  <a:chOff x="3885840" y="1545480"/>
                  <a:chExt cx="1097280" cy="13032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3885840" y="167580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3885840" y="154548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53" name=""/>
          <p:cNvSpPr/>
          <p:nvPr/>
        </p:nvSpPr>
        <p:spPr>
          <a:xfrm>
            <a:off x="2209680" y="3886200"/>
            <a:ext cx="2894040" cy="22860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3886200"/>
            <a:ext cx="2895480" cy="228600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819520" y="4267080"/>
            <a:ext cx="3200040" cy="1371240"/>
            <a:chOff x="2819520" y="4267080"/>
            <a:chExt cx="3200040" cy="1371240"/>
          </a:xfrm>
        </p:grpSpPr>
        <p:sp>
          <p:nvSpPr>
            <p:cNvPr id="156" name=""/>
            <p:cNvSpPr/>
            <p:nvPr/>
          </p:nvSpPr>
          <p:spPr>
            <a:xfrm>
              <a:off x="2920320" y="4419360"/>
              <a:ext cx="909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819520" y="4267080"/>
              <a:ext cx="3200040" cy="1371240"/>
              <a:chOff x="2819520" y="4267080"/>
              <a:chExt cx="3200040" cy="1371240"/>
            </a:xfrm>
          </p:grpSpPr>
          <p:sp>
            <p:nvSpPr>
              <p:cNvPr id="158" name=""/>
              <p:cNvSpPr/>
              <p:nvPr/>
            </p:nvSpPr>
            <p:spPr>
              <a:xfrm>
                <a:off x="2954160" y="4267080"/>
                <a:ext cx="909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2819520" y="4927320"/>
                <a:ext cx="909360" cy="152280"/>
                <a:chOff x="2819520" y="4927320"/>
                <a:chExt cx="909360" cy="152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819520" y="507960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819520" y="49273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042880" y="4470120"/>
                <a:ext cx="909360" cy="152280"/>
                <a:chOff x="5042880" y="4470120"/>
                <a:chExt cx="909360" cy="152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042880" y="462240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042880" y="44701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110200" y="5028840"/>
                <a:ext cx="909360" cy="152280"/>
                <a:chOff x="5110200" y="5028840"/>
                <a:chExt cx="909360" cy="152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110200" y="51811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110200" y="502884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886840" y="5384520"/>
                <a:ext cx="909360" cy="152280"/>
                <a:chOff x="2886840" y="5384520"/>
                <a:chExt cx="909360" cy="1522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886840" y="553680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886840" y="53845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931200" y="4622760"/>
                <a:ext cx="909360" cy="152280"/>
                <a:chOff x="3931200" y="4622760"/>
                <a:chExt cx="909360" cy="152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931200" y="477504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931200" y="462276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941720" y="5486040"/>
                <a:ext cx="909360" cy="152280"/>
                <a:chOff x="4941720" y="5486040"/>
                <a:chExt cx="909360" cy="152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941720" y="56383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941720" y="548604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7" name=""/>
          <p:cNvSpPr/>
          <p:nvPr/>
        </p:nvSpPr>
        <p:spPr>
          <a:xfrm>
            <a:off x="1600200" y="30481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30481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Venn Diagram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other way to increase the rigor of a Venn Diagram is to require a written summary at the bottom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e example next slid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4800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838080"/>
            <a:ext cx="4495680" cy="36576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358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914400"/>
            <a:ext cx="4572000" cy="365760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472000"/>
            <a:ext cx="9144000" cy="352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mmary: Animals and plants have many similarities and differen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omparison Matrix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phically represents similarities and differen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elps students systematically organize information about the items they are compar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52280" y="533520"/>
          <a:ext cx="8686800" cy="6019560"/>
        </p:xfrm>
        <a:graphic>
          <a:graphicData uri="http://schemas.openxmlformats.org/drawingml/2006/table">
            <a:tbl>
              <a:tblPr/>
              <a:tblGrid>
                <a:gridCol w="1752840"/>
                <a:gridCol w="1371600"/>
                <a:gridCol w="1371600"/>
                <a:gridCol w="1641240"/>
                <a:gridCol w="25495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   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3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Using Organizers to facilitate writing…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phic Organizers can be turned into useful tools to facilitate wri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e example on next slid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304920" y="838080"/>
          <a:ext cx="3276360" cy="2361960"/>
        </p:xfrm>
        <a:graphic>
          <a:graphicData uri="http://schemas.openxmlformats.org/drawingml/2006/table">
            <a:tbl>
              <a:tblPr/>
              <a:tblGrid>
                <a:gridCol w="482400"/>
                <a:gridCol w="480960"/>
                <a:gridCol w="482760"/>
                <a:gridCol w="480960"/>
                <a:gridCol w="134928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m &amp; Di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m &amp; Di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m &amp; Di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4952880" y="304920"/>
            <a:ext cx="3962520" cy="647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5720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10040" y="1083600"/>
            <a:ext cx="5750640" cy="891000"/>
            <a:chOff x="410040" y="1083600"/>
            <a:chExt cx="5750640" cy="891000"/>
          </a:xfrm>
        </p:grpSpPr>
        <p:sp>
          <p:nvSpPr>
            <p:cNvPr id="195" name=""/>
            <p:cNvSpPr/>
            <p:nvPr/>
          </p:nvSpPr>
          <p:spPr>
            <a:xfrm flipV="1">
              <a:off x="410040" y="1083600"/>
              <a:ext cx="5586840" cy="891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356840" y="1224000"/>
              <a:ext cx="4803840" cy="1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105520" y="1523880"/>
            <a:ext cx="373356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/Exp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259092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/Exp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365760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/Exp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666880" y="1752480"/>
            <a:ext cx="3353040" cy="2590920"/>
            <a:chOff x="2666880" y="1752480"/>
            <a:chExt cx="3353040" cy="2590920"/>
          </a:xfrm>
        </p:grpSpPr>
        <p:sp>
          <p:nvSpPr>
            <p:cNvPr id="201" name=""/>
            <p:cNvSpPr/>
            <p:nvPr/>
          </p:nvSpPr>
          <p:spPr>
            <a:xfrm>
              <a:off x="2743200" y="2362320"/>
              <a:ext cx="3200400" cy="761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66880" y="1752480"/>
              <a:ext cx="3200400" cy="38124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95480" y="2895480"/>
              <a:ext cx="3124440" cy="144792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64832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09480" y="3886200"/>
            <a:ext cx="2667240" cy="1676160"/>
            <a:chOff x="609480" y="3886200"/>
            <a:chExt cx="2667240" cy="1676160"/>
          </a:xfrm>
        </p:grpSpPr>
        <p:grpSp>
          <p:nvGrpSpPr>
            <p:cNvPr id="206" name=""/>
            <p:cNvGrpSpPr/>
            <p:nvPr/>
          </p:nvGrpSpPr>
          <p:grpSpPr>
            <a:xfrm>
              <a:off x="2133720" y="3886200"/>
              <a:ext cx="1143000" cy="609480"/>
              <a:chOff x="2133720" y="3886200"/>
              <a:chExt cx="1143000" cy="609480"/>
            </a:xfrm>
          </p:grpSpPr>
          <p:sp>
            <p:nvSpPr>
              <p:cNvPr id="207" name=""/>
              <p:cNvSpPr/>
              <p:nvPr/>
            </p:nvSpPr>
            <p:spPr>
              <a:xfrm>
                <a:off x="213372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51460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609480" y="3886200"/>
              <a:ext cx="1143000" cy="609480"/>
              <a:chOff x="609480" y="3886200"/>
              <a:chExt cx="1143000" cy="609480"/>
            </a:xfrm>
          </p:grpSpPr>
          <p:sp>
            <p:nvSpPr>
              <p:cNvPr id="210" name=""/>
              <p:cNvSpPr/>
              <p:nvPr/>
            </p:nvSpPr>
            <p:spPr>
              <a:xfrm>
                <a:off x="60948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9036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143000" y="4952880"/>
              <a:ext cx="1143000" cy="609480"/>
              <a:chOff x="1143000" y="4952880"/>
              <a:chExt cx="1143000" cy="609480"/>
            </a:xfrm>
          </p:grpSpPr>
          <p:sp>
            <p:nvSpPr>
              <p:cNvPr id="213" name=""/>
              <p:cNvSpPr/>
              <p:nvPr/>
            </p:nvSpPr>
            <p:spPr>
              <a:xfrm>
                <a:off x="1143000" y="495288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23880" y="495288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1066680" y="2209680"/>
            <a:ext cx="5486400" cy="3124440"/>
            <a:chOff x="1066680" y="2209680"/>
            <a:chExt cx="5486400" cy="3124440"/>
          </a:xfrm>
        </p:grpSpPr>
        <p:sp>
          <p:nvSpPr>
            <p:cNvPr id="216" name=""/>
            <p:cNvSpPr/>
            <p:nvPr/>
          </p:nvSpPr>
          <p:spPr>
            <a:xfrm flipV="1">
              <a:off x="1066680" y="2209680"/>
              <a:ext cx="4419720" cy="18288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2438280" y="3123720"/>
              <a:ext cx="4114800" cy="1219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600200" y="4343400"/>
              <a:ext cx="4419720" cy="99072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uiding Student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 lower level students-choose the characteristics yoursel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 higher level students-ask students to choose the characteristics upon which to base the comparis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hecking your own understanding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mplete the exercise on page 16 in your workbook… and discuss with group memb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omparing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udents compare objects and ideas all the time in their personal liv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e can use this process to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deliberately and rigorousl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deepen student’s understanding of the knowledge they are learn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Module Reflection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nk about the questions on page 18 and share any though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se the planning guide on page 19 to record ideas and thoughts for implementation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reat Websites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www.csun.edu/~vceed002/books/sourcebook/chapters/9-graphic-organizers/files/venn-topics.htm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Comparing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omplete the Reflection on page 10 of your workbook…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ompare” your thoughts with your group memb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Comparing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s module will cover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How to give students a model for the proces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Using familiar content to teach students the steps for compar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Graphic organiz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320" y="2514600"/>
            <a:ext cx="906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the characteristic of the items on which you want to base your compari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EPS TO COMPA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83808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the items you want to comp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4038480"/>
            <a:ext cx="8762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lain how the items are similar and different with respect to the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ive Students a Mode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Students need to be pushed beyond the kind of comparing they do on a daily basi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The key to an effective comparison is to identify important characteristics that will enhance their understanding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Use Familiar Conten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se everyday examples when teaching the proces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afeteria food vs. homemade lunch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Xbox vs. W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bercrombie vs. American Eagl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udents will be able to understand the process more deeply when using familiar content at firs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ive Students Graphic Organiz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isual tools are important in making comparison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nn Diagrams can be made more rigorous by introducing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characteristic or qualit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to be compar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Venn Diagram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view the use of characteristics in Venn Diagrams on pp12-13 in your workboo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5:03:07Z</dcterms:created>
  <dc:creator>Erie 1 Staff-Mobile Labs</dc:creator>
  <dc:description/>
  <cp:keywords/>
  <dc:language>en-US</dc:language>
  <cp:lastModifiedBy>Monica Burgio-Daigler</cp:lastModifiedBy>
  <dcterms:modified xsi:type="dcterms:W3CDTF">2010-08-11T15:10:34Z</dcterms:modified>
  <cp:revision>8</cp:revision>
  <dc:subject/>
  <dc:title>Compa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