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63115-7E6E-46A0-8BA3-1BF6CFDF9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0AE12-7985-49C5-B4F4-55EBE6A1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A9C54-F2CA-40F8-95EB-78F98F8B0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BC521-476B-461F-B51C-6B4ABB39B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DC968-B88F-45A5-AE6D-B0772ED25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747B5-01F5-4F60-AB16-5C6472DE9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2FF9F-46F6-4CD0-8461-4A74DFD83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B4673-B6D9-46E5-983E-860C23626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B6477-3C1C-46DC-B062-ACC534296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8B3B9-77DD-4748-A3EC-564BF023D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F5022-55C2-43F7-BD20-790AB5FBC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4F0E-D0DC-4ED9-BF3C-76BE456E7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1738-2DB1-4D04-A53A-2B18D65F8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9A625-435F-4EEE-96B1-86E3586D3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BF209-E8F2-4100-A371-850655390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8F62A-7C02-4E68-A497-B76B835FF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AE4B7-27A1-49D2-98FA-4F81C2477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FC956-794A-4F79-9CAE-5BF934BDC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1963-AD34-470D-9A0D-5D69D18D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EACA8-0B08-44AD-8B0A-F4B7754F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D744-19FC-4CC7-8E46-4550DD383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6DF17-E21B-4DBB-977F-3E15B6B5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E4D8-6FE7-4BD6-812B-1F312A07C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7E8F-A0D6-442E-85FB-D098E7A8E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6CE4-FD7F-44B1-95D2-22C952CC73C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0585-80D6-4717-B58C-B54AE4CD9A5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7:39Z</dcterms:modified>
  <cp:revision>10</cp:revision>
  <dc:subject/>
  <dc:title>Common Formative Assessments   for  Social Studies</dc:title>
</cp:coreProperties>
</file>