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670-130A-45A9-8589-F814C8EB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B5D-B54B-4FB0-ADCC-71A096D3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8A2-3375-43B7-84B6-C23F511C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CCF-64D0-492F-8217-5C08273B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35AF-209E-4472-957A-4CD001E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D58C-BABF-4D49-A16A-5A849F85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E36D-C6C1-4F37-9FD4-A6EBA205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511D-DF7C-4A68-A5D5-E2EC0D3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433-1F26-479C-A5C0-8834304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8797-5A7B-4401-9848-D117FD6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9F7-B7A5-4C9B-9A6E-96B6C5EA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739-5D46-4C4A-AA2B-A36AF32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FE9-A7FB-44C1-97E1-2A662422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0991-7199-4CB2-8C50-D03CD5A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BD9C-38A3-4DDE-B580-FFAB2F9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78D-3D12-4CE1-B8A2-5EBDC4C5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0C0-2A07-45FD-A34F-75F8E156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CE4-C4E2-4554-A45E-E816854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70C-795F-4394-805C-EE0CDB5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0AE-CE9D-41CE-A302-FA182C66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504-CA09-4F29-8D17-8ECD4AD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331-F576-4925-9818-0304A40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DF1-C971-4486-86A5-DB523D01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0D8-FACB-40E3-8B52-126F6D9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3813-1477-4068-B856-4FF79726F6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6DE1-04D5-4417-AD28-C15F1DCF4B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56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57200"/>
          <a:ext cx="8229600" cy="5811840"/>
        </p:xfrm>
        <a:graphic>
          <a:graphicData uri="http://schemas.openxmlformats.org/drawingml/2006/table">
            <a:tbl>
              <a:tblPr/>
              <a:tblGrid>
                <a:gridCol w="2779560"/>
                <a:gridCol w="2724480"/>
                <a:gridCol w="2725560"/>
              </a:tblGrid>
              <a:tr h="58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abatic 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iolis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wind and pressure be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b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h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ime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de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science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Daigler</cp:lastModifiedBy>
  <dcterms:modified xsi:type="dcterms:W3CDTF">2008-12-15T16:30:09Z</dcterms:modified>
  <cp:revision>7</cp:revision>
  <dc:subject/>
  <dc:title>Classifying</dc:title>
</cp:coreProperties>
</file>