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E9A-E63A-4946-9942-DC37D50A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E1E-DB8A-4930-9315-3E6ABBB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EB2-2C11-4C32-8C73-ADCA4079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C6D-1137-46DB-A115-4361353A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C8C9-10B5-4A97-B2D3-4BD71E75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E596-454E-4A4D-B21A-40878F6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947B-3E25-458D-8316-7BC4DB3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924B-C13F-40E0-AB2D-1FF93BF1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C1A-2C3B-4CF6-B46E-F8B5295A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245-9B09-45A8-8BD7-104B991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4E85-2F13-4EC7-BCCD-8A9757D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7D3-2B76-4C4F-9E4D-D40F584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828D-77D7-4032-B11B-491FE6C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4973-52FC-411E-87FE-0E21D4C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83B6-1B7E-4D9E-BD01-DBA2C8C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F599-A704-4886-A36B-75355A49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4B00-A883-4690-B5E7-9E40C822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A22-A86A-4C6A-BDA2-7713B0A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E69-AA24-4AF6-986B-19BAEFD9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FDE-6EB0-4F53-8656-0BB4376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185-5A16-40D4-AB08-CB8792AF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509-2FA3-4523-98B8-82C0DFA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502-3201-48B7-AEF3-46EF5E61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A27-CBF8-4B0C-8509-44AC2F8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1A66-7CF3-43B4-A2F5-288E5FFF82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6305-FB4E-4C11-8841-A3869424F7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56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57200"/>
          <a:ext cx="8229600" cy="5811840"/>
        </p:xfrm>
        <a:graphic>
          <a:graphicData uri="http://schemas.openxmlformats.org/drawingml/2006/table">
            <a:tbl>
              <a:tblPr/>
              <a:tblGrid>
                <a:gridCol w="2779560"/>
                <a:gridCol w="2724480"/>
                <a:gridCol w="2725560"/>
              </a:tblGrid>
              <a:tr h="58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abatic 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iolis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wind and pressure be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b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h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ime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de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science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Daigler</cp:lastModifiedBy>
  <dcterms:modified xsi:type="dcterms:W3CDTF">2008-12-15T16:30:09Z</dcterms:modified>
  <cp:revision>7</cp:revision>
  <dc:subject/>
  <dc:title>Classifying</dc:title>
</cp:coreProperties>
</file>