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8EB-2F5C-4754-B51A-EDF5217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2DE-9A46-4288-B17C-ED27493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6E0-CCD2-43CE-9CB5-BF82781C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2A5-F604-4AEC-8927-FF5C1DE2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913-750E-4001-92E7-160E6AA0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376B-3ACA-463C-9E77-85E3B4B3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4663-BA43-4A09-B9A9-488FA63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7604-43B8-4F9C-AC12-48534C9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58B8-4E51-41C8-9B6E-006B03B9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774-B861-441E-BA4F-E37EEC9F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D533-3BA8-4742-B2EF-B5DE1C4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DDE-8A27-445B-9AAC-A953B975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0C40-3CC9-403A-8329-20F506E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3BFB-38F9-4048-BEA1-34257A7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5992-1166-4084-9579-E672D8AD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63C-55DB-44B3-A1EC-9CB97B32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749A-B411-4B52-8D27-EFFC062C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60C-DDDF-46D4-9AE0-1DF747A6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18C-A7A8-4E00-ADF2-D3AFCEF0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E9A-D302-4300-832B-97E45E3E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779-E5AB-4397-9ACB-9610BE65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753-8BAE-49C4-A26D-9A4D45D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33C-F2E9-4A1F-9778-BFF028A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8BE-6907-4279-995E-EF3500F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CFBD-212A-4D9A-832A-DFEBA6868C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0D5E-61A9-4BA0-8AE9-4446CDD452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74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990720"/>
          <a:ext cx="7925040" cy="3657600"/>
        </p:xfrm>
        <a:graphic>
          <a:graphicData uri="http://schemas.openxmlformats.org/drawingml/2006/table">
            <a:tbl>
              <a:tblPr/>
              <a:tblGrid>
                <a:gridCol w="2676600"/>
                <a:gridCol w="2623680"/>
                <a:gridCol w="26247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Burgio-Daigler</cp:lastModifiedBy>
  <dcterms:modified xsi:type="dcterms:W3CDTF">2010-08-11T14:49:05Z</dcterms:modified>
  <cp:revision>8</cp:revision>
  <dc:subject/>
  <dc:title>Classifying</dc:title>
</cp:coreProperties>
</file>