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A8C-31F5-4F61-BC38-1C77F032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F0C-5F89-4A13-8AB1-8C73DAEC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344-BB30-47DC-8243-9DEBB491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429-340D-43AC-88FB-B58D6D2E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3D0-33BD-4173-B914-C6A4F54F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889E-3C80-4BCC-BCAC-5FC2063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07A2-3015-4EF7-87C3-0532E004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C80C-9935-496D-913B-69E0A79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61EE-1EFC-4151-A84C-9D9C785A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7B0D-B649-45D8-9742-2BE808F1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D119-3D80-4B01-AA61-376EA36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73B-48A5-4799-A916-2634A018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2C84-0C33-4C53-9200-A8C362C7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2F4F-9045-45C0-95C3-4688C86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8642-67EE-4EA7-BBD5-F917BAB1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AB1E-DE10-4969-917B-177A8E37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BED7-1EFC-46F4-8A73-0125B3B8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5F1-F219-4930-BA92-8F10613A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1B9-DC89-4D73-AC5B-11064A40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5DA-1B1E-4148-B50C-CE06BF20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A64-3952-46F8-B98D-F726964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635-46AB-49C4-A39C-D517F1C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A40-9429-4150-B8EA-0163420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C4D-E697-4A27-A0DE-82B9A7A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3E99-C7FE-4A63-B44B-2A01BFD901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327D-3D08-42F4-B0B4-05765655E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74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990720"/>
          <a:ext cx="7925040" cy="3657600"/>
        </p:xfrm>
        <a:graphic>
          <a:graphicData uri="http://schemas.openxmlformats.org/drawingml/2006/table">
            <a:tbl>
              <a:tblPr/>
              <a:tblGrid>
                <a:gridCol w="2676600"/>
                <a:gridCol w="2623680"/>
                <a:gridCol w="26247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Burgio-Daigler</cp:lastModifiedBy>
  <dcterms:modified xsi:type="dcterms:W3CDTF">2010-08-11T14:49:05Z</dcterms:modified>
  <cp:revision>8</cp:revision>
  <dc:subject/>
  <dc:title>Classifying</dc:title>
</cp:coreProperties>
</file>