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E584-3584-4DB0-9E38-D77593CD2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5D2E-2064-4744-BE48-19F0EBFE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5D7A-4F04-4037-9933-C1C4B48C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0D19-3F24-4782-9824-95A66DC3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F5BD-F2DC-478C-AD50-031823E0C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2886-DA40-4F72-89E8-06C4B06D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B196-0046-4FE5-AE1D-4C4CA03D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7913-607C-4209-ADD3-5646F9CE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53D1-D378-4481-94EA-4A33B60D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7B3F-147F-4398-A18B-DF46B8F9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E7BF-52EE-4BC7-9A67-C9C89B9B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3005-9812-466D-AF55-9817ABE0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DD01-00D1-499A-BC95-D3D93DF5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BA85-2C9A-4E4E-95FF-7D3376ED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76D1-B39A-452B-8B21-A1B29D0C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C345-BDEA-496C-9D8F-7007954A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A0FF-131A-43F0-937D-5F9D4251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678D-AA15-41E7-90EF-74D3CBCB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AA57-E132-45FE-8C12-47523441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D345-FAC0-4FA7-B53E-3D133EFB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3402-4AAC-4703-B1C9-2F0AFDFE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F8C6-5815-4E3D-A52C-6F0FAE01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48C8-C34A-42D8-A51C-950D7BF0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E8FF-DDA0-4B0E-AC23-83E86AEC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DA3C-2178-4C95-917D-53AEAB2ED7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597C-463A-4475-9EDA-4CC83D26BC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d360.com/index.cfm?ContentId=131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skerville Old Face"/>
              </a:rPr>
              <a:t>Classify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160" y="350532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Classroom Instruction that </a:t>
            </a: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dentifying Similarities and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skerville Old Face"/>
              </a:rPr>
              <a:t>Classify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way to classify with increased rigor, would be to give students a list of items and have them create and define their own groups and explain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e example on next slide…students would need to create their own group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187440" y="0"/>
            <a:ext cx="29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Weather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38080" y="990720"/>
          <a:ext cx="7925040" cy="3657600"/>
        </p:xfrm>
        <a:graphic>
          <a:graphicData uri="http://schemas.openxmlformats.org/drawingml/2006/table">
            <a:tbl>
              <a:tblPr/>
              <a:tblGrid>
                <a:gridCol w="2676600"/>
                <a:gridCol w="2623680"/>
                <a:gridCol w="262476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or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ling/he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 m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u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 fro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po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house ef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nd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rrica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t stre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so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 gau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752480" y="2514240"/>
            <a:ext cx="5486400" cy="3886560"/>
            <a:chOff x="1752480" y="2514240"/>
            <a:chExt cx="5486400" cy="3886560"/>
          </a:xfrm>
        </p:grpSpPr>
        <p:sp>
          <p:nvSpPr>
            <p:cNvPr id="145" name=""/>
            <p:cNvSpPr/>
            <p:nvPr/>
          </p:nvSpPr>
          <p:spPr>
            <a:xfrm>
              <a:off x="3429000" y="579132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2133720" y="2514240"/>
              <a:ext cx="16002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91120" y="2514600"/>
              <a:ext cx="1981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52480" y="32767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09880" y="426744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38680" y="419112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62920" y="41148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638320" y="2971800"/>
              <a:ext cx="68580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77120" y="3124440"/>
              <a:ext cx="7617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0" y="457200"/>
            <a:ext cx="9144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dentifying Similarities and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4960" y="1066680"/>
            <a:ext cx="5941440" cy="1068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1111"/>
                </a:solidFill>
                <a:latin typeface="Times New Roman"/>
              </a:rPr>
              <a:t>Graphic Organizer for Classif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19810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26668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27672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24382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4267080"/>
            <a:ext cx="6094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525780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502920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334120" y="4038480"/>
            <a:ext cx="609480" cy="2438640"/>
            <a:chOff x="5334120" y="4038480"/>
            <a:chExt cx="609480" cy="2438640"/>
          </a:xfrm>
        </p:grpSpPr>
        <p:sp>
          <p:nvSpPr>
            <p:cNvPr id="164" name=""/>
            <p:cNvSpPr/>
            <p:nvPr/>
          </p:nvSpPr>
          <p:spPr>
            <a:xfrm>
              <a:off x="5334120" y="40384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4120" y="49528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34120" y="58672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858000" y="4038480"/>
            <a:ext cx="609480" cy="2438640"/>
            <a:chOff x="6858000" y="4038480"/>
            <a:chExt cx="609480" cy="2438640"/>
          </a:xfrm>
        </p:grpSpPr>
        <p:sp>
          <p:nvSpPr>
            <p:cNvPr id="168" name=""/>
            <p:cNvSpPr/>
            <p:nvPr/>
          </p:nvSpPr>
          <p:spPr>
            <a:xfrm>
              <a:off x="6858000" y="40384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58000" y="49528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58000" y="58672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8098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assify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video clip on how these practices are used in different types of class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www.pd360.com/index.cfm?ContentId=1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fornian FB"/>
              </a:rPr>
              <a:t>Checking your own understanding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omplete the activity on page 27 to check your own understanding of re-classifying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sto MT"/>
              </a:rPr>
              <a:t>Classify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Planning for Classifying Worksheet on page 29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with group members where a classifying activity might be useful in your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assify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roup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ngs into definable categories base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reflection on page 22 and discuss with your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fornian FB"/>
              </a:rPr>
              <a:t>Classify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How things are classified influences our perception and behavior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How are items in a grocery store classifi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What if they were classified by color, size, or pri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fornian FB"/>
              </a:rPr>
              <a:t>Classify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sto MT"/>
              </a:rPr>
              <a:t>Purposefully grouping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 items into different categories can give us a different perspective on those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Thinking about what </a:t>
            </a:r>
            <a:r>
              <a:rPr b="0" lang="en-US" sz="3600" spc="-1" strike="noStrike">
                <a:solidFill>
                  <a:srgbClr val="ff0000"/>
                </a:solidFill>
                <a:latin typeface="Calisto MT"/>
              </a:rPr>
              <a:t>defines a particular group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 and </a:t>
            </a:r>
            <a:r>
              <a:rPr b="0" lang="en-US" sz="3600" spc="-1" strike="noStrike">
                <a:solidFill>
                  <a:srgbClr val="ff0000"/>
                </a:solidFill>
                <a:latin typeface="Calisto MT"/>
              </a:rPr>
              <a:t>why 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an item fits into the group helps students to learn more about the content they are stud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1743120" y="-107640"/>
            <a:ext cx="12490560" cy="23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assifying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ow are these items classified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2971800"/>
            <a:ext cx="1828800" cy="14479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2971800"/>
            <a:ext cx="167652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29400" y="3048120"/>
            <a:ext cx="2133720" cy="1218960"/>
          </a:xfrm>
          <a:prstGeom prst="parallelogram">
            <a:avLst>
              <a:gd name="adj" fmla="val 4376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4876920"/>
            <a:ext cx="53352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4800600"/>
            <a:ext cx="533520" cy="685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5638680"/>
            <a:ext cx="761760" cy="762120"/>
          </a:xfrm>
          <a:prstGeom prst="triangle">
            <a:avLst>
              <a:gd name="adj" fmla="val 50000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4648320"/>
            <a:ext cx="76176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4572000"/>
            <a:ext cx="91440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55627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5105520"/>
            <a:ext cx="990720" cy="838080"/>
          </a:xfrm>
          <a:prstGeom prst="parallelogram">
            <a:avLst>
              <a:gd name="adj" fmla="val 29553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91520" y="4648320"/>
            <a:ext cx="838080" cy="609480"/>
          </a:xfrm>
          <a:prstGeom prst="parallelogram">
            <a:avLst>
              <a:gd name="adj" fmla="val 343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43800" y="5410080"/>
            <a:ext cx="685800" cy="68580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91520" y="304920"/>
            <a:ext cx="5020920" cy="23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assifying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at about now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1905120"/>
            <a:ext cx="1828800" cy="1447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505320"/>
            <a:ext cx="1676520" cy="1447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743200"/>
            <a:ext cx="2133720" cy="1219320"/>
          </a:xfrm>
          <a:prstGeom prst="parallelogram">
            <a:avLst>
              <a:gd name="adj" fmla="val 4374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4724280"/>
            <a:ext cx="53352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243828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5029200"/>
            <a:ext cx="762120" cy="762120"/>
          </a:xfrm>
          <a:prstGeom prst="triangle">
            <a:avLst>
              <a:gd name="adj" fmla="val 50000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1600200"/>
            <a:ext cx="7617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3886200"/>
            <a:ext cx="91440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548640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4267080"/>
            <a:ext cx="990720" cy="838440"/>
          </a:xfrm>
          <a:prstGeom prst="parallelogram">
            <a:avLst>
              <a:gd name="adj" fmla="val 29541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153280" y="2514600"/>
            <a:ext cx="838440" cy="609480"/>
          </a:xfrm>
          <a:prstGeom prst="parallelogram">
            <a:avLst>
              <a:gd name="adj" fmla="val 343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5562720"/>
            <a:ext cx="685800" cy="68580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Times New Roman"/>
              </a:rPr>
              <a:t>Th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TEPS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111111"/>
                </a:solidFill>
                <a:latin typeface="Times New Roman"/>
              </a:rPr>
              <a:t>to Classifying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noFill/>
          <a:ln w="381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9528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Identify the items you want to classif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Select what seems to be an important item, describe key attributes and identify other items like it based on their attrib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State the rule that describes membership in this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Select another item and identify others that are lik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 Create the second category by stating the rule that describes membership in this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 the previous two steps until all  items are classified and each category has a rule that describes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 If necessary, combine categories or split them into smaller categories and state the rules for those categ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85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rouping items into definable categories on the basis of their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skerville Old Face"/>
              </a:rPr>
              <a:t>Classify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In the following example, students are given a list of terms and have to sort them into 3 categories and then name the categories and how that category is defin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990720" y="1295280"/>
          <a:ext cx="7315200" cy="5257800"/>
        </p:xfrm>
        <a:graphic>
          <a:graphicData uri="http://schemas.openxmlformats.org/drawingml/2006/table">
            <a:tbl>
              <a:tblPr/>
              <a:tblGrid>
                <a:gridCol w="3148200"/>
                <a:gridCol w="1296360"/>
                <a:gridCol w="1388880"/>
                <a:gridCol w="1481760"/>
              </a:tblGrid>
              <a:tr h="525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qu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2011320" y="88920"/>
            <a:ext cx="55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rcise:  Powers of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assify the following into 3 groups.  Explain your thin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65560" y="857160"/>
            <a:ext cx="43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Group 1    Group2       Grou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6400800"/>
            <a:ext cx="7685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6:05:16Z</dcterms:created>
  <dc:creator>Erie 1 Staff-Mobile Labs</dc:creator>
  <dc:description/>
  <dc:language>en-US</dc:language>
  <cp:lastModifiedBy>Monica Burgio-Daigler</cp:lastModifiedBy>
  <dcterms:modified xsi:type="dcterms:W3CDTF">2010-08-11T14:49:05Z</dcterms:modified>
  <cp:revision>8</cp:revision>
  <dc:subject/>
  <dc:title>Classifying</dc:title>
</cp:coreProperties>
</file>