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D3A-4368-473D-A355-E03E568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26A-B549-4804-B4D3-6FDB5852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0F8-322B-482F-BE49-814197B1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9E4-3ABA-474D-88BB-80DC2287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6C3A-45BC-4F28-B274-4CCE5B27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B131-5A9D-432C-9214-01E37180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EFF8-3DFA-4140-BD39-22EBBE31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901A-734B-4815-A4AC-721C164B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A3A3-D9A5-4D44-AA76-681914FA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631-6107-4F97-B4B8-27A99773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8641-4F6E-442E-8B0F-5C95815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057-41DC-4236-B60D-68369EC7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6F16-D34A-497A-BDF6-602AC48D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802C-2FBA-4D48-BB70-112D946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D765-4E39-4907-BCAC-2F7ADE8B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01E-B2C2-4B2E-A37C-1457FA77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786E-19E6-4033-B1E1-722A8884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072-0777-440B-B15B-305B6676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13D-805A-42F3-BA6D-EB50AEF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763-F964-4082-ABB3-3B724C54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1DA-D79B-4986-9F06-238FB1B2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273-379C-418C-A725-9EFBBED6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C3D-F17B-4154-92E4-BE88187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38E-1CD5-4238-9E0C-B89484A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8C3E-61DF-4159-A783-AD623D6CE5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00AD-BEAB-4584-AAD5-08969F3FE3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74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990720"/>
          <a:ext cx="7925040" cy="3657600"/>
        </p:xfrm>
        <a:graphic>
          <a:graphicData uri="http://schemas.openxmlformats.org/drawingml/2006/table">
            <a:tbl>
              <a:tblPr/>
              <a:tblGrid>
                <a:gridCol w="2676600"/>
                <a:gridCol w="2623680"/>
                <a:gridCol w="26247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Burgio-Daigler</cp:lastModifiedBy>
  <dcterms:modified xsi:type="dcterms:W3CDTF">2010-08-11T14:49:05Z</dcterms:modified>
  <cp:revision>8</cp:revision>
  <dc:subject/>
  <dc:title>Classifying</dc:title>
</cp:coreProperties>
</file>