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15-6EB0-4BF6-822C-833236B9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CA1-CD7F-4E17-B654-7B826B1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AA4-A342-465D-A7FF-29A0A3E6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D03-ECE5-424F-B5E6-63859ABF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D557-B941-41AC-8C97-DE956D43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DD82-D5DA-46A6-BC94-9763F5AA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551-AF13-409A-A095-697133DB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62D-81FE-431D-9A7B-0D3A490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3FB-47F9-4CB7-AF0F-2403BC0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B7B5-3BB5-43F7-856D-68DB291F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9F65-E859-4750-A7C9-18643EF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DC7-CB9F-45BF-91FF-D2D5BAC3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187-A231-4273-85C9-1A6F18A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6AAD-B145-472E-B955-EEFC3FA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C3C-558D-4DED-AABF-2CBFDD8C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2343-6B85-4029-B837-730464FE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BBF5-5882-47FD-9CFC-874B348E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3AB-D051-4646-AD3B-AC61353B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76B-6D18-43AF-A2FB-9C315745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8D1-1B6B-4EA9-8430-97621D68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3DC-5055-4B96-A867-89AD400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673-A985-4C39-A9DF-5F56840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F98-100A-42B9-A8D5-CD0E27F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AC0-E3E6-478A-94CD-6473345F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A58D-8E9F-45DB-9DA1-675B0216C2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F8A5-1AEA-4BE5-B839-04E9E3CCE0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74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990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76600"/>
                <a:gridCol w="2623680"/>
                <a:gridCol w="26247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Burgio-Daigler</cp:lastModifiedBy>
  <dcterms:modified xsi:type="dcterms:W3CDTF">2010-08-11T14:49:05Z</dcterms:modified>
  <cp:revision>8</cp:revision>
  <dc:subject/>
  <dc:title>Classifying</dc:title>
</cp:coreProperties>
</file>