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D34-EFA7-4993-BD44-04F5BFEF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053-FF36-4B43-92D2-297731A3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DAF-2E5F-4ADB-8782-D3C207C5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118-F44A-40E1-843A-671E4B4E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BB9D-7D89-48AF-97A9-DEEC2C69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1A0A-174F-4461-991F-5D41F71C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B151-CAD9-4A66-9546-030C5DAC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14C3-10FB-45D3-A6E7-B3357D4C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BA0E-B8CD-4557-BA04-00D956A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DBA-0FE3-428A-8704-982C321E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F635-DB59-4E69-8CC7-593CD51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980-E562-495E-9060-7CE68B02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1403-C349-4022-971E-9B8FF82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FEC-166C-4E4E-8C49-63E58B7A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9597-A421-428C-999C-017B877E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99C-40C3-40A1-A30C-16E66FB6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DC74-2D7C-4B01-84AD-A1AA4516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BD4-8ECA-4E5D-A4D7-B0C6748C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215-163F-4182-9EFD-8B9EE79A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8A3-275B-45C2-BDE3-765ED9C5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6FF-786C-4552-942D-30E730B6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990-0CED-4036-8EE4-D8447C4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354-7E8A-4A57-808E-7E2A4BE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92C-3788-4148-9919-AEC5742E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B0CD-DA32-4E83-8E1F-95B3A42617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7F97-AE38-4453-83AC-2BBE228947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74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990720"/>
          <a:ext cx="7925040" cy="3657600"/>
        </p:xfrm>
        <a:graphic>
          <a:graphicData uri="http://schemas.openxmlformats.org/drawingml/2006/table">
            <a:tbl>
              <a:tblPr/>
              <a:tblGrid>
                <a:gridCol w="2676600"/>
                <a:gridCol w="2623680"/>
                <a:gridCol w="26247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Burgio-Daigler</cp:lastModifiedBy>
  <dcterms:modified xsi:type="dcterms:W3CDTF">2010-08-11T14:49:05Z</dcterms:modified>
  <cp:revision>8</cp:revision>
  <dc:subject/>
  <dc:title>Classifying</dc:title>
</cp:coreProperties>
</file>