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52E-0F98-4914-BFE1-FC646C51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906-6FF1-4FBB-9BE7-36B6F634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146-0BFD-4705-A307-CA22AAF7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799-4081-454F-991C-02DEAB46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E275-6069-4DD5-8D7C-B2F0CEC2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968C-8FD3-495A-A9FF-78C92FB5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67BD-97D4-4CCE-B218-9D6343D0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E981-AA9D-4C14-AD5F-C81A7FEA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852B-AA34-457A-BDC5-2BDBADF0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970C-E436-40EC-96F8-CD6A838D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1F22-6E07-4761-BA53-DB41FF1C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96B-A7C8-4090-BDE2-97AC96D5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B3A3-6549-46AE-BF9C-9E9AF7A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42BC-05D6-4EB9-8FBE-B87B3D17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0113-227B-44CD-9D1E-ECD99571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618E-964A-4705-979D-D0ABDB6F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3D91-8C77-44C2-9F10-4996D2D6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C00-FE06-49D8-97ED-CAA86255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AF6-1B8F-4DF5-A67E-A4125D3D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EA7-2CFA-41D1-93F1-A917C6CB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615-284F-412A-A838-2D5DEF44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E0C-8FDF-4590-B9B4-542777A2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8F3-C9C2-401F-A075-47CA991F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F13-4621-4036-B9A2-1C7A8D3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366C-8649-4458-B5B9-95484D6000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9B96-BE3F-4708-8D40-76389206B2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Cheektowaga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trended are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we spiraling in gapped area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resources, support, PD do you need to support teaching and lear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7:44:09Z</dcterms:modified>
  <cp:revision>13</cp:revision>
  <dc:subject/>
  <dc:title>Starpoint PD Science</dc:title>
</cp:coreProperties>
</file>