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B0C-DEAA-45EB-9F0D-A7B9CA41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55C-0148-4655-8544-1C37905A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F35-FF99-431C-B13A-84A9002F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60A-126D-4770-837E-3411DA01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B45A-A2CC-4802-B3D3-2AF74981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3D37-E053-4EEE-98EF-B7A3E267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DDEB-A023-4BAD-88B7-31387118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4920-C05A-4E93-8FAD-9721CC3F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CC34-1CA1-441B-A863-88B1C5CE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57A2-6F7D-476E-8784-7E180486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311A-3F99-468D-8D55-2A856DF2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DD5-1299-4FC8-8F97-475C8715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49F8-5E64-46D3-B583-C9B0B687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4C15-A071-42C6-B1BE-BAB1EE2B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7303-BDEC-4B56-85F5-31AA170D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DF3C-43EE-4340-9B3D-99E495BF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8A76-E584-4D1F-B55D-015B7248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A44-D741-4BAD-821B-BC1970B1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6E2-709C-409A-A381-5D65B67C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1D5-E1E7-4F26-B725-F5F9C3C0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639-FF3B-4958-A45D-597901E8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B2B-E6E8-4885-A0B0-2A2B717B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CD8-4660-4E10-93EF-593FDED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FDC-46DC-4CF1-84A9-62F6A200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F96F-64FA-40C7-8727-33596C4603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B6BA-4A93-42CC-A1C3-8449555AC3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Cheektowaga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trended are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gapped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resources, support, PD do you need to support teaching and lear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7:44:09Z</dcterms:modified>
  <cp:revision>13</cp:revision>
  <dc:subject/>
  <dc:title>Starpoint PD Science</dc:title>
</cp:coreProperties>
</file>