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771-D379-44F1-8081-17144BFB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4E6-C6F5-43F1-B42C-0A8222AC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299-5F26-49C6-9CF9-8538F10B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738-28F6-481F-82EA-0194E960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4278-0332-4EF2-B83B-CA5DBA03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62A5-C896-4CB5-97E8-E62A5FAC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5572-B0F8-4A2F-B7C3-8495F501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1DC9-0F08-4198-B680-7C62715D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5AB1-CA6E-4008-A21D-9DC84FE0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5934-9978-466C-A12A-83A5D5A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5ED9-976E-40AE-9C36-C83E874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A91-9DFE-4ED9-86E0-C3A06E27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4969-BF60-438B-959B-0F190779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E6BD-459C-4B3B-97C6-D33F375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476C-CC7A-4A82-9963-3F890EEA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B813-749C-4E31-8D30-7F7B7DF1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6C8B-E047-4547-A8C9-CEA9F70E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298-FDA8-4AFB-AA10-11D6C98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0BB-D311-4893-8C21-D5F154F6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AD7-C5B2-42DC-8102-52359CFA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030-392B-4D7E-AC57-BBD0BA60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BA3-76F2-4FFE-BC7F-F3E685D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0DB-0E06-4285-A0C8-65F4FA9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F67-9C38-4727-9FF7-3AD26A0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7750-8B26-463F-96BB-54CC462D00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DA4-A63B-4693-A2C0-A6C4DD60A2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trended ar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gapp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7:44:09Z</dcterms:modified>
  <cp:revision>13</cp:revision>
  <dc:subject/>
  <dc:title>Starpoint PD Science</dc:title>
</cp:coreProperties>
</file>