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DC88-30B8-4000-819D-DF36AC33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B701-08AA-4703-B012-310058AB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29AC-26FA-49CE-97FC-4051CE29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EADF-8336-4F0D-A449-FF2D9994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67DA-0F22-4740-8390-58086183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1B05-E117-4B3A-AA9A-EA8125E6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DAE7-6DB8-4388-B675-E907E3D3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7698-4EB0-41A8-9BE1-4C141612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E062-7C69-4D3C-8837-3AA617EA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AF50-5F76-4616-8D3D-B8AE1C6E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DA3D-02A9-4BD4-8C10-9D74780F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20EB-4D1C-4A09-B3F2-694BD813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89F7-92F7-409D-959F-412E2014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E032-92E3-4439-8898-24DFBEB8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ECAC-6EA0-4CDE-A591-9563E294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FACE-6839-44F2-B059-59611AF2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5D9F-E9E0-4AFD-B586-27E63F0F4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F93E-5D72-4B1F-A97B-420E8E03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3C27-CB6B-49B4-BDFB-9C4A87FF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020E-FE18-4678-AEE8-A1A89036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2271-EA1B-4E96-B081-31B75D69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5F47-3791-47C5-BBB6-3A909DA3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5FED-1E8A-4E4A-AE7C-F16741F2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2FFE-FADA-44DE-8A67-4D24B6F5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E218-C069-45DE-BC98-E6FE1F3C650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939D-5020-4494-8800-B8456B54365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Cheektowaga MS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Icebreaker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nce We Last Me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-18576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ce we last met, life has been like what book, movie or song title?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ke 2 minutes to think and write on note-car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plain why this choice captures your experiences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gaps in trended (power PI) areas firs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752480" y="6095880"/>
            <a:ext cx="5658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re any the same as last year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Discussion 5-8: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e we spiraling in trended are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e we spiraling in gapped area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resources, support, PD do you need to support teaching and learning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Monica Burgio Daigler</cp:lastModifiedBy>
  <dcterms:modified xsi:type="dcterms:W3CDTF">2009-09-09T17:44:09Z</dcterms:modified>
  <cp:revision>13</cp:revision>
  <dc:subject/>
  <dc:title>Starpoint PD Science</dc:title>
</cp:coreProperties>
</file>