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ACD-D010-49C2-AC37-7BB40388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A57-6A23-4FC2-953B-C0448F20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50C-D73F-4378-85DC-AEC804C6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760-6A00-424F-ABA2-9245174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99A3-E068-45B0-8C0C-991586F2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DE9C-BF8D-4173-9EA8-4B9CD135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D08-EC83-4E7C-9608-9473CFC7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B25E-9945-4E93-8341-F4FC977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6B85-836B-40FB-B832-5BDD57A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A6B5-AAE4-46E4-A578-E67BFCD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2C29-69B7-4850-8587-64E0526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EB8-B76C-4F06-9887-31ACED8F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201D-0C09-47CC-91FB-9150A2A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AF6F-B4E4-47E0-B5A3-92691769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DAA3-39DA-42EE-BE3D-2D3B45E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27D7-F21D-4720-9ACC-43E8C457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C37D-A7A8-4812-B535-163732D8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41B-F3B9-4139-82B2-8B6BCB7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7D1-DC26-40D4-9D99-C4A96C9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379-BB91-452D-A6CD-C87E209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CD3-BDF6-4412-A4A7-E28C94D8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8A3-F238-450F-8FA3-FB58D9F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D65-EA03-4256-88B5-D04D665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51A-342B-4BF8-8964-5EB6F9B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AF0-4614-4B58-BA8E-1B22DEE79E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F7A-7D6F-41B8-A001-5B0FFD4E55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a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are the students learning the material in trend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long are you spending on those units in comparison to “non-trended”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10-14T18:39:25Z</dcterms:modified>
  <cp:revision>14</cp:revision>
  <dc:subject/>
  <dc:title>Starpoint PD Science</dc:title>
</cp:coreProperties>
</file>