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F887-4E11-4B6E-B823-ED68FBEAD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1C83-B5EC-4548-9294-15CAE822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E27F-86C6-470F-A106-C64B3BFCE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4352-395A-4057-B383-743419277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F3FC0-D14E-4E64-BD4B-F2BFB06BE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8896-B1B2-43D8-8320-8568C351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C841-8526-4A41-8B81-1EFC7820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F078-9946-4911-878E-D314A001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88E18-9636-4FDD-840C-6F4EE234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AD12-D6C7-45B7-9674-5564D62F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4756-DBC7-483E-88D0-24071AD2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251D-BC37-4D2B-8301-8B60B6A1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3DF1-1A3E-4E51-8605-40BA7810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9254-1DA3-4F79-A408-FE9896E7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E5F9-B7B6-441B-A96B-84363079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1DD1-31BE-4D32-B878-8BDEC3B8E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DD67-AA22-47F2-952C-15D452E41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3DEC-072E-4DA4-9C74-13CC1FD5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C3FC-8FBD-4BF9-946C-9F039AB0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EC1A-14EA-4AD5-8D21-C46895B2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6EFB-F085-4EEA-92C7-51E4FCE3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9920-D715-4C4B-B985-B5DDE8BC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E987-7BA2-443C-BA1A-8F2B7293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D772-A1B4-41ED-BDC8-5C2EF263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257C-69C5-4CEF-A467-8A5DBD2CE94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83EA-C785-4E98-BD37-A663B2E0F35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Cheektowaga PD</a:t>
            </a:r>
            <a:br>
              <a:rPr sz="7200"/>
            </a:b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Science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Welcome Back!!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Warm-Up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the Power PI’s in your content are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? 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38098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your students’ biggest ga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re do they struggle the mo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s Perception Reality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 Power PI’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 over time?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36576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your students’ biggest ga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44956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oritize top 3-5 improvement points based o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gap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trended (power PI) areas firs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construct Top 3 Gap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o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u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4343400"/>
            <a:ext cx="5105160" cy="1523880"/>
          </a:xfrm>
          <a:custGeom>
            <a:avLst/>
            <a:gdLst>
              <a:gd name="textAreaLeft" fmla="*/ 893160 w 5105160"/>
              <a:gd name="textAreaRight" fmla="*/ 3701160 w 5105160"/>
              <a:gd name="textAreaTop" fmla="*/ 204120 h 1523880"/>
              <a:gd name="textAreaBottom" fmla="*/ 13197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48320" y="3048120"/>
            <a:ext cx="396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Create Annual Improvement Go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bbd71"/>
                </a:solidFill>
                <a:latin typeface="Arial"/>
              </a:rPr>
              <a:t>Discussion: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are the students learning the material in trended area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long are you spending on those units in comparison to “non-trended” area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resources, support, PD do you need to support teaching and learning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17:55:30Z</dcterms:created>
  <dc:creator>Monica Burgio Daigler</dc:creator>
  <dc:description/>
  <dc:language>en-US</dc:language>
  <cp:lastModifiedBy>Monica Burgio Daigler</cp:lastModifiedBy>
  <dcterms:modified xsi:type="dcterms:W3CDTF">2009-10-14T18:39:25Z</dcterms:modified>
  <cp:revision>14</cp:revision>
  <dc:subject/>
  <dc:title>Starpoint PD Science</dc:title>
</cp:coreProperties>
</file>