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8F9D5-CB52-4A43-92E4-67C7F3154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B38EA-8946-420A-8B1C-6A6D4F90F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EE3EF-C041-4113-8E8B-A0C34B9F5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E750E-B3B6-472F-8DD5-FC3EC306B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0049D-3985-4239-8F55-7A8BF537F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14B44-9FAD-45B3-B627-B439D0F1E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B0B5D-C3ED-47F0-B749-909E0A241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0A67E-62A2-40BF-8200-857F335ED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3B4A4-05F0-4697-A592-0E70E86FB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E1B8E-10FB-4CE2-AC44-EB8D479B9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6B79A-E1E6-4555-A46C-1B71D8271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BD11F-BECB-4F45-89A8-A87948484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0607E-126B-415A-BEF5-4D741BC15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4341B-1E0F-4A0D-81BB-724930DAE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23716-E95A-4FCA-BDDA-200FD223C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283FA-9F02-433E-8E07-C2CB4B986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20D22-21E2-462E-8C1C-A4BA36E42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4E96D-75AC-4265-A031-95CFF36F6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64FFA-17FD-49F7-84ED-681CD32B6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9DD70-C2FB-4B03-8DFD-B58B26160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C4AEF-6E39-45BD-961F-A83A8B7C1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001B9-AE1C-4099-AC50-BD223993C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B269B-1D97-4BAF-B2A5-8B8924F47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3E536-805F-4831-8C10-0E993307F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C820C-E904-4C45-84C7-4C01D877A59A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9041C-E8F2-47B1-B1F8-EA41527693AE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dbbd71"/>
                </a:solidFill>
                <a:latin typeface="Arial"/>
              </a:rPr>
              <a:t>Cheektowaga PD</a:t>
            </a:r>
            <a:br>
              <a:rPr sz="7200"/>
            </a:br>
            <a:r>
              <a:rPr b="0" lang="en-US" sz="7200" spc="-1" strike="noStrike">
                <a:solidFill>
                  <a:srgbClr val="dbbd71"/>
                </a:solidFill>
                <a:latin typeface="Arial"/>
              </a:rPr>
              <a:t>Science</a:t>
            </a:r>
            <a:endParaRPr b="0" lang="en-US" sz="7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4792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Tahoma"/>
              </a:rPr>
              <a:t>Welcome Back!!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dbbd71"/>
                </a:solidFill>
                <a:uFillTx/>
                <a:latin typeface="Arial"/>
              </a:rPr>
              <a:t>Warm-Up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do you think are the Power PI’s in your content area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ost frequently asked?  Most Important? Enduring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3809880"/>
            <a:ext cx="822960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do you think are your students’ biggest gap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ere do they struggle the most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" dur="20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" dur="20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" dur="20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Is Perception Reality?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9246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are the Power PI’s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ost frequently asked over time? Most important? Enduring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"/>
          <p:cNvSpPr/>
          <p:nvPr/>
        </p:nvSpPr>
        <p:spPr>
          <a:xfrm>
            <a:off x="533520" y="3657600"/>
            <a:ext cx="79246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are your students’ biggest gap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80880" y="4495680"/>
            <a:ext cx="822960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ioritize top 3-5 improvement points based o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gap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in trended (power PI) areas first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Deconstruct Top 3 Gaps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nt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kil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loom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ugh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"/>
          <p:cNvSpPr/>
          <p:nvPr/>
        </p:nvSpPr>
        <p:spPr>
          <a:xfrm>
            <a:off x="1905120" y="4343400"/>
            <a:ext cx="5105160" cy="1523880"/>
          </a:xfrm>
          <a:custGeom>
            <a:avLst/>
            <a:gdLst>
              <a:gd name="textAreaLeft" fmla="*/ 893160 w 5105160"/>
              <a:gd name="textAreaRight" fmla="*/ 3701160 w 5105160"/>
              <a:gd name="textAreaTop" fmla="*/ 204120 h 1523880"/>
              <a:gd name="textAreaBottom" fmla="*/ 131976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648320" y="3048120"/>
            <a:ext cx="3962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a500"/>
                </a:solidFill>
                <a:latin typeface="Tahoma"/>
              </a:rPr>
              <a:t>Create Annual Improvement Goa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dbbd71"/>
                </a:solidFill>
                <a:latin typeface="Arial"/>
              </a:rPr>
              <a:t>Discussion:</a:t>
            </a:r>
            <a:endParaRPr b="0" lang="en-US" sz="66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86868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How are the students learning the material in trended areas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How long are you spending on those units in comparison to “non-trended” areas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What resources, support, PD do you need to support teaching and learning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1T17:55:30Z</dcterms:created>
  <dc:creator>Monica Burgio Daigler</dc:creator>
  <dc:description/>
  <dc:language>en-US</dc:language>
  <cp:lastModifiedBy>Monica Burgio Daigler</cp:lastModifiedBy>
  <dcterms:modified xsi:type="dcterms:W3CDTF">2009-10-14T18:39:25Z</dcterms:modified>
  <cp:revision>14</cp:revision>
  <dc:subject/>
  <dc:title>Starpoint PD Science</dc:title>
</cp:coreProperties>
</file>