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527-15F4-48B2-803D-390DECC3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9E4-BB0C-4F43-9F48-B879614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D4C-7A67-4AC1-BD1F-7C6BF43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C49-8FCA-4983-A482-1D86ACB9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50A-3342-4AD9-BF7C-020D1202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3336-39D6-4A71-ACAA-CFAF18D7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73A8-6298-43BB-BBE1-8C499CC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4289-BDD9-4DCD-952C-BB53C4C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DA47-AE83-4ED3-AB0A-52AC1095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D861-136F-4B45-8604-34A61C3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368-039C-4552-B8A4-C1AB6BD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66D-C84D-4D3C-848C-2D3D343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491-957D-4D8A-A43E-99CEFC36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04FB-9F48-4D23-BABA-993BB61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F8A-4DB0-4491-947C-3C3E0B66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359E-06F7-4EAD-AACE-2024DE3F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E7DC-68E7-44B9-8D40-2EB2A86B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D00-E9B4-43AA-96E0-2EA50B9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0F6-1761-45C3-B783-395B67A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177-D5D1-48FB-AC67-F608A9D1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099-7068-465D-9408-D6E3E708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A42-F936-4111-A5A4-C7E4D7C1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7ED-0143-4098-8DD6-F3CA9D11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C49-23FB-4EE7-9880-B4AA5A2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7FA3-0DEE-42AA-8077-5E8A24605B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7292-A82A-4B4C-8839-1324624FCF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a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the students learning the material in trend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 are you spending on those units in comparison to “non-trended”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10-14T18:39:25Z</dcterms:modified>
  <cp:revision>14</cp:revision>
  <dc:subject/>
  <dc:title>Starpoint PD Science</dc:title>
</cp:coreProperties>
</file>