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DC0C-BF0F-49A0-97A1-82287C5B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795E-F251-45B3-A2AD-52A57666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C3E0-FE0A-4524-841E-BF72B1D5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EA1-D55D-4D98-809E-99E07898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3929-33A2-4EE8-9258-5BBEE125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F29E-30C2-4AFE-830C-11FEA0D9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F173-6534-4EAF-A7E7-449F5D39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005D-6FC2-4E05-A4DF-E8841F0B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5D82-6EFC-4532-904B-A9D07F8B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F9BD-4F5C-43C8-9812-5D5CAEBC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3DC8-9CFF-43C3-B108-98B6CBD7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FA38-23B6-47FB-8594-E1ACD468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322D-ECDC-4929-A77F-80C3FF38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85E4-D137-45B7-831B-3805C5DB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8703-C0E5-4775-8252-F37DAAB7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4E0D-FFE0-454A-8F18-3A5CE32F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261A-51D3-4108-97FA-D593048D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6A6C-99C3-4490-B872-9E62BA7D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C101-8B84-46D8-988A-73C0AE75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C6F1-A41C-4262-ABDA-9C1E0848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05BA-F8D4-4EB0-ADCB-39BFD235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9A5D-7FFE-4D6A-88F5-33E106C8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9402-FF1F-4795-A248-08396231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76C6-C187-4388-8576-AF8847C7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D89E-E6ED-41DD-9824-352B38D9B26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44FE-DE19-41BD-A8A4-04B5D45A787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Cheektowaga M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nce We Last Me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-1857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ce we last met, life has been like what book, movie or song title?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2 minutes to think and write on note-car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 why this choice captures your experiences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752480" y="6095880"/>
            <a:ext cx="5658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re any the same as last year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Discussion 5-8: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e we spiraling in trended are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e we spiraling in gapped area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resources, support, PD do you need to support teaching and learn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Monica Burgio Daigler</cp:lastModifiedBy>
  <dcterms:modified xsi:type="dcterms:W3CDTF">2009-09-09T17:44:09Z</dcterms:modified>
  <cp:revision>13</cp:revision>
  <dc:subject/>
  <dc:title>Starpoint PD Science</dc:title>
</cp:coreProperties>
</file>