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39C-7560-448D-888C-27D1C6DA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DBA-244F-459E-814C-ABA1672A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FB2-8088-4483-97F6-55AAF8BA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5F4-4E54-48D8-B5F1-B7F8F1FE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FCF6-7528-48F1-B460-AF53DD21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A737-0B0D-41F7-A56A-7D4192F7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A664-1543-4CB1-9AD0-B40C6A5D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BFF5-6BAB-4D93-BE11-E15E3544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9F97-E0E6-4174-BA97-30D57BD0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5607-1E97-4097-9DA1-5FA9215F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E0E9-4088-4B73-AFA9-5CAE09E4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850-C073-4A51-AA6F-EB90DE87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A2EF-C0F7-4FE7-B0C0-6826A910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CD9A-7EEC-4282-95A6-416F222C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AFCE-940C-4EE9-A774-19C28AC9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0667-DEA1-4046-AB66-E9D8736C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F69D-12D0-4CD5-A2D1-4C3F5177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200-2877-4A3A-AC0A-BC3B0337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8DC-88B7-4A43-8A62-7CA95A57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D7F-900E-4AF7-B886-8B34171F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778-810F-4CF6-8E1C-98B6C5F4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632-C2E0-420A-88F5-3EB39F11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755-08D4-473B-B6A5-6AE4D3E4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4DC-DA76-4959-84E7-76B9F8E9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05C1-AE1B-4C18-BB38-54ACCE1E90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C9A7-B33E-49BC-8615-0CC471B794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Cheektowaga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trended are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gapped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resources, support, PD do you need to support teaching and lear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7:44:09Z</dcterms:modified>
  <cp:revision>13</cp:revision>
  <dc:subject/>
  <dc:title>Starpoint PD Science</dc:title>
</cp:coreProperties>
</file>