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ECF-30DE-43C4-9F78-5B8EA65F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0D3-CE97-455A-A0EC-743273A9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E3D-3F6F-4B53-8482-E2957771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812-28D8-450B-874E-1DDE13B0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B99-5782-49C5-A720-7F2C718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9A5-BC76-4871-B615-3E6CF59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F9B-BCB2-492A-B622-D040D47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AFF-7E14-44F0-B8B5-C4ADB86C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4AD-CE8A-4170-AC3F-CA7237A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89F-2434-4D78-9780-C715FA4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CB1-E00C-4E58-96A1-7ADC7A7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194-7204-4E23-87E3-5D7B68B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8924-4251-4335-A017-7666F1706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d Game and the Scientific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 acted as your “hypothesi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experi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your “conclusio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19693_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387520" cy="1892520"/>
          </a:xfrm>
          <a:prstGeom prst="rect">
            <a:avLst/>
          </a:prstGeom>
          <a:ln w="0">
            <a:noFill/>
          </a:ln>
        </p:spPr>
      </p:pic>
      <p:pic>
        <p:nvPicPr>
          <p:cNvPr id="44" name="bd19693_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878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4:36:54Z</dcterms:created>
  <dc:creator>TCSD</dc:creator>
  <dc:description/>
  <dc:language>en-US</dc:language>
  <cp:lastModifiedBy>TCSD</cp:lastModifiedBy>
  <dcterms:modified xsi:type="dcterms:W3CDTF">2005-09-19T14:38:25Z</dcterms:modified>
  <cp:revision>1</cp:revision>
  <dc:subject/>
  <dc:title>Card Game and the Scientific Method</dc:title>
</cp:coreProperties>
</file>