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5F7A-46CC-4F50-B21C-459BAA36E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6BBA-0AD0-4488-9E4E-E6DAEB7F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6FDA-F326-482C-9F0B-CC60BF1DC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8714-7973-46A3-8EB1-EBB1774F2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3FAA-DF13-40D3-9B7E-2EAC1C70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5017-6A7B-483B-B74E-0C6ADE43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3693-4250-45BC-BAC2-E7A39EBD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0470-5CEF-4F89-A522-ABA9C64C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F856-B243-4F11-8E0A-A05A11F6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44A9-BE5D-4084-93FF-7A0FC8C3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7609-4D37-4C2A-BA43-4C53FACB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245A-3550-4268-AF36-0AE37B0C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0860-DA32-485B-8F73-50C6FA4DD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623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ard Game and the Scientific Metho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2590560"/>
            <a:ext cx="8915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 acted as your “hypothesis”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was your “experiment”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was your “conclusion”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bd19693_" descr=""/>
          <p:cNvPicPr/>
          <p:nvPr/>
        </p:nvPicPr>
        <p:blipFill>
          <a:blip r:embed="rId1"/>
          <a:stretch/>
        </p:blipFill>
        <p:spPr>
          <a:xfrm>
            <a:off x="6477120" y="4724280"/>
            <a:ext cx="2387520" cy="1892520"/>
          </a:xfrm>
          <a:prstGeom prst="rect">
            <a:avLst/>
          </a:prstGeom>
          <a:ln w="0">
            <a:noFill/>
          </a:ln>
        </p:spPr>
      </p:pic>
      <p:pic>
        <p:nvPicPr>
          <p:cNvPr id="44" name="bd19693_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238788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10480" cy="58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14:36:54Z</dcterms:created>
  <dc:creator>TCSD</dc:creator>
  <dc:description/>
  <dc:language>en-US</dc:language>
  <cp:lastModifiedBy>TCSD</cp:lastModifiedBy>
  <dcterms:modified xsi:type="dcterms:W3CDTF">2005-09-19T14:38:25Z</dcterms:modified>
  <cp:revision>1</cp:revision>
  <dc:subject/>
  <dc:title>Card Game and the Scientific Method</dc:title>
</cp:coreProperties>
</file>