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0EA-454D-4C85-BB5C-0870A18B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521-E905-4A4D-9993-6542588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E0D-0D78-4614-B8E2-5C4D173D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886-E9A3-4067-A6BE-256A6EB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448-A210-4F28-9688-7FBDFCE3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02B-935A-4515-8851-49391A6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173-426B-4783-8859-53D3E66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ADB-2A3E-4D18-853C-8C05302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292-9B68-4723-A615-5553B645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052-6AC6-4E09-8DEF-06C05D2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926-9190-4949-AB98-EBA9609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BB2-C116-42E7-A001-16606D4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267F-9C14-4C68-9CD7-28E644E92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d Game and the Scientific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 acted as your “hypothesi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experi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conclusio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9693_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387520" cy="1892520"/>
          </a:xfrm>
          <a:prstGeom prst="rect">
            <a:avLst/>
          </a:prstGeom>
          <a:ln w="0">
            <a:noFill/>
          </a:ln>
        </p:spPr>
      </p:pic>
      <p:pic>
        <p:nvPicPr>
          <p:cNvPr id="44" name="bd19693_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878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4:36:54Z</dcterms:created>
  <dc:creator>TCSD</dc:creator>
  <dc:description/>
  <dc:language>en-US</dc:language>
  <cp:lastModifiedBy>TCSD</cp:lastModifiedBy>
  <dcterms:modified xsi:type="dcterms:W3CDTF">2005-09-19T14:38:25Z</dcterms:modified>
  <cp:revision>1</cp:revision>
  <dc:subject/>
  <dc:title>Card Game and the Scientific Method</dc:title>
</cp:coreProperties>
</file>