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CEF-3AC7-4571-9AC5-7CE24BC5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378-309E-4BB8-A806-54C02D5B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E60-AC4D-489E-92B0-1BE3D36F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8B1-6335-442E-AE79-0AEFEBFA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7D0-C568-4871-B82B-E893B60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7B9-801A-4E00-8218-A8A079C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523-8C9E-413B-A8C9-669B19DF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AD2-9DE5-4F5D-8F7D-0C92F0E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DB8-9B43-4758-9FD8-531F60F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42B-F24A-4C21-B8BE-52F04AE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550-4307-419B-8099-C97582F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891-EFAE-47F2-9211-6F654BE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AFBA-EC28-4F40-8A00-03028B95A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d Game and the Scientific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 acted as your “hypothesi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experiment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conclusion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19693_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387520" cy="1892520"/>
          </a:xfrm>
          <a:prstGeom prst="rect">
            <a:avLst/>
          </a:prstGeom>
          <a:ln w="0">
            <a:noFill/>
          </a:ln>
        </p:spPr>
      </p:pic>
      <p:pic>
        <p:nvPicPr>
          <p:cNvPr id="44" name="bd19693_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878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4:36:54Z</dcterms:created>
  <dc:creator>TCSD</dc:creator>
  <dc:description/>
  <dc:language>en-US</dc:language>
  <cp:lastModifiedBy>TCSD</cp:lastModifiedBy>
  <dcterms:modified xsi:type="dcterms:W3CDTF">2005-09-19T14:38:25Z</dcterms:modified>
  <cp:revision>1</cp:revision>
  <dc:subject/>
  <dc:title>Card Game and the Scientific Method</dc:title>
</cp:coreProperties>
</file>