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EF6-87E4-4C09-9730-C44C672B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EF1-0703-4C31-BB93-98B77B57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A38-4AB1-41EF-AC1A-5F816AFA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712-6E21-4DD4-8F3E-FF5422D4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B8E5-E906-4AAD-AD61-3B0E8A35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2616-E0D7-4456-AA62-BC8597DE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7EDC-4163-4755-8429-04A3ADB1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B6CA-F3A5-4935-9D30-723D1109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70E8-7109-4850-A140-EFD64D74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0BF4-700F-40EF-9810-8997B730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EFCF-3FCF-447B-8703-3B8AA7D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526-7E3A-4C8A-BDF2-7D0E6024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10A3-9F83-4007-829B-165FA827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AB29-CB07-4416-AB25-0B2176C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22AC-D581-445C-8513-D175E0BF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9DC1-0E16-4208-9FF3-0B71FF2C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CCBD-89BC-4252-A8B8-3CCB72C3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69D-EBBE-4139-B36C-23C7E286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971-C92A-498B-8591-B726F925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5CE-196B-45F7-89AC-5E012D72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2EC-D200-4DFC-99E6-8CF7A4CD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41E-BFAB-4177-828E-BD34474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9C3-EF4A-47D9-84A3-38E0B21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45D-989D-49CC-B02B-487ADB52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4CFC-574E-494B-8CA9-3F330E4AB88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FE77-9BAC-4AEE-9248-2C84ADE7D0C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2.wnyric.org/titleiid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2.wnyric.org/ir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CSS Meeting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12/10/09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elcome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nd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oliday Greetings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Fund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2438280"/>
          <a:ext cx="6552000" cy="2130840"/>
        </p:xfrm>
        <a:graphic>
          <a:graphicData uri="http://schemas.openxmlformats.org/drawingml/2006/table">
            <a:tbl>
              <a:tblPr/>
              <a:tblGrid>
                <a:gridCol w="2183400"/>
                <a:gridCol w="2184840"/>
                <a:gridCol w="2183760"/>
              </a:tblGrid>
              <a:tr h="213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a – 6940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d –1155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V -- 38889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voices/Worksho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Letter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Cancelation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General Studi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AP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b changes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520056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2.wnyric.org/titlei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2.wnyric.org/i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1532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ound Tabl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happening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estions/Concer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1:38Z</dcterms:created>
  <dc:creator>Monica Burgio Daigler</dc:creator>
  <dc:description/>
  <dc:language>en-US</dc:language>
  <cp:lastModifiedBy>Monica Burgio Daigler</cp:lastModifiedBy>
  <dcterms:modified xsi:type="dcterms:W3CDTF">2009-12-09T20:43:10Z</dcterms:modified>
  <cp:revision>5</cp:revision>
  <dc:subject/>
  <dc:title>Slide 1</dc:title>
</cp:coreProperties>
</file>