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061-375D-4F0B-AC74-D199CEFA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678-C2A5-49C4-A9A1-B98B1018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2D6-2316-4784-8DF1-80E96C63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416-30ED-4995-BE4D-35B668D0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1993-9000-482A-833F-1EA58AD7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D199-7F6B-481A-88A6-E7061C7F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7A9E-1EC3-496D-9106-CD052A3C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AC73-A812-44EE-B9AB-995D9CC0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4FE3-A868-48CE-AA2C-9FC6FEA2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B5C4-0631-4781-8E5E-FC7A478E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6823-CD61-4B66-BFFD-82E276A2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963-DC41-40FD-A39A-A9A28A6B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FAC7-1A28-4197-AD5F-E4E321B5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B4AA-630E-4267-B310-0DF765FE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4E6E-0C75-4FC2-B582-ABCA3294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0254-D6F0-453D-9EAB-1B5F7244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BDA2-3A9E-49E6-BB4C-C912883D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0D3-81E3-451B-9A57-5F2B296D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3B9-3CAC-45F0-B266-9CE75FBD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6B0-4CC7-4A02-8BB1-7F118741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600-A130-46E3-8274-3EE4DB34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4D4-B137-4409-96BE-96085253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322-22AB-4379-80DF-631E9C50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845-D70D-44ED-B640-D1C796E9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525A-C5E1-4E87-A8D4-E5C6599FAB9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CBC8-8C46-40B0-AEE1-FCA9C75A3B0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2.wnyric.org/titleiid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2.wnyric.org/irt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CSS Meeting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12/10/09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Welcome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nd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Holiday Greetings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6553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1311"/>
                </a:solidFill>
                <a:latin typeface="Arial"/>
              </a:rPr>
              <a:t>Funds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5800" y="2438280"/>
          <a:ext cx="6552000" cy="2130840"/>
        </p:xfrm>
        <a:graphic>
          <a:graphicData uri="http://schemas.openxmlformats.org/drawingml/2006/table">
            <a:tbl>
              <a:tblPr/>
              <a:tblGrid>
                <a:gridCol w="2183400"/>
                <a:gridCol w="2184840"/>
                <a:gridCol w="2183760"/>
              </a:tblGrid>
              <a:tr h="213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tle IIa – 69401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tle IId –11551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itle IV -- 38889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voices/Workshop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Letter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Cancelation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General Studie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AP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eb changes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520056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http://www2.wnyric.org/titleii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http://www2.wnyric.org/ir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15328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726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ound Table…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at’s happening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Questions/Concer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1:38Z</dcterms:created>
  <dc:creator>Monica Burgio Daigler</dc:creator>
  <dc:description/>
  <dc:language>en-US</dc:language>
  <cp:lastModifiedBy>Monica Burgio Daigler</cp:lastModifiedBy>
  <dcterms:modified xsi:type="dcterms:W3CDTF">2009-12-09T20:43:10Z</dcterms:modified>
  <cp:revision>5</cp:revision>
  <dc:subject/>
  <dc:title>Slide 1</dc:title>
</cp:coreProperties>
</file>