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8A5-7A12-48F8-8D66-00D1BDD3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CA3-EC13-4729-9454-DF80C8F6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D13-93B1-4E60-83F2-D66875FD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F30-1908-4F31-A5B5-B3A959C1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54F0-1379-488B-AD53-29C7196C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5AD8-141C-426E-9582-94F4379A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3B08-3C38-46FA-9567-DBAEC726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9BEB-0D5F-47CC-B28F-3030ABBB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80A9-4C48-4562-943F-82A1C41C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2CE6-2B94-4512-93D8-10307021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0D75-6CDB-47A5-9123-45D80D5D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366-7ABD-4F60-B23E-5EEE0E7F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5541-315B-42A3-9D3E-1C3742F3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DB0D-49CE-49C7-9282-FBDA5AB3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9112-568E-403C-8830-54112DF3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0C2D-4553-48E5-9579-852A02C7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DA1F-B0BD-4EC9-A350-DDA3B5C9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46A-6D33-42C1-990E-E2DEEEBB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6E4-8BD0-4B48-A404-BCC97570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D9A-2B93-4E1E-A287-0432E8B6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D5C-9B5D-4EAF-99E0-3D81B147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3DD-C44E-498C-8DF6-6A7CC621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EBC-E9A6-46DE-B26C-B083CDD8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24D-44E7-4BED-B784-7FD3E23D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A1C2-6435-4FD3-8A54-B2C8ED17413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720C-11CD-4225-ADCE-5E41F920101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2.wnyric.org/titleiid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2.wnyric.org/irt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CSS Meeting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12/10/09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Welcome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nd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Holiday Greetings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311"/>
                </a:solidFill>
                <a:latin typeface="Arial"/>
              </a:rPr>
              <a:t>Funds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2438280"/>
          <a:ext cx="6552000" cy="2130840"/>
        </p:xfrm>
        <a:graphic>
          <a:graphicData uri="http://schemas.openxmlformats.org/drawingml/2006/table">
            <a:tbl>
              <a:tblPr/>
              <a:tblGrid>
                <a:gridCol w="2183400"/>
                <a:gridCol w="2184840"/>
                <a:gridCol w="2183760"/>
              </a:tblGrid>
              <a:tr h="213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Ia – 6940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Id –1155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V -- 38889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voices/Worksho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Letter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Cancelation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General Studie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AP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b changes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520056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2.wnyric.org/titleii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www2.wnyric.org/ir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1532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ound Table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’s happening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Questions/Concer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1:38Z</dcterms:created>
  <dc:creator>Monica Burgio Daigler</dc:creator>
  <dc:description/>
  <dc:language>en-US</dc:language>
  <cp:lastModifiedBy>Monica Burgio Daigler</cp:lastModifiedBy>
  <dcterms:modified xsi:type="dcterms:W3CDTF">2009-12-09T20:43:10Z</dcterms:modified>
  <cp:revision>5</cp:revision>
  <dc:subject/>
  <dc:title>Slide 1</dc:title>
</cp:coreProperties>
</file>