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B29-C24C-4560-AF01-5EEA3875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390D-BAED-4580-B53D-6693826F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CB3-B034-43CC-8640-FE4DD721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635-8005-4487-AB2A-C79B2F7D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BD5D-3BB8-4384-9FE8-208A548C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0360-C5C1-4B9E-8A91-83F7D0BC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55D8-ED92-4643-B875-901196D4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A45D-A628-464A-B523-21CC3E8B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88B3-6AFC-4149-AC63-E5E23C9E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0913-8F8B-47F9-9061-461AA042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24F4-8FC1-4EB1-AE91-176396EC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29E-D7B8-4B6D-9149-9E2B4576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BB52-DC79-43B5-8263-2F3D9A89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A1E2-90D8-4626-8A9D-C511520D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62A5-25A0-45FF-8A5F-C3DD03BF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96F4-26BF-49CE-B32D-60915EE8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1328-8C66-4306-8731-87162E52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4C0-704D-4CCB-A363-5E97A427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E0D-63FE-4D3B-9FCC-33043D69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5B5-45F6-42BE-809C-E0115E39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CE46-7F76-4564-9794-86626742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1CF9-D356-49C5-AF6A-03B50BC1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3649-4F95-496D-88CE-DA840CED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A5D-1012-4735-8AE9-D1C710C6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D145-A71C-4A30-A020-9EE2551E217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4B3F-9095-4DF6-B5AC-C54AF7E85F4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2.wnyric.org/titleiid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2.wnyric.org/irt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Arial"/>
              </a:rPr>
              <a:t>CSS Meeting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12/10/09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Welcome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nd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Holiday Greetings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6553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f1311"/>
                </a:solidFill>
                <a:latin typeface="Arial"/>
              </a:rPr>
              <a:t>Funds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5800" y="2438280"/>
          <a:ext cx="6552000" cy="2130840"/>
        </p:xfrm>
        <a:graphic>
          <a:graphicData uri="http://schemas.openxmlformats.org/drawingml/2006/table">
            <a:tbl>
              <a:tblPr/>
              <a:tblGrid>
                <a:gridCol w="2183400"/>
                <a:gridCol w="2184840"/>
                <a:gridCol w="2183760"/>
              </a:tblGrid>
              <a:tr h="213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tle IIa – 69401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tle IId –11551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tle IV -- 38889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nvoices/Worksho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Letter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Cancelation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General Studie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AP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eb changes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520056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http://www2.wnyric.org/titleii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http://www2.wnyric.org/ir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15328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726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ound Table….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at’s happening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Questions/Concer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11:38Z</dcterms:created>
  <dc:creator>Monica Burgio Daigler</dc:creator>
  <dc:description/>
  <dc:language>en-US</dc:language>
  <cp:lastModifiedBy>Monica Burgio Daigler</cp:lastModifiedBy>
  <dcterms:modified xsi:type="dcterms:W3CDTF">2009-12-09T20:43:10Z</dcterms:modified>
  <cp:revision>5</cp:revision>
  <dc:subject/>
  <dc:title>Slide 1</dc:title>
</cp:coreProperties>
</file>