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E973-2AE8-4308-A35F-4757AA70D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0C87-3E9A-4305-B98E-785AF11B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8D1C-8C1E-405D-82BF-E46AEB87C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2059-BD6C-4322-B30B-2CA337D2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F9FE-0B4F-404A-9E8A-689ACCD1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A11F-4629-4994-8BE4-D86AC2DE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8398-A305-4E4A-BA8E-4482E36E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B336-D69D-4B17-9BDB-4B83882B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C8F0-DEB5-4C1F-B457-45853961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7099-4901-4254-BB15-18CBAFC4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C742-E63A-4CED-90FE-1498E666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6D40-7BAB-436E-B6B7-CD8A0967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D8BD-9543-43C0-9CAA-4CDBB810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1FBB-A03D-4A2D-9AF4-E8775E00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3018-D088-425D-A53C-8CEC1D20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764A-F614-4A0D-8B04-6CFB4A25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2F3C-44A7-4EC5-8D1A-41D60720D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46A8-9AD6-4079-88E7-5E07CD06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F19E-4128-4988-90C3-642563DC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075E-B4AD-4A24-81B0-284BFC89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818E-AAE1-413C-8E68-38631507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781E-B82E-4138-9756-5B85C45F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8063-B7B1-47E8-9314-E1418870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4B7B-7945-4876-85EA-ACFFCADB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2756-06C1-466C-8073-211D5959DC57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A29A-CC2D-4A8F-A3E5-950F4EF5A00C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2.wnyric.org/titleiid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ww2.wnyric.org/irt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5105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7d47d"/>
                </a:solidFill>
                <a:latin typeface="Arial"/>
              </a:rPr>
              <a:t>CSS Meeting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12/10/09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Welcome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and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Holiday Greetings!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609480" y="1371240"/>
            <a:ext cx="6553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f1311"/>
                </a:solidFill>
                <a:latin typeface="Arial"/>
              </a:rPr>
              <a:t>Funds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85800" y="2438280"/>
          <a:ext cx="6552000" cy="2130840"/>
        </p:xfrm>
        <a:graphic>
          <a:graphicData uri="http://schemas.openxmlformats.org/drawingml/2006/table">
            <a:tbl>
              <a:tblPr/>
              <a:tblGrid>
                <a:gridCol w="2183400"/>
                <a:gridCol w="2184840"/>
                <a:gridCol w="2183760"/>
              </a:tblGrid>
              <a:tr h="2130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itle IIa – 69401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itle IId –11551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itle IV -- 38889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nvoices/Workshop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Letters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Cancelations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General Studies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AP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Web changes…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5200560" cy="32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http://www2.wnyric.org/titleii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http://www2.wnyric.org/ir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15328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5726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Round Table….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Need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hat’s happening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Questions/Concern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0:11:38Z</dcterms:created>
  <dc:creator>Monica Burgio Daigler</dc:creator>
  <dc:description/>
  <dc:language>en-US</dc:language>
  <cp:lastModifiedBy>Monica Burgio Daigler</cp:lastModifiedBy>
  <dcterms:modified xsi:type="dcterms:W3CDTF">2009-12-09T20:43:10Z</dcterms:modified>
  <cp:revision>5</cp:revision>
  <dc:subject/>
  <dc:title>Slide 1</dc:title>
</cp:coreProperties>
</file>