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63C28-6BE3-4869-BC2A-3CB483C25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944D-CE0B-47A3-8516-9F1C69E06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D8CAD-E472-4898-B506-00A44E5C5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F3E41-BEE9-465A-B8CA-61EB8FE7C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D5B4E-902C-4FF5-A3DF-98949C001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F2073-9CDE-4217-85E4-45104A844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F8D40-CA81-45D7-9F1C-39F013FC0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E7C72-F4AF-46EB-8F8A-3C0AA39E8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B4243-08FD-4848-B319-18FFC3B02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BF540-1D84-47D5-B8C5-353DE009A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D9C6A-7FCD-4B66-8160-18BDA7B0B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DA75B-37D8-48EE-ACC8-61BCA7954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EC3A1-F4CF-47AB-8712-16312234A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11519-45EE-4F36-A1FC-74A16374A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37F1E-C98B-417E-8D22-09B785919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14AB8-1F6C-403D-A12E-497EE836A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59763-D5DD-400C-B595-14B160593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00086-7F3F-4C13-BF77-955D89FF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97341-7A6C-44E3-AAD5-CBA18F27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ABD55-8741-48A7-BB5A-06E28CBCB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A543D-B524-4733-9B85-7E24F598D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582D-9E0E-4D49-89DC-7A338C24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1C2E-392B-4004-8E73-FB81BC994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7EBF-FA4E-4605-9150-A2AC194BF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7585-DC12-49E9-A80C-FABB1402984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5304-A0AD-44A3-9191-A26FD3918BD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8:24Z</dcterms:modified>
  <cp:revision>10</cp:revision>
  <dc:subject/>
  <dc:title>Common Formative Assessments   for  Social Studies</dc:title>
</cp:coreProperties>
</file>