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8.wmf" ContentType="image/x-wmf"/>
  <Override PartName="/ppt/media/image13.png" ContentType="image/png"/>
  <Override PartName="/ppt/media/image12.jpeg" ContentType="image/jpeg"/>
  <Override PartName="/ppt/media/image11.jpeg" ContentType="image/jpeg"/>
  <Override PartName="/ppt/media/image23.wmf" ContentType="image/x-wmf"/>
  <Override PartName="/ppt/media/image7.wmf" ContentType="image/x-wmf"/>
  <Override PartName="/ppt/media/image6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1.jpeg" ContentType="image/jpeg"/>
  <Override PartName="/ppt/media/image14.png" ContentType="image/png"/>
  <Override PartName="/ppt/media/image28.wmf" ContentType="image/x-wmf"/>
  <Override PartName="/ppt/media/image17.png" ContentType="image/png"/>
  <Override PartName="/ppt/media/image27.wmf" ContentType="image/x-wmf"/>
  <Override PartName="/ppt/media/image16.png" ContentType="image/png"/>
  <Override PartName="/ppt/media/image25.wmf" ContentType="image/x-wmf"/>
  <Override PartName="/ppt/media/image24.wmf" ContentType="image/x-wmf"/>
  <Override PartName="/ppt/media/image22.wmf" ContentType="image/x-wmf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F139-2C0F-46B9-9A89-D055779B2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99C4-EDCA-46A5-A18D-F73D84509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30A6-1E4B-4C9C-AE57-6E43D4CCD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BD0C-4C03-4B6F-9170-03B5C8985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F609-2EAA-4DEC-9C43-708F4A6A9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1FDB-0555-4668-9FAB-EE26AD46B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F922-B454-4C35-A15D-2DD0FBA9B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C605-1D18-4B66-A333-6602B88B4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E5CC-2B6A-4F77-B33E-FD3F3611F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C2B8-65A1-4440-9789-FBCC2F046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F764-5AB8-4FDE-83AF-ABAF23ABA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DDF2-015A-4F29-A2C2-D783E196C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20BC2-9B2D-4BB5-817A-6C7C8436C0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aps.edu/aps/tls/ContentUnit/Literacy/docs/KnowledgeRatingChart.pdf" TargetMode="External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monicabd.wikispaces.com/Starpoint" TargetMode="External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image" Target="../media/image24.wmf"/><Relationship Id="rId4" Type="http://schemas.openxmlformats.org/officeDocument/2006/relationships/image" Target="../media/image25.wmf"/><Relationship Id="rId5" Type="http://schemas.openxmlformats.org/officeDocument/2006/relationships/image" Target="../media/image26.wmf"/><Relationship Id="rId6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nonliguistic%20opening.doc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teach reflects as learn"/>
          <p:cNvPicPr/>
          <p:nvPr/>
        </p:nvPicPr>
        <p:blipFill>
          <a:blip r:embed="rId1"/>
          <a:stretch/>
        </p:blipFill>
        <p:spPr>
          <a:xfrm>
            <a:off x="457200" y="380880"/>
            <a:ext cx="7924680" cy="566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362320" y="685800"/>
            <a:ext cx="46278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99ff"/>
                </a:solidFill>
                <a:latin typeface="Arial"/>
              </a:rPr>
              <a:t>Comparing Animal and Plant Cells Venn Diagr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457200" y="1523880"/>
          <a:ext cx="9144000" cy="58104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581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nimal Cel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lant Cel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133720" y="2362320"/>
            <a:ext cx="57150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609480" y="380880"/>
          <a:ext cx="7315200" cy="837720"/>
        </p:xfrm>
        <a:graphic>
          <a:graphicData uri="http://schemas.openxmlformats.org/drawingml/2006/table">
            <a:tbl>
              <a:tblPr/>
              <a:tblGrid>
                <a:gridCol w="3657600"/>
                <a:gridCol w="3657600"/>
              </a:tblGrid>
              <a:tr h="837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__________________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 ______________________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" name=""/>
          <p:cNvSpPr/>
          <p:nvPr/>
        </p:nvSpPr>
        <p:spPr>
          <a:xfrm>
            <a:off x="1440" y="2412000"/>
            <a:ext cx="21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1523880" y="1600200"/>
          <a:ext cx="6202440" cy="3994920"/>
        </p:xfrm>
        <a:graphic>
          <a:graphicData uri="http://schemas.openxmlformats.org/drawingml/2006/table">
            <a:tbl>
              <a:tblPr/>
              <a:tblGrid>
                <a:gridCol w="1240560"/>
                <a:gridCol w="1240560"/>
                <a:gridCol w="1240560"/>
                <a:gridCol w="1240200"/>
                <a:gridCol w="1240560"/>
              </a:tblGrid>
              <a:tr h="799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8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9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9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8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"/>
          <p:cNvSpPr/>
          <p:nvPr/>
        </p:nvSpPr>
        <p:spPr>
          <a:xfrm>
            <a:off x="961920" y="416160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cc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rayer Model…why is it better than regular note cards?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-57240" y="-4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447920" y="1523880"/>
          <a:ext cx="6381720" cy="479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523880"/>
                    <a:ext cx="6381720" cy="479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Knowledge Rating Char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895480" y="1905120"/>
            <a:ext cx="372600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s – physical and ment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step 4 photo a"/>
          <p:cNvPicPr/>
          <p:nvPr/>
        </p:nvPicPr>
        <p:blipFill>
          <a:blip r:embed="rId1"/>
          <a:stretch/>
        </p:blipFill>
        <p:spPr>
          <a:xfrm>
            <a:off x="609480" y="1676520"/>
            <a:ext cx="3772080" cy="25527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mickey-mouse-ears.jpg"/>
          <p:cNvPicPr/>
          <p:nvPr/>
        </p:nvPicPr>
        <p:blipFill>
          <a:blip r:embed="rId2"/>
          <a:stretch/>
        </p:blipFill>
        <p:spPr>
          <a:xfrm>
            <a:off x="5562720" y="3886200"/>
            <a:ext cx="228600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219320" y="1295280"/>
            <a:ext cx="3595680" cy="36576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imagedemosm.aspx?picid=467"/>
          <p:cNvPicPr/>
          <p:nvPr/>
        </p:nvPicPr>
        <p:blipFill>
          <a:blip r:embed="rId2"/>
          <a:stretch/>
        </p:blipFill>
        <p:spPr>
          <a:xfrm>
            <a:off x="6172200" y="304920"/>
            <a:ext cx="20700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Kinesthetic activ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3520" y="1106640"/>
            <a:ext cx="769608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lecules (solid, liquid, g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on” says..with muscles, bones, anatomical 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pcorn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tation vs. R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kill building (P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ng/Dance (peristalsis, villi, poop)/YDIX s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much mor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bservations/Prior Knowledge/Bi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son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son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057400" y="380880"/>
            <a:ext cx="4289400" cy="60199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 txBox="1"/>
          <p:nvPr/>
        </p:nvSpPr>
        <p:spPr>
          <a:xfrm>
            <a:off x="6934320" y="914400"/>
            <a:ext cx="10382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.  Hat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09480" y="4648320"/>
            <a:ext cx="10670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.  Scary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1" dur="5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8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590920" y="457200"/>
            <a:ext cx="4910040" cy="5715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7010280" y="762120"/>
            <a:ext cx="144792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. Fac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09480" y="4648320"/>
            <a:ext cx="221004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.  Saxaphon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8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9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8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8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8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8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cc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arning Goal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 understand the research behind using MI in your classroom (specifically nonlinguisti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experience the various uses of nonlinguistic represen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create a lesson plan or lesson plan sketch using this strategy to tap into the visual learners b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209680" y="1066680"/>
            <a:ext cx="4438800" cy="44211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7010280" y="762120"/>
            <a:ext cx="144792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.  Carrot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80880" y="5105520"/>
            <a:ext cx="144792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.  Bread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8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8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8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8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7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8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8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8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8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Arial"/>
              </a:rPr>
              <a:t>Foldables…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Concept Map"/>
          <p:cNvPicPr/>
          <p:nvPr/>
        </p:nvPicPr>
        <p:blipFill>
          <a:blip r:embed="rId1"/>
          <a:stretch/>
        </p:blipFill>
        <p:spPr>
          <a:xfrm>
            <a:off x="533520" y="533520"/>
            <a:ext cx="8153280" cy="56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Concept Map Examples for  Middle and High School"/>
          <p:cNvPicPr/>
          <p:nvPr/>
        </p:nvPicPr>
        <p:blipFill>
          <a:blip r:embed="rId1"/>
          <a:stretch/>
        </p:blipFill>
        <p:spPr>
          <a:xfrm>
            <a:off x="1523880" y="457200"/>
            <a:ext cx="567864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Causes and Effects"/>
          <p:cNvPicPr/>
          <p:nvPr/>
        </p:nvPicPr>
        <p:blipFill>
          <a:blip r:embed="rId1"/>
          <a:stretch/>
        </p:blipFill>
        <p:spPr>
          <a:xfrm>
            <a:off x="304920" y="1066680"/>
            <a:ext cx="8381880" cy="43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Causes and Effects Examples for Middle and HIgh School"/>
          <p:cNvPicPr/>
          <p:nvPr/>
        </p:nvPicPr>
        <p:blipFill>
          <a:blip r:embed="rId1"/>
          <a:stretch/>
        </p:blipFill>
        <p:spPr>
          <a:xfrm>
            <a:off x="4572000" y="457200"/>
            <a:ext cx="390672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Venn Diagram"/>
          <p:cNvPicPr/>
          <p:nvPr/>
        </p:nvPicPr>
        <p:blipFill>
          <a:blip r:embed="rId1"/>
          <a:stretch/>
        </p:blipFill>
        <p:spPr>
          <a:xfrm>
            <a:off x="1066680" y="685800"/>
            <a:ext cx="670572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Venn Diagram Examples for  Middle and High School"/>
          <p:cNvPicPr/>
          <p:nvPr/>
        </p:nvPicPr>
        <p:blipFill>
          <a:blip r:embed="rId1"/>
          <a:stretch/>
        </p:blipFill>
        <p:spPr>
          <a:xfrm>
            <a:off x="838080" y="304920"/>
            <a:ext cx="618660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Arial"/>
              </a:rPr>
              <a:t>Basic Fol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mbur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td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hut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urri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362320" y="2666880"/>
            <a:ext cx="1247760" cy="11876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143000" y="5029200"/>
            <a:ext cx="1817640" cy="14461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6629400" y="1523880"/>
            <a:ext cx="2259000" cy="13734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6705720" y="3352680"/>
            <a:ext cx="2087280" cy="12877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5"/>
          <a:stretch/>
        </p:blipFill>
        <p:spPr>
          <a:xfrm>
            <a:off x="6705720" y="5334120"/>
            <a:ext cx="1477800" cy="12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762120" y="228600"/>
            <a:ext cx="4495680" cy="63244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5638680" y="1676520"/>
            <a:ext cx="28195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Let’s Play!!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6768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nonlinguistic representati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905120"/>
            <a:ext cx="7696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Students: create graph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representations, ment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pictures, physical models, drawings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and participate in kinesthet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activity in order to assimil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knowled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762120"/>
            <a:ext cx="1218960" cy="1447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543800" y="4800600"/>
            <a:ext cx="1219320" cy="1447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0000"/>
                </a:solidFill>
                <a:uFillTx/>
                <a:latin typeface="Arial"/>
              </a:rPr>
              <a:t>Review Strateg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133360" y="1905120"/>
            <a:ext cx="6095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id you lear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666880" y="2971800"/>
            <a:ext cx="297972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Where do we begin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Reflect on past practices..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 page 14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do we teach the way we d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is variety the spice of lif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 we know about the brain and learning? (Bookabl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80880" y="533520"/>
            <a:ext cx="8305920" cy="59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ntique Olive"/>
              </a:rPr>
              <a:t>How to implement RBIS (especially nonlinguistic) in your classroom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oncept Maps – see appendix in book (pg.357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rayer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Knowledge Rating Cha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odels – physical and ment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Kinesthetic activ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toryboar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old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er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143000" y="1523880"/>
            <a:ext cx="3314880" cy="41436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181480" y="1523880"/>
            <a:ext cx="3359160" cy="4343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378440" y="6019920"/>
            <a:ext cx="65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dhelper.com/teachers/graphic_organizers_kwl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8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214720" y="557280"/>
            <a:ext cx="4714560" cy="57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471760" y="547560"/>
            <a:ext cx="4200480" cy="576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714680" y="1523880"/>
            <a:ext cx="57150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4:15:45Z</dcterms:created>
  <dc:creator>Monica Daigler</dc:creator>
  <dc:description/>
  <dc:language>en-US</dc:language>
  <cp:lastModifiedBy>Monica Burgio-Daigler</cp:lastModifiedBy>
  <dcterms:modified xsi:type="dcterms:W3CDTF">2010-08-11T16:21:07Z</dcterms:modified>
  <cp:revision>14</cp:revision>
  <dc:subject/>
  <dc:title>Slide 1</dc:title>
</cp:coreProperties>
</file>