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jpeg" ContentType="image/jpeg"/>
  <Override PartName="/ppt/media/image14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942-DA45-4B81-8AE2-04F49422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048-DE66-4B3F-AA3B-AA556EEB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324-FB64-481A-B4C5-73173599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65F-DCB0-4741-BF75-F20FEAA0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8B4-4F48-4259-B4A1-0E9E160D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F64-459C-43CA-B8C9-1F666B2B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A3B-1136-4F6F-A6CC-CF94DC8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676-2112-49CA-9CAE-DE43B918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5E4-5A24-4E97-89B6-D68068F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6EE-B45D-448A-BA14-CC5583C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B1A-85EC-4368-A103-2274D51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CFB-48C1-4D23-A863-2BDF227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7684-1FDE-45FC-9E0D-5A97C493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5:45Z</dcterms:created>
  <dc:creator>Monica Daigler</dc:creator>
  <dc:description/>
  <dc:language>en-US</dc:language>
  <cp:lastModifiedBy>Monica Burgio-Daigler</cp:lastModifiedBy>
  <dcterms:modified xsi:type="dcterms:W3CDTF">2010-08-11T16:21:07Z</dcterms:modified>
  <cp:revision>14</cp:revision>
  <dc:subject/>
  <dc:title>Slide 1</dc:title>
</cp:coreProperties>
</file>