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.jpeg" ContentType="image/jpeg"/>
  <Override PartName="/ppt/media/image14.png" ContentType="image/png"/>
  <Override PartName="/ppt/media/image28.wmf" ContentType="image/x-wmf"/>
  <Override PartName="/ppt/media/image17.png" ContentType="image/png"/>
  <Override PartName="/ppt/media/image27.wmf" ContentType="image/x-wmf"/>
  <Override PartName="/ppt/media/image16.png" ContentType="image/png"/>
  <Override PartName="/ppt/media/image25.wmf" ContentType="image/x-wmf"/>
  <Override PartName="/ppt/media/image24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1ECA-2471-4500-BA3E-695BF960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77F2-9C7F-4098-BDD0-F92543DB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E6E4-303F-4DC6-93A4-F0F918AE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F048-D3CF-4B69-9667-C60BA1FF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F85F-2181-45DD-9E07-BE99B6BB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1E7-CC60-4C70-9C07-FD905FB5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393D-B5BF-4B50-B3C7-DE5AAA79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ECBE-AA14-4D06-9131-56F2CFBF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44C5-626D-458F-A858-E6C2E88D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FA16-9257-430B-ACBC-5ABF5A36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354-34F6-4F69-8A71-0D0903E7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E17-6D03-4BFD-87B1-8DFA5B75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F1A6-4D18-4E65-A266-761797AB1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ps.edu/aps/tls/ContentUnit/Literacy/docs/KnowledgeRatingChart.pdf" TargetMode="Externa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onicabd.wikispaces.com/Starpoint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nonliguistic%20opening.doc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teach reflects as learn"/>
          <p:cNvPicPr/>
          <p:nvPr/>
        </p:nvPicPr>
        <p:blipFill>
          <a:blip r:embed="rId1"/>
          <a:stretch/>
        </p:blipFill>
        <p:spPr>
          <a:xfrm>
            <a:off x="457200" y="380880"/>
            <a:ext cx="79246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362320" y="685800"/>
            <a:ext cx="462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Arial"/>
              </a:rPr>
              <a:t>Comparing Animal and Plant Cells Venn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523880"/>
          <a:ext cx="9144000" cy="5810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imal Ce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ant Ce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09480" y="380880"/>
          <a:ext cx="7315200" cy="83772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83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_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1440" y="241200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600200"/>
          <a:ext cx="6202440" cy="3994920"/>
        </p:xfrm>
        <a:graphic>
          <a:graphicData uri="http://schemas.openxmlformats.org/drawingml/2006/table">
            <a:tbl>
              <a:tblPr/>
              <a:tblGrid>
                <a:gridCol w="1240560"/>
                <a:gridCol w="1240560"/>
                <a:gridCol w="1240560"/>
                <a:gridCol w="1240200"/>
                <a:gridCol w="1240560"/>
              </a:tblGrid>
              <a:tr h="79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961920" y="4161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yer Model…why is it better than regular note cards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57240" y="-4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447920" y="1523880"/>
          <a:ext cx="6381720" cy="47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38172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nowledge Rating Char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95480" y="1905120"/>
            <a:ext cx="37260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– physical and m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step 4 photo a"/>
          <p:cNvPicPr/>
          <p:nvPr/>
        </p:nvPicPr>
        <p:blipFill>
          <a:blip r:embed="rId1"/>
          <a:stretch/>
        </p:blipFill>
        <p:spPr>
          <a:xfrm>
            <a:off x="609480" y="1676520"/>
            <a:ext cx="3772080" cy="2552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mickey-mouse-ears.jpg"/>
          <p:cNvPicPr/>
          <p:nvPr/>
        </p:nvPicPr>
        <p:blipFill>
          <a:blip r:embed="rId2"/>
          <a:stretch/>
        </p:blipFill>
        <p:spPr>
          <a:xfrm>
            <a:off x="5562720" y="3886200"/>
            <a:ext cx="22860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3595680" cy="3657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imagedemosm.aspx?picid=467"/>
          <p:cNvPicPr/>
          <p:nvPr/>
        </p:nvPicPr>
        <p:blipFill>
          <a:blip r:embed="rId2"/>
          <a:stretch/>
        </p:blipFill>
        <p:spPr>
          <a:xfrm>
            <a:off x="6172200" y="304920"/>
            <a:ext cx="2070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inesthetic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106640"/>
            <a:ext cx="7696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es (solid, liquid, g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on” says..with muscles, bones, anatomical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cor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ion vs.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 building (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g/Dance (peristalsis, villi, poop)/YDIX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uch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servations/Prior Knowledge/B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289400" cy="6019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934320" y="914400"/>
            <a:ext cx="1038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Ha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4648320"/>
            <a:ext cx="10670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Sca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910040" cy="5715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7010280" y="7621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Fa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480" y="4648320"/>
            <a:ext cx="2210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Saxapho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 understand the research behind using MI in your classroom (specifically nonlinguist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erience the various uses of nonlinguistic re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a lesson plan or lesson plan sketch using this strategy to tap into the visual learners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438800" cy="4421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7010280" y="7621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Carro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51055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Brea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Foldables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Concept Map"/>
          <p:cNvPicPr/>
          <p:nvPr/>
        </p:nvPicPr>
        <p:blipFill>
          <a:blip r:embed="rId1"/>
          <a:stretch/>
        </p:blipFill>
        <p:spPr>
          <a:xfrm>
            <a:off x="533520" y="533520"/>
            <a:ext cx="815328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Concept Map Examples for  Middle and High School"/>
          <p:cNvPicPr/>
          <p:nvPr/>
        </p:nvPicPr>
        <p:blipFill>
          <a:blip r:embed="rId1"/>
          <a:stretch/>
        </p:blipFill>
        <p:spPr>
          <a:xfrm>
            <a:off x="1523880" y="457200"/>
            <a:ext cx="56786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Causes and Effects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Causes and Effects Examples for Middle and HIgh School"/>
          <p:cNvPicPr/>
          <p:nvPr/>
        </p:nvPicPr>
        <p:blipFill>
          <a:blip r:embed="rId1"/>
          <a:stretch/>
        </p:blipFill>
        <p:spPr>
          <a:xfrm>
            <a:off x="4572000" y="457200"/>
            <a:ext cx="3906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Venn Diagram"/>
          <p:cNvPicPr/>
          <p:nvPr/>
        </p:nvPicPr>
        <p:blipFill>
          <a:blip r:embed="rId1"/>
          <a:stretch/>
        </p:blipFill>
        <p:spPr>
          <a:xfrm>
            <a:off x="1066680" y="685800"/>
            <a:ext cx="6705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Venn Diagram Examples for  Middle and High School"/>
          <p:cNvPicPr/>
          <p:nvPr/>
        </p:nvPicPr>
        <p:blipFill>
          <a:blip r:embed="rId1"/>
          <a:stretch/>
        </p:blipFill>
        <p:spPr>
          <a:xfrm>
            <a:off x="838080" y="304920"/>
            <a:ext cx="6186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Basic Fo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bu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rr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1247760" cy="1187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43000" y="5029200"/>
            <a:ext cx="1817640" cy="1446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629400" y="1523880"/>
            <a:ext cx="2259000" cy="1373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705720" y="3352680"/>
            <a:ext cx="2087280" cy="1287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705720" y="5334120"/>
            <a:ext cx="147780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4495680" cy="6324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638680" y="1676520"/>
            <a:ext cx="2819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t’s Play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nonlinguistic represen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905120"/>
            <a:ext cx="769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Students: create graph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representations, m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pictures, physical models, drawing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nd participate in kinesthe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ctivity in order to assimi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762120"/>
            <a:ext cx="121896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43800" y="4800600"/>
            <a:ext cx="121932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Review Strateg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33360" y="190512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lea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2979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Where do we begin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flect on past practices..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page 1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teach the way we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variety the spice of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we know about the brain and learning? (Bookab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533520"/>
            <a:ext cx="83059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ntique Olive"/>
              </a:rPr>
              <a:t>How to implement RBIS (especially nonlinguistic) in your classroo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cept Maps – see appendix in book (pg.35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ayer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nowledge Rating 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dels – physical and m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inesthetic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orybo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ld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3314880" cy="4143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35916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78440" y="6019920"/>
            <a:ext cx="65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dhelper.com/teachers/graphic_organizers_kw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14720" y="557280"/>
            <a:ext cx="471456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71760" y="547560"/>
            <a:ext cx="420048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4:15:45Z</dcterms:created>
  <dc:creator>Monica Daigler</dc:creator>
  <dc:description/>
  <dc:language>en-US</dc:language>
  <cp:lastModifiedBy>Monica Burgio-Daigler</cp:lastModifiedBy>
  <dcterms:modified xsi:type="dcterms:W3CDTF">2010-08-11T16:21:07Z</dcterms:modified>
  <cp:revision>14</cp:revision>
  <dc:subject/>
  <dc:title>Slide 1</dc:title>
</cp:coreProperties>
</file>