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jpeg" ContentType="image/jpeg"/>
  <Override PartName="/ppt/media/image14.png" ContentType="image/png"/>
  <Override PartName="/ppt/media/image28.wmf" ContentType="image/x-wmf"/>
  <Override PartName="/ppt/media/image17.png" ContentType="image/png"/>
  <Override PartName="/ppt/media/image27.wmf" ContentType="image/x-wmf"/>
  <Override PartName="/ppt/media/image16.png" ContentType="image/png"/>
  <Override PartName="/ppt/media/image25.wmf" ContentType="image/x-wmf"/>
  <Override PartName="/ppt/media/image24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FA8-3C4F-4F6B-B6EB-9F743A97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6D4-5908-4E9C-BCF1-5467E9C3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5F8-9AB2-4E40-8A53-3CD8CBF2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F15-E9DB-46F8-97C5-2CB37077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B8C-5690-449D-A085-15BC9F32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EA6-224B-4D32-B7F3-804E7348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04B-DFAA-4E2B-B898-3AF70B73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0B3-AD50-443E-8431-50C2BAD7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6B8-6A97-4015-8D41-82F8B3FE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E72-EC29-454B-8107-2344BE96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E1F-0778-436A-8BFF-773DF27A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DC6-F215-4B69-86C2-2F9B70BC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3E1C-A06F-40D8-9930-4CC39C961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ps.edu/aps/tls/ContentUnit/Literacy/docs/KnowledgeRatingChart.pdf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onicabd.wikispaces.com/Starpoint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nonliguistic%20opening.doc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teach reflects as learn"/>
          <p:cNvPicPr/>
          <p:nvPr/>
        </p:nvPicPr>
        <p:blipFill>
          <a:blip r:embed="rId1"/>
          <a:stretch/>
        </p:blipFill>
        <p:spPr>
          <a:xfrm>
            <a:off x="457200" y="380880"/>
            <a:ext cx="79246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62320" y="685800"/>
            <a:ext cx="462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Comparing Animal and Plant Cells Venn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523880"/>
          <a:ext cx="9144000" cy="581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imal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nt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09480" y="380880"/>
          <a:ext cx="7315200" cy="83772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440" y="24120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600200"/>
          <a:ext cx="6202440" cy="3994920"/>
        </p:xfrm>
        <a:graphic>
          <a:graphicData uri="http://schemas.openxmlformats.org/drawingml/2006/table">
            <a:tbl>
              <a:tblPr/>
              <a:tblGrid>
                <a:gridCol w="1240560"/>
                <a:gridCol w="1240560"/>
                <a:gridCol w="1240560"/>
                <a:gridCol w="1240200"/>
                <a:gridCol w="1240560"/>
              </a:tblGrid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961920" y="4161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yer Model…why is it better than regular note cards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57240" y="-4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47920" y="1523880"/>
          <a:ext cx="638172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38172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nowledge Rating Cha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3726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– physical and 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step 4 photo a"/>
          <p:cNvPicPr/>
          <p:nvPr/>
        </p:nvPicPr>
        <p:blipFill>
          <a:blip r:embed="rId1"/>
          <a:stretch/>
        </p:blipFill>
        <p:spPr>
          <a:xfrm>
            <a:off x="609480" y="1676520"/>
            <a:ext cx="377208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mickey-mouse-ears.jpg"/>
          <p:cNvPicPr/>
          <p:nvPr/>
        </p:nvPicPr>
        <p:blipFill>
          <a:blip r:embed="rId2"/>
          <a:stretch/>
        </p:blipFill>
        <p:spPr>
          <a:xfrm>
            <a:off x="5562720" y="3886200"/>
            <a:ext cx="2286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359568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imagedemosm.aspx?picid=467"/>
          <p:cNvPicPr/>
          <p:nvPr/>
        </p:nvPicPr>
        <p:blipFill>
          <a:blip r:embed="rId2"/>
          <a:stretch/>
        </p:blipFill>
        <p:spPr>
          <a:xfrm>
            <a:off x="6172200" y="304920"/>
            <a:ext cx="2070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inesthetic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10664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s (solid, liquid, 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” says..with muscles, bones, anatomica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cor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ion vs.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 building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/Dance (peristalsis, villi, poop)/YDIX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uch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ations/Prior Knowledge/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289400" cy="6019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934320" y="914400"/>
            <a:ext cx="103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H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4648320"/>
            <a:ext cx="10670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Sc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910040" cy="571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Fa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46483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Saxaph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 understand the research behind using MI in your classroom (specifically nonlinguis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erience the various uses of nonlinguistic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lesson plan or lesson plan sketch using this strategy to tap into the visual learners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438800" cy="4421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Carro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51055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Brea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Foldable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Concept Map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Concept Map Examples for  Middle and High School"/>
          <p:cNvPicPr/>
          <p:nvPr/>
        </p:nvPicPr>
        <p:blipFill>
          <a:blip r:embed="rId1"/>
          <a:stretch/>
        </p:blipFill>
        <p:spPr>
          <a:xfrm>
            <a:off x="1523880" y="457200"/>
            <a:ext cx="5678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Causes and Effects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Causes and Effects Examples for Middle and HIgh School"/>
          <p:cNvPicPr/>
          <p:nvPr/>
        </p:nvPicPr>
        <p:blipFill>
          <a:blip r:embed="rId1"/>
          <a:stretch/>
        </p:blipFill>
        <p:spPr>
          <a:xfrm>
            <a:off x="4572000" y="457200"/>
            <a:ext cx="3906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Venn Diagram"/>
          <p:cNvPicPr/>
          <p:nvPr/>
        </p:nvPicPr>
        <p:blipFill>
          <a:blip r:embed="rId1"/>
          <a:stretch/>
        </p:blipFill>
        <p:spPr>
          <a:xfrm>
            <a:off x="1066680" y="685800"/>
            <a:ext cx="6705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Venn Diagram Examples for  Middle and High School"/>
          <p:cNvPicPr/>
          <p:nvPr/>
        </p:nvPicPr>
        <p:blipFill>
          <a:blip r:embed="rId1"/>
          <a:stretch/>
        </p:blipFill>
        <p:spPr>
          <a:xfrm>
            <a:off x="838080" y="304920"/>
            <a:ext cx="6186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Basic 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247760" cy="1187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3000" y="5029200"/>
            <a:ext cx="1817640" cy="1446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629400" y="1523880"/>
            <a:ext cx="2259000" cy="1373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705720" y="3352680"/>
            <a:ext cx="2087280" cy="1287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705720" y="5334120"/>
            <a:ext cx="14778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495680" cy="632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38680" y="1676520"/>
            <a:ext cx="281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t’s Play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nonlinguistic represen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905120"/>
            <a:ext cx="769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tudents: create gra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epresentations,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ictures, physical models, drawing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d participate in kinesthe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ctivity in order to assimi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762120"/>
            <a:ext cx="121896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4800600"/>
            <a:ext cx="121932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Review Strateg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2979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here do we begin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flect on past practices..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page 1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teach the way we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variety the spice of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we know about the brain and learning? (Bookab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533520"/>
            <a:ext cx="83059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ntique Olive"/>
              </a:rPr>
              <a:t>How to implement RBIS (especially nonlinguistic) in your classroo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cept Maps – see appendix in book (pg.35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ye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nowledge Rating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s – physical and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esthetic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orybo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ld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314880" cy="4143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35916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78440" y="6019920"/>
            <a:ext cx="65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dhelper.com/teachers/graphic_organizers_kw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14720" y="557280"/>
            <a:ext cx="47145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71760" y="547560"/>
            <a:ext cx="420048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4:15:45Z</dcterms:created>
  <dc:creator>Monica Daigler</dc:creator>
  <dc:description/>
  <dc:language>en-US</dc:language>
  <cp:lastModifiedBy>Monica Burgio-Daigler</cp:lastModifiedBy>
  <dcterms:modified xsi:type="dcterms:W3CDTF">2010-08-11T16:21:07Z</dcterms:modified>
  <cp:revision>14</cp:revision>
  <dc:subject/>
  <dc:title>Slide 1</dc:title>
</cp:coreProperties>
</file>