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media/image8.png" ContentType="image/png"/>
  <Override PartName="/ppt/media/image5.gif" ContentType="image/gif"/>
  <Override PartName="/ppt/media/image6.gif" ContentType="image/gif"/>
  <Override PartName="/ppt/media/image7.gif" ContentType="image/gi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E9BFC-FC1A-4415-9279-228998DB5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D3007-1DC4-4FE7-BD00-F66BEEDED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1C732-E503-4283-A0E0-C6E99AAED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0F589-35D3-40E9-AA55-8A4B92427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19F2F-B7EE-44A8-83A6-B7AD06118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839C2-3E7E-4DD1-BA85-FB93953D8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748F6-8832-478F-9F0D-290A8FF33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52884-4AF2-40E4-8032-EB290BAB0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4F96B-975D-4C59-90AA-1CB847B8F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4C7E9-0034-44AB-BDFD-D9E815886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C00EC-BEAE-4481-B598-0622B2A04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1665A-287F-47B7-9ED8-183171136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C800-45F2-47F4-A843-0F0D70D66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ecentral.org/assessment/bodyletterskidswork.html" TargetMode="External"/><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ecentral.org/lessonideas/searchresults.asp?category=61" TargetMode="External"/><Relationship Id="rId2" Type="http://schemas.openxmlformats.org/officeDocument/2006/relationships/hyperlink" Target="http://www.pecentral.org/assessment/peerthrowingexample.html"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685440"/>
            <a:ext cx="77724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Some Best Practices:</a:t>
            </a:r>
            <a:br>
              <a:rPr sz="6000"/>
            </a:br>
            <a:r>
              <a:rPr b="0" lang="en-US" sz="6000" spc="-1" strike="noStrike">
                <a:solidFill>
                  <a:srgbClr val="ffffff"/>
                </a:solidFill>
                <a:latin typeface="Arial"/>
              </a:rPr>
              <a:t>Lessons</a:t>
            </a:r>
            <a:br>
              <a:rPr sz="6000"/>
            </a:br>
            <a:r>
              <a:rPr b="0" lang="en-US" sz="6000" spc="-1" strike="noStrike">
                <a:solidFill>
                  <a:srgbClr val="ffffff"/>
                </a:solidFill>
                <a:latin typeface="Arial"/>
              </a:rPr>
              <a:t>Assessments</a:t>
            </a:r>
            <a:br>
              <a:rPr sz="6000"/>
            </a:br>
            <a:r>
              <a:rPr b="0" lang="en-US" sz="6000" spc="-1" strike="noStrike">
                <a:solidFill>
                  <a:srgbClr val="ffffff"/>
                </a:solidFill>
                <a:latin typeface="Arial"/>
              </a:rPr>
              <a:t>Homework</a:t>
            </a:r>
            <a:br>
              <a:rPr sz="6000"/>
            </a:br>
            <a:r>
              <a:rPr b="0" lang="en-US" sz="6000" spc="-1" strike="noStrike">
                <a:solidFill>
                  <a:srgbClr val="ffffff"/>
                </a:solidFill>
                <a:latin typeface="Arial"/>
              </a:rPr>
              <a:t>Activiti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ctive Academics</a:t>
            </a:r>
            <a:endParaRPr b="0" lang="en-US" sz="6600" spc="-1" strike="noStrike">
              <a:solidFill>
                <a:srgbClr val="000000"/>
              </a:solidFill>
              <a:latin typeface="Arial"/>
            </a:endParaRPr>
          </a:p>
        </p:txBody>
      </p:sp>
      <p:pic>
        <p:nvPicPr>
          <p:cNvPr id="62" name="" descr=""/>
          <p:cNvPicPr/>
          <p:nvPr/>
        </p:nvPicPr>
        <p:blipFill>
          <a:blip r:embed="rId1"/>
          <a:stretch/>
        </p:blipFill>
        <p:spPr>
          <a:xfrm>
            <a:off x="990720" y="2895480"/>
            <a:ext cx="2570040" cy="3124440"/>
          </a:xfrm>
          <a:prstGeom prst="rect">
            <a:avLst/>
          </a:prstGeom>
          <a:ln w="0">
            <a:noFill/>
          </a:ln>
        </p:spPr>
      </p:pic>
      <p:sp>
        <p:nvSpPr>
          <p:cNvPr id="63" name=""/>
          <p:cNvSpPr/>
          <p:nvPr/>
        </p:nvSpPr>
        <p:spPr>
          <a:xfrm>
            <a:off x="4572000" y="6078600"/>
            <a:ext cx="6324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onicabd.wikispaces.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path" presetID="0" repeatCount="indefinite">
                                  <p:stCondLst>
                                    <p:cond delay="0"/>
                                  </p:stCondLst>
                                  <p:childTnLst>
                                    <p:animMotion origin="layout" path="M 0.00122 -0.08809 C 0.07205 -0.12463 0.14306 -0.16093 0.23698 -0.14405 C 0.33108 -0.12717 0.50539 -0.01249 0.5658 0.01318 C 0.62622 0.03884 0.5941 0.00971 0.59983 0.00925 E">
                                      <p:cBhvr>
                                        <p:cTn id="36" dur="5000" fill="hold"/>
                                        <p:tgtEl>
                                          <p:spTgt spid="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57200" y="76320"/>
            <a:ext cx="8229600" cy="6734160"/>
          </a:xfrm>
          <a:prstGeom prst="rect">
            <a:avLst/>
          </a:prstGeom>
          <a:ln w="0">
            <a:noFill/>
          </a:ln>
        </p:spPr>
      </p:pic>
      <p:sp>
        <p:nvSpPr>
          <p:cNvPr id="43" name=""/>
          <p:cNvSpPr txBox="1"/>
          <p:nvPr/>
        </p:nvSpPr>
        <p:spPr>
          <a:xfrm>
            <a:off x="304920" y="304920"/>
            <a:ext cx="24382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New P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
                    </p:tgtEl>
                  </p:cond>
                </p:stCondLst>
                <p:childTnLst>
                  <p:par>
                    <p:cTn id="3" fill="hold">
                      <p:stCondLst>
                        <p:cond evt="onClick">
                          <p:tgtEl>
                            <p:spTgt spid="4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2209680"/>
            <a:ext cx="80769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ngfl-cymru.org.uk/vtc/ngfl/p_e/150/index.html</a:t>
            </a:r>
            <a:br>
              <a:rPr sz="2800"/>
            </a:br>
            <a:br>
              <a:rPr sz="2800"/>
            </a:br>
            <a:endParaRPr b="0" lang="en-US" sz="2800" spc="-1" strike="noStrike">
              <a:solidFill>
                <a:srgbClr val="000000"/>
              </a:solidFill>
              <a:latin typeface="Arial"/>
            </a:endParaRPr>
          </a:p>
        </p:txBody>
      </p:sp>
      <p:sp>
        <p:nvSpPr>
          <p:cNvPr id="45" name=""/>
          <p:cNvSpPr txBox="1"/>
          <p:nvPr/>
        </p:nvSpPr>
        <p:spPr>
          <a:xfrm>
            <a:off x="2209680" y="685800"/>
            <a:ext cx="4800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ool coaching tool</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6" name="" descr=""/>
          <p:cNvPicPr/>
          <p:nvPr/>
        </p:nvPicPr>
        <p:blipFill>
          <a:blip r:embed="rId1"/>
          <a:stretch/>
        </p:blipFill>
        <p:spPr>
          <a:xfrm>
            <a:off x="6477120" y="3352680"/>
            <a:ext cx="1950840" cy="2438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48">
                                  <p:stCondLst>
                                    <p:cond delay="0"/>
                                  </p:stCondLst>
                                  <p:childTnLst>
                                    <p:animMotion origin="layout" path="M -0.04514 -0.0222 C -0.02552 -0.01064 -0.00347 0.00115 0.00625 0.01572 C 0.01615 0.03167 0.02118 0.05086 0.02587 0.06982 C 0.03108 0.08878 0.02587 0.10497 0.02118 0.12231 C 0.01615 0.13872 0.00885 0.15607 -0.00851 0.17063 C -0.02309 0.18543 -0.04774 0.19699 -0.07448 0.20601 C -0.09913 0.21456 -0.12865 0.22034 -0.15799 0.22335 C -0.18733 0.22635 -0.21667 0.22635 -0.24392 0.22335 C -0.27326 0.22034 -0.3 0.21294 -0.32222 0.20138 C -0.34427 0.19121 -0.36389 0.17803 -0.37361 0.16208 C -0.38594 0.14728 -0.39062 0.12693 -0.39062 0.11075 C -0.39323 0.09479 -0.39062 0.0756 -0.3783 0.05965 C -0.36632 0.04485 -0.34427 0.03329 -0.31493 0.02751 C -0.28507 0.02312 -0.25573 0.0289 -0.23628 0.03907 C -0.21927 0.04924 -0.20677 0.06543 -0.20434 0.08439 C -0.20434 0.10335 -0.20677 0.12092 -0.21927 0.13549 C -0.2316 0.15028 -0.22899 0.15306 -0.27795 0.17225 C -0.32222 0.19283 -0.36632 0.18682 -0.39323 0.1882 C -0.41996 0.1882 -0.44219 0.18242 -0.46892 0.17641 C -0.49878 0.16948 -0.52292 0.15607 -0.54045 0.1445 C -0.55746 0.13271 -0.56458 0.11815 -0.57448 0.09479 C -0.5816 0.07144 -0.5816 0.05965 -0.5816 0.04185 C -0.5816 0.0245 -0.5816 0.00693 -0.5816 -0.01064 E">
                                      <p:cBhvr>
                                        <p:cTn id="12" dur="2000" fill="hold"/>
                                        <p:tgtEl>
                                          <p:spTgt spid="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99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a:t>
            </a:r>
            <a:endParaRPr b="0" lang="en-US" sz="4400" spc="-1" strike="noStrike">
              <a:solidFill>
                <a:srgbClr val="000000"/>
              </a:solidFill>
              <a:latin typeface="Arial"/>
            </a:endParaRPr>
          </a:p>
        </p:txBody>
      </p:sp>
      <p:sp>
        <p:nvSpPr>
          <p:cNvPr id="4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mp into Spelling</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larkdale Elementary School, Diana Gobbi teaches spelling, computer skills, and physical education at the same time! The lesson starts with a computer keyboard -- but this keyboard is larger than life. It's drawn on the gym floor or painted outside on the concrete! Gobbi has created laminated activity cards to accompany the keyboard. Each card includes a series of directions such as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mp to spell these computer words: disk, cursor, return.  Spell your name.  Jump to spell your favorite PE activity.  Press return/enter to start this program over for the next person.</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mp from key to key to complete the activities. This activity makes a perfect PE learning center activity. Students can work in pairs to complete the activity and to check each other's work.</a:t>
            </a:r>
            <a:endParaRPr b="0" lang="en-US" sz="2400" spc="-1" strike="noStrike">
              <a:solidFill>
                <a:srgbClr val="000000"/>
              </a:solidFill>
              <a:latin typeface="Arial"/>
            </a:endParaRPr>
          </a:p>
        </p:txBody>
      </p:sp>
      <p:pic>
        <p:nvPicPr>
          <p:cNvPr id="49" name="" descr=""/>
          <p:cNvPicPr/>
          <p:nvPr/>
        </p:nvPicPr>
        <p:blipFill>
          <a:blip r:embed="rId1"/>
          <a:stretch/>
        </p:blipFill>
        <p:spPr>
          <a:xfrm>
            <a:off x="6858000" y="228600"/>
            <a:ext cx="1330200" cy="14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9999"/>
                </a:solidFill>
                <a:uFillTx/>
                <a:latin typeface="Arial"/>
                <a:hlinkClick r:id="rId1"/>
              </a:rPr>
              <a:t>Homework Example for Spelling</a:t>
            </a:r>
            <a:endParaRPr b="0" lang="en-US" sz="6000" spc="-1" strike="noStrike">
              <a:solidFill>
                <a:srgbClr val="000000"/>
              </a:solidFill>
              <a:latin typeface="Arial"/>
            </a:endParaRPr>
          </a:p>
        </p:txBody>
      </p:sp>
      <p:pic>
        <p:nvPicPr>
          <p:cNvPr id="51" name="" descr=""/>
          <p:cNvPicPr/>
          <p:nvPr/>
        </p:nvPicPr>
        <p:blipFill>
          <a:blip r:embed="rId2"/>
          <a:stretch/>
        </p:blipFill>
        <p:spPr>
          <a:xfrm>
            <a:off x="685800" y="3657600"/>
            <a:ext cx="3200400" cy="2452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path" presetID="0" repeatCount="indefinite">
                                  <p:stCondLst>
                                    <p:cond delay="0"/>
                                  </p:stCondLst>
                                  <p:endCondLst>
                                    <p:cond evt="onNext"/>
                                  </p:endCondLst>
                                  <p:childTnLst>
                                    <p:animMotion origin="layout" path="M -4.44444E-006 -5.78035E-008 C 0.00608 0.00833 0.01216 0.01203 0.02066 0.0148 C 0.04601 0.03261 0.07414 0.01734 0.1 0.01064 C 0.10764 0.0037 0.11823 -0.0067 0.12223 -0.01896 C 0.12362 -0.02312 0.12292 -0.02867 0.12535 -0.03167 C 0.13056 -0.03815 0.129 -0.03583 0.1349 -0.04647 C 0.14323 -0.06127 0.14184 -0.07029 0.15712 -0.07815 C 0.1625 -0.08763 0.1658 -0.09225 0.17466 -0.09502 C 0.1816 -0.10474 0.19046 -0.1052 0.2 -0.10774 C 0.22396 -0.10612 0.22882 -0.1119 0.24289 -0.09502 C 0.24619 -0.09109 0.24862 -0.08555 0.25244 -0.08231 C 0.26094 -0.07491 0.25573 -0.08 0.26667 -0.06543 C 0.26823 -0.06335 0.27136 -0.05919 0.27136 -0.05919 C 0.2757 -0.04323 0.26962 -0.06381 0.27778 -0.04439 C 0.28542 -0.02612 0.27119 -0.05202 0.28247 -0.02959 C 0.28872 -0.01734 0.29705 -0.00555 0.30799 -0.00208 C 0.32275 -0.00277 0.33768 -0.00254 0.35244 -0.00416 C 0.35573 -0.00462 0.35938 -0.00555 0.36198 -0.00832 C 0.36494 -0.01156 0.36823 -0.02104 0.36823 -0.02104 C 0.36875 -0.0245 0.36962 -0.02797 0.3698 -0.03167 C 0.37066 -0.04716 0.3698 -0.06266 0.37136 -0.07815 C 0.37153 -0.08023 0.37379 -0.08069 0.37466 -0.08231 C 0.37587 -0.08439 0.37657 -0.0867 0.37778 -0.08878 C 0.38594 -0.10219 0.39532 -0.11167 0.40799 -0.1163 C 0.41598 -0.1156 0.42396 -0.1156 0.43178 -0.11398 C 0.44688 -0.11098 0.45226 -0.08832 0.46198 -0.07607 C 0.46875 -0.04809 0.45938 -0.01248 0.47778 0.00856 C 0.48386 0.0155 0.48455 0.01503 0.49202 0.01919 C 0.50799 0.01734 0.52396 0.01804 0.53976 0.0148 C 0.54462 0.01388 0.554 0.00856 0.554 0.00856 C 0.55608 0.00648 0.55799 0.00393 0.56025 0.00208 C 0.56233 0.00047 0.56476 -0.00023 0.56667 -0.00208 C 0.5724 -0.00739 0.5724 -0.01387 0.57934 -0.01687 C 0.58264 -0.04439 0.58195 -0.0326 0.57934 -0.08023 C 0.57761 -0.11167 0.57778 -0.07699 0.57778 -0.08878 E">
                                      <p:cBhvr>
                                        <p:cTn id="18" dur="3000" fill="hold"/>
                                        <p:tgtEl>
                                          <p:spTgt spid="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14400" y="228600"/>
            <a:ext cx="7848720" cy="6421320"/>
          </a:xfrm>
          <a:prstGeom prst="rect">
            <a:avLst/>
          </a:prstGeom>
          <a:ln w="0">
            <a:noFill/>
          </a:ln>
        </p:spPr>
      </p:pic>
      <p:sp>
        <p:nvSpPr>
          <p:cNvPr id="53" name=""/>
          <p:cNvSpPr txBox="1"/>
          <p:nvPr/>
        </p:nvSpPr>
        <p:spPr>
          <a:xfrm>
            <a:off x="228600" y="152280"/>
            <a:ext cx="24955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dventure P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52"/>
                    </p:tgtEl>
                  </p:cond>
                </p:stCondLst>
                <p:childTnLst>
                  <p:par>
                    <p:cTn id="21" fill="hold">
                      <p:stCondLst>
                        <p:cond evt="onClick">
                          <p:tgtEl>
                            <p:spTgt spid="52"/>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Arial"/>
                <a:hlinkClick r:id="rId1"/>
              </a:rPr>
              <a:t>Assessment Ideas</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Arial"/>
                <a:hlinkClick r:id="rId2"/>
              </a:rPr>
              <a:t>Peer Assessment</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arning Logs</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56" name="" descr=""/>
          <p:cNvPicPr/>
          <p:nvPr/>
        </p:nvPicPr>
        <p:blipFill>
          <a:blip r:embed="rId3"/>
          <a:stretch/>
        </p:blipFill>
        <p:spPr>
          <a:xfrm>
            <a:off x="6172200" y="4495680"/>
            <a:ext cx="2590920" cy="179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50000">
              <a:srgbClr val="00ff00"/>
            </a:gs>
            <a:gs pos="100000">
              <a:srgbClr val="ccff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Check this out…getting active EVERY DAY!!</a:t>
            </a:r>
            <a:endParaRPr b="0" lang="en-US" sz="6600" spc="-1" strike="noStrike">
              <a:solidFill>
                <a:srgbClr val="000000"/>
              </a:solidFill>
              <a:latin typeface="Arial"/>
            </a:endParaRPr>
          </a:p>
        </p:txBody>
      </p:sp>
      <p:pic>
        <p:nvPicPr>
          <p:cNvPr id="58" name="" descr=""/>
          <p:cNvPicPr/>
          <p:nvPr/>
        </p:nvPicPr>
        <p:blipFill>
          <a:blip r:embed="rId1"/>
          <a:stretch/>
        </p:blipFill>
        <p:spPr>
          <a:xfrm>
            <a:off x="6934320" y="4572000"/>
            <a:ext cx="1761840" cy="176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85800" y="47520"/>
            <a:ext cx="8229600" cy="6734160"/>
          </a:xfrm>
          <a:prstGeom prst="rect">
            <a:avLst/>
          </a:prstGeom>
          <a:ln w="0">
            <a:noFill/>
          </a:ln>
        </p:spPr>
      </p:pic>
      <p:sp>
        <p:nvSpPr>
          <p:cNvPr id="60" name=""/>
          <p:cNvSpPr txBox="1"/>
          <p:nvPr/>
        </p:nvSpPr>
        <p:spPr>
          <a:xfrm>
            <a:off x="228600" y="152280"/>
            <a:ext cx="181944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ame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59"/>
                    </p:tgtEl>
                  </p:cond>
                </p:stCondLst>
                <p:childTnLst>
                  <p:par>
                    <p:cTn id="27" fill="hold">
                      <p:stCondLst>
                        <p:cond evt="onClick">
                          <p:tgtEl>
                            <p:spTgt spid="59"/>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22:52:56Z</dcterms:created>
  <dc:creator>Monica Burgio</dc:creator>
  <dc:description/>
  <dc:language>en-US</dc:language>
  <cp:lastModifiedBy>Erie 1 Staff-Mobile Labs</cp:lastModifiedBy>
  <dcterms:modified xsi:type="dcterms:W3CDTF">2008-11-03T19:37:54Z</dcterms:modified>
  <cp:revision>9</cp:revision>
  <dc:subject/>
  <dc:title>Best Practices</dc:title>
</cp:coreProperties>
</file>