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FA93-95A8-4B8F-953F-DF7F64598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00E7-7389-4E4A-A04E-B21D0A497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5A70-8F3A-4556-B7F9-9A6F6197F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36EC-1F07-473C-BD28-916E1B57A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FE59-DEEC-4C65-8097-EBD249EAC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B890-5637-49B8-A0A1-ECC8626B9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5422-3799-4282-864E-159FC6AB1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F635-8744-4274-AD6C-8E36CCF70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6F81-8406-4C72-AA08-EEAF9EED4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49E2-2F2D-462E-BAC1-22790E9BD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4819-F5F2-4570-B008-07CF99536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C4B-3515-466A-A248-9432B882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9CD-28F2-48A8-9459-F2E50F79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B84-F0C6-4484-AAAF-2D01223B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7A3-F2B3-4B31-96D2-EC5101DC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B6A3-6BC2-46E1-9E88-C7D1CA2C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B585-2676-4DD8-B8AA-F0B50C6E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A25D-A7C8-4CEE-AEDB-4920586B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56D7-1150-4969-AF85-112A7102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3E5B-E6CA-47FE-8657-898B2185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B710-67F3-4FBA-8E26-D55C37A7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C2A1-12FD-4E7B-8B30-928279AA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4D3-F47E-4471-8198-1FFD49A0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E0FA-637A-4199-AAB4-A22E8D83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3A9E-FD32-46BD-9526-B873BBF4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EF9C-3EC9-4951-A08D-C81DD725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C327-43F6-4185-925A-39D7C0A7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F8DA-8F90-43CA-965B-61AE657F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D61-C6C4-4F61-82FD-7CDAC720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F17-F2F9-4F0C-9F8D-5E7B9504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F69-B9DD-4B13-A62D-3EF55B63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C20D-4AA7-4012-9396-D0B32813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099-F22A-44CC-B356-DF1385A5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C6D-6D00-4E43-B0E4-EFF758FA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6BD5-2ED9-4F6D-A2A6-66628C35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7DCD-1EF0-4B2C-B15B-284C4BEE1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885E-D01D-4919-990B-56FF05DD7EC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, Evaluation, and Al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1857240"/>
            <a:ext cx="7696080" cy="333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type of evaluation would you use in each of the following situations – diagnostic, formative, or summativ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85520" y="2286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Identify if additional practice is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905120" y="1905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Give a final grad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dentify areas of content that are unclea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Prepare for transfer of what was learn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219320" y="1905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Find out what the students already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883440" y="1905120"/>
            <a:ext cx="75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Focus learner attention on topics 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learn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099800" y="1981080"/>
            <a:ext cx="54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Give corrective feedbac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ing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ssessing for student achievement, it is important that you use procedures that are compatible with the instructional objecti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14200" y="3142800"/>
            <a:ext cx="86695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Curved Up Arrow 10"/>
          <p:cNvSpPr/>
          <p:nvPr/>
        </p:nvSpPr>
        <p:spPr>
          <a:xfrm flipH="1">
            <a:off x="1213560" y="3714840"/>
            <a:ext cx="6286680" cy="857160"/>
          </a:xfrm>
          <a:custGeom>
            <a:avLst/>
            <a:gdLst>
              <a:gd name="textAreaLeft" fmla="*/ 1491120 w 6286680"/>
              <a:gd name="textAreaRight" fmla="*/ 4688280 w 628668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-3686593"/>
                <a:lnTo>
                  <a:pt x="21275" y="5400"/>
                </a:lnTo>
                <a:lnTo>
                  <a:pt x="20864" y="0"/>
                </a:lnTo>
                <a:lnTo>
                  <a:pt x="19802" y="5400"/>
                </a:lnTo>
                <a:lnTo>
                  <a:pt x="20170" y="5400"/>
                </a:lnTo>
                <a:arcTo wR="10248" hR="21600" stAng="1713407" swAng="3627912"/>
                <a:lnTo>
                  <a:pt x="10616" y="21586"/>
                </a:lnTo>
                <a:arcTo wR="10248" hR="21600" stAng="5458681" swAng="5341319"/>
                <a:close/>
              </a:path>
              <a:path fill="darkenLess"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58681"/>
                <a:lnTo>
                  <a:pt x="10616" y="21586"/>
                </a:lnTo>
                <a:arcTo wR="10248" hR="21600" stAng="5458681" swAng="5341319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0" name="Straight Arrow Connector 12"/>
          <p:cNvCxnSpPr/>
          <p:nvPr/>
        </p:nvCxnSpPr>
        <p:spPr>
          <a:xfrm>
            <a:off x="2000160" y="3429000"/>
            <a:ext cx="643320" cy="2160"/>
          </a:xfrm>
          <a:prstGeom prst="straightConnector1">
            <a:avLst/>
          </a:prstGeom>
          <a:ln w="38160">
            <a:solidFill>
              <a:srgbClr val="e7bb0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1" name="Straight Arrow Connector 15"/>
          <p:cNvCxnSpPr/>
          <p:nvPr/>
        </p:nvCxnSpPr>
        <p:spPr>
          <a:xfrm>
            <a:off x="6215040" y="3429000"/>
            <a:ext cx="643320" cy="2160"/>
          </a:xfrm>
          <a:prstGeom prst="straightConnector1">
            <a:avLst/>
          </a:prstGeom>
          <a:ln w="38160">
            <a:solidFill>
              <a:srgbClr val="e7bb01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ssessment, evaluation, and alig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the three major types of assess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the significance of the “Cycle of Continuous Improvement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some types of traditional and alternative or performance-based assess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instances of good and poor alignment in instru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Instr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Content Placeholder 3"/>
          <p:cNvSpPr/>
          <p:nvPr/>
        </p:nvSpPr>
        <p:spPr>
          <a:xfrm>
            <a:off x="0" y="3429000"/>
            <a:ext cx="87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ight Arrow 4"/>
          <p:cNvSpPr/>
          <p:nvPr/>
        </p:nvSpPr>
        <p:spPr>
          <a:xfrm>
            <a:off x="1785960" y="357192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ight Arrow 5"/>
          <p:cNvSpPr/>
          <p:nvPr/>
        </p:nvSpPr>
        <p:spPr>
          <a:xfrm>
            <a:off x="5929200" y="357192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Curved Up Arrow 10"/>
          <p:cNvSpPr/>
          <p:nvPr/>
        </p:nvSpPr>
        <p:spPr>
          <a:xfrm flipH="1">
            <a:off x="999360" y="4000680"/>
            <a:ext cx="6286680" cy="857160"/>
          </a:xfrm>
          <a:custGeom>
            <a:avLst/>
            <a:gdLst>
              <a:gd name="textAreaLeft" fmla="*/ 1491120 w 6286680"/>
              <a:gd name="textAreaRight" fmla="*/ 4688280 w 628668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-3686593"/>
                <a:lnTo>
                  <a:pt x="21275" y="5400"/>
                </a:lnTo>
                <a:lnTo>
                  <a:pt x="20864" y="0"/>
                </a:lnTo>
                <a:lnTo>
                  <a:pt x="19802" y="5400"/>
                </a:lnTo>
                <a:lnTo>
                  <a:pt x="20170" y="5400"/>
                </a:lnTo>
                <a:arcTo wR="10248" hR="21600" stAng="1713407" swAng="3627912"/>
                <a:lnTo>
                  <a:pt x="10616" y="21586"/>
                </a:lnTo>
                <a:arcTo wR="10248" hR="21600" stAng="5458681" swAng="5341319"/>
                <a:close/>
              </a:path>
              <a:path fill="darkenLess"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58681"/>
                <a:lnTo>
                  <a:pt x="10616" y="21586"/>
                </a:lnTo>
                <a:arcTo wR="10248" hR="21600" stAng="5458681" swAng="5341319"/>
                <a:close/>
              </a:path>
            </a:pathLst>
          </a:cu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Instruc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4200" y="3928680"/>
            <a:ext cx="8740800" cy="9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Curved Up Arrow 4"/>
          <p:cNvSpPr/>
          <p:nvPr/>
        </p:nvSpPr>
        <p:spPr>
          <a:xfrm>
            <a:off x="1000080" y="4429080"/>
            <a:ext cx="7072200" cy="1000080"/>
          </a:xfrm>
          <a:custGeom>
            <a:avLst/>
            <a:gdLst>
              <a:gd name="textAreaLeft" fmla="*/ 1674360 w 7072200"/>
              <a:gd name="textAreaRight" fmla="*/ 5272920 w 7072200"/>
              <a:gd name="textAreaTop" fmla="*/ 133920 h 1000080"/>
              <a:gd name="textAreaBottom" fmla="*/ 86616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28" hR="21600" stAng="10800000" swAng="-5400000"/>
                <a:lnTo>
                  <a:pt x="10991" y="21600"/>
                </a:lnTo>
                <a:arcTo wR="10228" hR="21600" stAng="5400000" swAng="-3683771"/>
                <a:lnTo>
                  <a:pt x="21275" y="5400"/>
                </a:lnTo>
                <a:lnTo>
                  <a:pt x="20837" y="0"/>
                </a:lnTo>
                <a:lnTo>
                  <a:pt x="19748" y="5400"/>
                </a:lnTo>
                <a:lnTo>
                  <a:pt x="20130" y="5400"/>
                </a:lnTo>
                <a:arcTo wR="10228" hR="21600" stAng="1716229" swAng="3623018"/>
                <a:lnTo>
                  <a:pt x="10609" y="21585"/>
                </a:lnTo>
                <a:arcTo wR="10228" hR="21600" stAng="5460754" swAng="5339246"/>
                <a:close/>
              </a:path>
              <a:path fill="darkenLess" w="21600" h="21600">
                <a:moveTo>
                  <a:pt x="0" y="0"/>
                </a:moveTo>
                <a:arcTo wR="10228" hR="21600" stAng="10800000" swAng="-5400000"/>
                <a:lnTo>
                  <a:pt x="10991" y="21600"/>
                </a:lnTo>
                <a:arcTo wR="10228" hR="21600" stAng="5400000" swAng="60754"/>
                <a:lnTo>
                  <a:pt x="10609" y="21585"/>
                </a:lnTo>
                <a:arcTo wR="10228" hR="21600" stAng="5460754" swAng="5339246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eft Arrow 5"/>
          <p:cNvSpPr/>
          <p:nvPr/>
        </p:nvSpPr>
        <p:spPr>
          <a:xfrm>
            <a:off x="6072120" y="4000680"/>
            <a:ext cx="571680" cy="42840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eft Arrow 6"/>
          <p:cNvSpPr/>
          <p:nvPr/>
        </p:nvSpPr>
        <p:spPr>
          <a:xfrm>
            <a:off x="1986120" y="4000680"/>
            <a:ext cx="571320" cy="4284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 Aligned/Not Congru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989000"/>
            <a:ext cx="8748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will apply the scientific method process to analyze infomerci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teacher describes the steps of the scientific method and gives examples of each st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are asked to describe the steps of the scientific method and descern the different parts of the scientific method from a given exam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define the steps of the scientific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ed/Congru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Content Placeholder 5"/>
          <p:cNvSpPr/>
          <p:nvPr/>
        </p:nvSpPr>
        <p:spPr>
          <a:xfrm>
            <a:off x="324000" y="1844640"/>
            <a:ext cx="8748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will apply the scientific method process to analyze infomerci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teacher describes the steps of the scientific method and gives examples of each st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are asked to describe the steps of the scientific method and discern the different parts of the scientific method from a given exam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take a current infomercial and analyze it scientifically using the scientific method as evidence for proving or disproving the clai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t’s decontruct a regents exa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end ma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ook at ques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ick one and pick out content and skill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-171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Your Unit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gin creating your assess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rite questions—traditional or authentic aligned to your objectives/understandings/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vs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is a  process of making a decision about student learning. It requires us to make a judgment about student knowledge, student behavior or performance, or student attitud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ment is a strategy for measuring that knowledge, behavior or performance, or attitude.  It is a data-gathering strateg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surement or data you gain from assessment helps you make the decision of evaluatio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rposes of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t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-ma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Diagram 5"/>
          <p:cNvGrpSpPr/>
          <p:nvPr/>
        </p:nvGrpSpPr>
        <p:grpSpPr>
          <a:xfrm>
            <a:off x="2538000" y="1032120"/>
            <a:ext cx="5810760" cy="5032800"/>
            <a:chOff x="2538000" y="1032120"/>
            <a:chExt cx="5810760" cy="5032800"/>
          </a:xfrm>
        </p:grpSpPr>
        <p:sp>
          <p:nvSpPr>
            <p:cNvPr id="114" name="_s1028"/>
            <p:cNvSpPr/>
            <p:nvPr/>
          </p:nvSpPr>
          <p:spPr>
            <a:xfrm>
              <a:off x="3671280" y="103212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_s1029"/>
            <p:cNvSpPr/>
            <p:nvPr/>
          </p:nvSpPr>
          <p:spPr>
            <a:xfrm rot="7200000">
              <a:off x="4155480" y="187056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0"/>
            <p:cNvSpPr/>
            <p:nvPr/>
          </p:nvSpPr>
          <p:spPr>
            <a:xfrm rot="14400000">
              <a:off x="3186360" y="187164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_s1031"/>
            <p:cNvSpPr/>
            <p:nvPr/>
          </p:nvSpPr>
          <p:spPr>
            <a:xfrm>
              <a:off x="6415200" y="1681200"/>
              <a:ext cx="1422360" cy="14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for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4732200" y="459504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urin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_s1033"/>
            <p:cNvSpPr/>
            <p:nvPr/>
          </p:nvSpPr>
          <p:spPr>
            <a:xfrm>
              <a:off x="3049560" y="1681200"/>
              <a:ext cx="1422000" cy="14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ft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" name="Text Box 13"/>
          <p:cNvSpPr/>
          <p:nvPr/>
        </p:nvSpPr>
        <p:spPr>
          <a:xfrm>
            <a:off x="2484360" y="5734080"/>
            <a:ext cx="6172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Palatino Linotype"/>
                <a:ea typeface="Times New Roman"/>
              </a:rPr>
              <a:t>Cycle of Continuous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7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ree Major Kinds of Assess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nostic (Befo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ve (Dur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tive (Af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ve assessment – an ongoing process designed to guide the teacher in planning and to determine whether learning problems are emerg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tive assessment- occurs at the end of instruction to show the teacher the level of student accomplish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 the assessment formative or summativ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depends on what is done with the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teacher uses the outcome to shape future teaching and to “form” instruction, then the assessment is form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s are used to determine how much the student has learned and to assign a grade or final evaluation then it is summ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 Meas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ernative cho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Cho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ion/Short Answ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ernative/Performance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li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br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tion instru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ecdotal Rec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fol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an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monst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3:05:08Z</dcterms:created>
  <dc:creator>Tracy Carol Rock</dc:creator>
  <dc:description/>
  <dc:language>en-US</dc:language>
  <cp:lastModifiedBy>Monica Daigler</cp:lastModifiedBy>
  <dcterms:modified xsi:type="dcterms:W3CDTF">2009-03-25T00:11:29Z</dcterms:modified>
  <cp:revision>24</cp:revision>
  <dc:subject/>
  <dc:title>ASSESSMENT</dc:title>
</cp:coreProperties>
</file>