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7166-F4E0-470C-BF79-8A2C9AC17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0432-0A4A-47AB-89C9-43EDD71DC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6DBD-953A-4819-B104-7E651876F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A611-294D-4B0D-AB01-369479591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FD5E-28D3-4452-BFA6-4A9C7967E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FC68-A05A-4167-B1E0-05C3AB2C6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D2E0-551E-4893-B65D-016D3ECA4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9BD3-9D6A-4AA1-BB02-79802358F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21E0-04A0-4E2A-BBC9-116DA3D45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7A8F-2A94-4871-9341-14A08F9A1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4156-7DBD-4282-BB3E-49BC770C7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CE8F-7320-4031-9B22-C8899EBC9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4ABD-5D53-468B-8328-4FA56ABD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1993-BD40-46F1-B99C-DAD670D69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0A1E-D291-4904-93D4-57C689E89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ED0F-0CB8-4DAD-A0A0-B5A2F6AA4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10B5-2992-44CB-96CB-C491790A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9BC5-381D-400D-B1CD-BFF1CE34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B77D-873E-40B8-9A74-5F6137B7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2E04-0297-4B40-9B5D-AD95EBD9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E629-ECAE-41E7-AC5A-9F4CA066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9717-ADF5-409B-88F5-7EC3055A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9B26-77FA-4D2A-9B16-E1043D9F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892E-7FD4-4889-8376-7B6C7C0D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7542-BF11-44F9-8083-F870346D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B090-BF66-4D63-8108-6A130D75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2897-546C-427D-B13D-4C3663549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95D8-BA57-4E63-81D0-CCBAABAD4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3D71-BE33-4E1C-B59C-4B375EC6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1A7A-0DB0-4C1B-BCE5-71FF7F8B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8B61-A206-4055-BC5F-8FF02151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6932-5BEA-470B-B06A-4E3A6ECE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5B36-4A4A-4642-8AB5-A811973A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E93B-EF99-40D1-BD91-FA58012F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03E7-2EB8-45F8-A00D-F355CD33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2474-F178-4DC2-A3B0-6A344A189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F4DB-48B5-45EB-AB96-172BD9339DAE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essment, Evaluation, and Alig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0080" y="1857240"/>
            <a:ext cx="7696080" cy="333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at type of evaluation would you use in each of the following situations – diagnostic, formative, or summative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85520" y="22860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Identify if additional practice is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57200" y="533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Diagnostic              Formative                Summati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1905120" y="190512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Give a final grad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457200" y="533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Diagnostic              Formative                Summati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Identify areas of content that are unclea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457200" y="533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Diagnostic              Formative                Summati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 Prepare for transfer of what was learn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57200" y="533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Diagnostic              Formative                Summati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1219320" y="19051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 Find out what the students already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457200" y="533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Diagnostic              Formative                Summati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883440" y="1905120"/>
            <a:ext cx="752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 Focus learner attention on topics t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 learn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457200" y="533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Diagnostic              Formative                Summati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1099800" y="1981080"/>
            <a:ext cx="548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. Give corrective feedback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457200" y="533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7575d1"/>
                </a:solidFill>
                <a:latin typeface="Tahoma"/>
              </a:rPr>
              <a:t>Diagnostic              Formative                Summati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igning Assess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ssessing for student achievement, it is important that you use procedures that are compatible with the instructional objectiv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ig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14200" y="3142800"/>
            <a:ext cx="866952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bjectiv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instructional activities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7575d1"/>
                </a:solidFill>
                <a:latin typeface="Tahoma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Curved Up Arrow 10"/>
          <p:cNvSpPr/>
          <p:nvPr/>
        </p:nvSpPr>
        <p:spPr>
          <a:xfrm flipH="1">
            <a:off x="1213560" y="3714840"/>
            <a:ext cx="6286680" cy="857160"/>
          </a:xfrm>
          <a:custGeom>
            <a:avLst/>
            <a:gdLst>
              <a:gd name="textAreaLeft" fmla="*/ 1491120 w 6286680"/>
              <a:gd name="textAreaRight" fmla="*/ 4688280 w 6286680"/>
              <a:gd name="textAreaTop" fmla="*/ 114840 h 857160"/>
              <a:gd name="textAreaBottom" fmla="*/ 742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248" hR="21600" stAng="10800000" swAng="-5400000"/>
                <a:lnTo>
                  <a:pt x="10985" y="21600"/>
                </a:lnTo>
                <a:arcTo wR="10248" hR="21600" stAng="5400000" swAng="-3686593"/>
                <a:lnTo>
                  <a:pt x="21275" y="5400"/>
                </a:lnTo>
                <a:lnTo>
                  <a:pt x="20864" y="0"/>
                </a:lnTo>
                <a:lnTo>
                  <a:pt x="19802" y="5400"/>
                </a:lnTo>
                <a:lnTo>
                  <a:pt x="20170" y="5400"/>
                </a:lnTo>
                <a:arcTo wR="10248" hR="21600" stAng="1713407" swAng="3627912"/>
                <a:lnTo>
                  <a:pt x="10616" y="21586"/>
                </a:lnTo>
                <a:arcTo wR="10248" hR="21600" stAng="5458681" swAng="5341319"/>
                <a:close/>
              </a:path>
              <a:path fill="darkenLess" w="21600" h="21600">
                <a:moveTo>
                  <a:pt x="0" y="0"/>
                </a:moveTo>
                <a:arcTo wR="10248" hR="21600" stAng="10800000" swAng="-5400000"/>
                <a:lnTo>
                  <a:pt x="10985" y="21600"/>
                </a:lnTo>
                <a:arcTo wR="10248" hR="21600" stAng="5400000" swAng="58681"/>
                <a:lnTo>
                  <a:pt x="10616" y="21586"/>
                </a:lnTo>
                <a:arcTo wR="10248" hR="21600" stAng="5458681" swAng="5341319"/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0" name="Straight Arrow Connector 12"/>
          <p:cNvCxnSpPr/>
          <p:nvPr/>
        </p:nvCxnSpPr>
        <p:spPr>
          <a:xfrm>
            <a:off x="2000160" y="3429000"/>
            <a:ext cx="643320" cy="2160"/>
          </a:xfrm>
          <a:prstGeom prst="straightConnector1">
            <a:avLst/>
          </a:prstGeom>
          <a:ln w="38160">
            <a:solidFill>
              <a:srgbClr val="e7bb01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1" name="Straight Arrow Connector 15"/>
          <p:cNvCxnSpPr/>
          <p:nvPr/>
        </p:nvCxnSpPr>
        <p:spPr>
          <a:xfrm>
            <a:off x="6215040" y="3429000"/>
            <a:ext cx="643320" cy="2160"/>
          </a:xfrm>
          <a:prstGeom prst="straightConnector1">
            <a:avLst/>
          </a:prstGeom>
          <a:ln w="38160">
            <a:solidFill>
              <a:srgbClr val="e7bb01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ssessment, evaluation, and align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560" indent="-4575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the three major types of assess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560" indent="-4575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in the significance of the “Cycle of Continuous Improvement”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560" indent="-4575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some types of traditional and alternative or performance-based assessm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560" indent="-4575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instances of good and poor alignment in instru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560" indent="-4575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560" indent="-4575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igning Instr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Content Placeholder 3"/>
          <p:cNvSpPr/>
          <p:nvPr/>
        </p:nvSpPr>
        <p:spPr>
          <a:xfrm>
            <a:off x="0" y="3429000"/>
            <a:ext cx="874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bjectiv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instructional activities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7575d1"/>
                </a:solidFill>
                <a:latin typeface="Tahoma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ight Arrow 4"/>
          <p:cNvSpPr/>
          <p:nvPr/>
        </p:nvSpPr>
        <p:spPr>
          <a:xfrm>
            <a:off x="1785960" y="3571920"/>
            <a:ext cx="571320" cy="2858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ight Arrow 5"/>
          <p:cNvSpPr/>
          <p:nvPr/>
        </p:nvSpPr>
        <p:spPr>
          <a:xfrm>
            <a:off x="5929200" y="3571920"/>
            <a:ext cx="5716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Curved Up Arrow 10"/>
          <p:cNvSpPr/>
          <p:nvPr/>
        </p:nvSpPr>
        <p:spPr>
          <a:xfrm flipH="1">
            <a:off x="999360" y="4000680"/>
            <a:ext cx="6286680" cy="857160"/>
          </a:xfrm>
          <a:custGeom>
            <a:avLst/>
            <a:gdLst>
              <a:gd name="textAreaLeft" fmla="*/ 1491120 w 6286680"/>
              <a:gd name="textAreaRight" fmla="*/ 4688280 w 6286680"/>
              <a:gd name="textAreaTop" fmla="*/ 114840 h 857160"/>
              <a:gd name="textAreaBottom" fmla="*/ 742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248" hR="21600" stAng="10800000" swAng="-5400000"/>
                <a:lnTo>
                  <a:pt x="10985" y="21600"/>
                </a:lnTo>
                <a:arcTo wR="10248" hR="21600" stAng="5400000" swAng="-3686593"/>
                <a:lnTo>
                  <a:pt x="21275" y="5400"/>
                </a:lnTo>
                <a:lnTo>
                  <a:pt x="20864" y="0"/>
                </a:lnTo>
                <a:lnTo>
                  <a:pt x="19802" y="5400"/>
                </a:lnTo>
                <a:lnTo>
                  <a:pt x="20170" y="5400"/>
                </a:lnTo>
                <a:arcTo wR="10248" hR="21600" stAng="1713407" swAng="3627912"/>
                <a:lnTo>
                  <a:pt x="10616" y="21586"/>
                </a:lnTo>
                <a:arcTo wR="10248" hR="21600" stAng="5458681" swAng="5341319"/>
                <a:close/>
              </a:path>
              <a:path fill="darkenLess" w="21600" h="21600">
                <a:moveTo>
                  <a:pt x="0" y="0"/>
                </a:moveTo>
                <a:arcTo wR="10248" hR="21600" stAng="10800000" swAng="-5400000"/>
                <a:lnTo>
                  <a:pt x="10985" y="21600"/>
                </a:lnTo>
                <a:arcTo wR="10248" hR="21600" stAng="5400000" swAng="58681"/>
                <a:lnTo>
                  <a:pt x="10616" y="21586"/>
                </a:lnTo>
                <a:arcTo wR="10248" hR="21600" stAng="5458681" swAng="5341319"/>
                <a:close/>
              </a:path>
            </a:pathLst>
          </a:cu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igning Instruct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4200" y="3928680"/>
            <a:ext cx="8740800" cy="9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bjectiv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instructional activities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7575d1"/>
                </a:solidFill>
                <a:latin typeface="Tahoma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Curved Up Arrow 4"/>
          <p:cNvSpPr/>
          <p:nvPr/>
        </p:nvSpPr>
        <p:spPr>
          <a:xfrm>
            <a:off x="1000080" y="4429080"/>
            <a:ext cx="7072200" cy="1000080"/>
          </a:xfrm>
          <a:custGeom>
            <a:avLst/>
            <a:gdLst>
              <a:gd name="textAreaLeft" fmla="*/ 1674360 w 7072200"/>
              <a:gd name="textAreaRight" fmla="*/ 5272920 w 7072200"/>
              <a:gd name="textAreaTop" fmla="*/ 133920 h 1000080"/>
              <a:gd name="textAreaBottom" fmla="*/ 86616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228" hR="21600" stAng="10800000" swAng="-5400000"/>
                <a:lnTo>
                  <a:pt x="10991" y="21600"/>
                </a:lnTo>
                <a:arcTo wR="10228" hR="21600" stAng="5400000" swAng="-3683771"/>
                <a:lnTo>
                  <a:pt x="21275" y="5400"/>
                </a:lnTo>
                <a:lnTo>
                  <a:pt x="20837" y="0"/>
                </a:lnTo>
                <a:lnTo>
                  <a:pt x="19748" y="5400"/>
                </a:lnTo>
                <a:lnTo>
                  <a:pt x="20130" y="5400"/>
                </a:lnTo>
                <a:arcTo wR="10228" hR="21600" stAng="1716229" swAng="3623018"/>
                <a:lnTo>
                  <a:pt x="10609" y="21585"/>
                </a:lnTo>
                <a:arcTo wR="10228" hR="21600" stAng="5460754" swAng="5339246"/>
                <a:close/>
              </a:path>
              <a:path fill="darkenLess" w="21600" h="21600">
                <a:moveTo>
                  <a:pt x="0" y="0"/>
                </a:moveTo>
                <a:arcTo wR="10228" hR="21600" stAng="10800000" swAng="-5400000"/>
                <a:lnTo>
                  <a:pt x="10991" y="21600"/>
                </a:lnTo>
                <a:arcTo wR="10228" hR="21600" stAng="5400000" swAng="60754"/>
                <a:lnTo>
                  <a:pt x="10609" y="21585"/>
                </a:lnTo>
                <a:arcTo wR="10228" hR="21600" stAng="5460754" swAng="5339246"/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Left Arrow 5"/>
          <p:cNvSpPr/>
          <p:nvPr/>
        </p:nvSpPr>
        <p:spPr>
          <a:xfrm>
            <a:off x="6072120" y="4000680"/>
            <a:ext cx="571680" cy="428400"/>
          </a:xfrm>
          <a:prstGeom prst="leftArrow">
            <a:avLst>
              <a:gd name="adj1" fmla="val 50000"/>
              <a:gd name="adj2" fmla="val 50042"/>
            </a:avLst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Left Arrow 6"/>
          <p:cNvSpPr/>
          <p:nvPr/>
        </p:nvSpPr>
        <p:spPr>
          <a:xfrm>
            <a:off x="1986120" y="4000680"/>
            <a:ext cx="571320" cy="42840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t Aligned/Not Congru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95280" y="1989000"/>
            <a:ext cx="8748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bj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tudents will apply the scientific method process to analyze infomercia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each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The teacher describes the steps of the scientific method and gives examples of each ste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racti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tudents are asked to describe the steps of the scientific method and descern the different parts of the scientific method from a given examp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ssess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tudents define the steps of the scientific 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igned/Congru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Content Placeholder 5"/>
          <p:cNvSpPr/>
          <p:nvPr/>
        </p:nvSpPr>
        <p:spPr>
          <a:xfrm>
            <a:off x="324000" y="1844640"/>
            <a:ext cx="87487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bj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tudents will apply the scientific method process to analyze infomercia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each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The teacher describes the steps of the scientific method and gives examples of each ste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racti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tudents are asked to describe the steps of the scientific method and discern the different parts of the scientific method from a given examp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ssess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Students take a current infomercial and analyze it scientifically using the scientific method as evidence for proving or disproving the claim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Ste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Let’s decontruct a regents exa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end map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Look at ques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ick one and pick out content and skill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-1717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Your Unit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280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egin creating your assessmen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rite questions—traditional or authentic aligned to your objectives/understandings/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ssential ques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ion vs Assess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ion is a  process of making a decision about student learning. It requires us to make a judgment about student knowledge, student behavior or performance, or student attitud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ssment is a strategy for measuring that knowledge, behavior or performance, or attitude.  It is a data-gathering strateg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easurement or data you gain from assessment helps you make the decision of evaluation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urposes of Assess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ote 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-ma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Diagram 5"/>
          <p:cNvGrpSpPr/>
          <p:nvPr/>
        </p:nvGrpSpPr>
        <p:grpSpPr>
          <a:xfrm>
            <a:off x="2538000" y="1032120"/>
            <a:ext cx="5810760" cy="5032800"/>
            <a:chOff x="2538000" y="1032120"/>
            <a:chExt cx="5810760" cy="5032800"/>
          </a:xfrm>
        </p:grpSpPr>
        <p:sp>
          <p:nvSpPr>
            <p:cNvPr id="114" name="_s1028"/>
            <p:cNvSpPr/>
            <p:nvPr/>
          </p:nvSpPr>
          <p:spPr>
            <a:xfrm>
              <a:off x="3671280" y="1032120"/>
              <a:ext cx="3544560" cy="3544560"/>
            </a:xfrm>
            <a:custGeom>
              <a:avLst/>
              <a:gdLst>
                <a:gd name="textAreaLeft" fmla="*/ 0 w 3544560"/>
                <a:gd name="textAreaRight" fmla="*/ 3544920 w 3544560"/>
                <a:gd name="textAreaTop" fmla="*/ 0 h 3544560"/>
                <a:gd name="textAreaBottom" fmla="*/ 3544920 h 354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_s1029"/>
            <p:cNvSpPr/>
            <p:nvPr/>
          </p:nvSpPr>
          <p:spPr>
            <a:xfrm rot="7200000">
              <a:off x="4155480" y="1870560"/>
              <a:ext cx="3544560" cy="3544560"/>
            </a:xfrm>
            <a:custGeom>
              <a:avLst/>
              <a:gdLst>
                <a:gd name="textAreaLeft" fmla="*/ 0 w 3544560"/>
                <a:gd name="textAreaRight" fmla="*/ 3544920 w 3544560"/>
                <a:gd name="textAreaTop" fmla="*/ 0 h 3544560"/>
                <a:gd name="textAreaBottom" fmla="*/ 3544920 h 354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_s1030"/>
            <p:cNvSpPr/>
            <p:nvPr/>
          </p:nvSpPr>
          <p:spPr>
            <a:xfrm rot="14400000">
              <a:off x="3186360" y="1871640"/>
              <a:ext cx="3544560" cy="3544560"/>
            </a:xfrm>
            <a:custGeom>
              <a:avLst/>
              <a:gdLst>
                <a:gd name="textAreaLeft" fmla="*/ 0 w 3544560"/>
                <a:gd name="textAreaRight" fmla="*/ 3544920 w 3544560"/>
                <a:gd name="textAreaTop" fmla="*/ 0 h 3544560"/>
                <a:gd name="textAreaBottom" fmla="*/ 3544920 h 354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_s1031"/>
            <p:cNvSpPr/>
            <p:nvPr/>
          </p:nvSpPr>
          <p:spPr>
            <a:xfrm>
              <a:off x="6415200" y="1681200"/>
              <a:ext cx="1422360" cy="14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efor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_s1032"/>
            <p:cNvSpPr/>
            <p:nvPr/>
          </p:nvSpPr>
          <p:spPr>
            <a:xfrm>
              <a:off x="4732200" y="4595040"/>
              <a:ext cx="1422360" cy="14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during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_s1033"/>
            <p:cNvSpPr/>
            <p:nvPr/>
          </p:nvSpPr>
          <p:spPr>
            <a:xfrm>
              <a:off x="3049560" y="1681200"/>
              <a:ext cx="1422000" cy="14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fte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0" name="Text Box 13"/>
          <p:cNvSpPr/>
          <p:nvPr/>
        </p:nvSpPr>
        <p:spPr>
          <a:xfrm>
            <a:off x="2484360" y="5734080"/>
            <a:ext cx="6172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Palatino Linotype"/>
                <a:ea typeface="Times New Roman"/>
              </a:rPr>
              <a:t>Cycle of Continuous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5724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ree Major Kinds of Assessmen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agnostic (Befor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tive (Duri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mmative (Aft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ess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tive assessment – an ongoing process designed to guide the teacher in planning and to determine whether learning problems are emerg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mmative assessment- occurs at the end of instruction to show the teacher the level of student accomplish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 the assessment formative or summativ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depends on what is done with the resul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teacher uses the outcome to shape future teaching and to “form” instruction, then the assessment is formati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s are used to determine how much the student has learned and to assign a grade or final evaluation then it is summati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essment Meas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di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ternative cho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Cho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etion/Short Answ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ernative/Performance-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lis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ubr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servation instru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ecdotal Recor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rtfoli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forman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monstr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pla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13:05:08Z</dcterms:created>
  <dc:creator>Tracy Carol Rock</dc:creator>
  <dc:description/>
  <dc:language>en-US</dc:language>
  <cp:lastModifiedBy>Monica Daigler</cp:lastModifiedBy>
  <dcterms:modified xsi:type="dcterms:W3CDTF">2009-03-25T00:11:29Z</dcterms:modified>
  <cp:revision>24</cp:revision>
  <dc:subject/>
  <dc:title>ASSESSMENT</dc:title>
</cp:coreProperties>
</file>