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5A9-D71F-467B-ADB0-22A1F9E95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4B6-630C-4FB4-8599-2286416D0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BC9-C514-40FF-B2F5-BF537983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27D2-A066-4E2D-98A3-98AC0457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32A4-835B-4207-B3D0-6CF67D6A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4EE-1155-48AB-BAFD-2175F71CA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6473-94CE-4823-AB99-59CB1197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891-18E1-44E1-A1E8-A0A13D13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245-ED47-4525-A069-33304868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AE3A-D43B-47DE-981D-49D2B662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7697-EA3A-442B-A343-C1343CEF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845-7F40-4CEF-AB22-54D731BC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97B-24BB-45EF-B528-3518EED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B50-8626-4D4A-AAA7-EA3132F1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BFA-40A2-4A90-A1D4-C3B1E6E2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FEF6-705B-4BEC-BE8D-9CED55E5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B7E-3392-4450-97DC-7AECAF94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6AE2-8BEA-4B38-A338-186EA98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F60C-42EE-48BC-BEA1-3B7343D4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2D2F-AEEE-4C2F-ABF1-DED24831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9D7-3D26-4074-BB8E-305A03F2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1DFA-43CC-413F-855E-C7561DE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F43-40CA-4940-AF5C-152AB2C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38D8-9E79-45A6-A884-F68BB3FC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D559-C8E4-44D9-9BEC-876AF6AD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E0DC-DCCF-4D6C-9EF7-4539C999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9D9-08E1-445C-956D-BA2D30FD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0D9C-3777-4155-B18E-7A258FDE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995-A053-4C7B-900F-20D5F2F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7BB-33F1-447C-841C-78FD6976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F83-1626-460E-8623-CD85DBBC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D82-7BC8-4E8F-9A3D-0288ECCB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90D-7AF9-4255-A69B-1CF0695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770-E21C-4F3C-9046-622F0E1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1A7-F1E2-4A3B-9761-B08F335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FB5D-0BAC-4D19-BA27-46ECA107E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005-69E9-4E47-837F-1EAD99F0DC6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, Evaluation, and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696080" cy="333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type of evaluation would you use in each of the following situations – diagnostic, formative, or summativ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8552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dentify if additional practice is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905120" y="1905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Give a final gra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dentify areas of content that are unclea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repare for transfer of what was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19320" y="1905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Find out what the students already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883440" y="190512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Focus learner attention on topics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09980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Give corrective feedb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ssessing for student achievement, it is important that you use procedures that are compatible with the instructional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4200" y="3142800"/>
            <a:ext cx="8669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rved Up Arrow 10"/>
          <p:cNvSpPr/>
          <p:nvPr/>
        </p:nvSpPr>
        <p:spPr>
          <a:xfrm flipH="1">
            <a:off x="1213560" y="371484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>
            <a:off x="200016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Straight Arrow Connector 15"/>
          <p:cNvCxnSpPr/>
          <p:nvPr/>
        </p:nvCxnSpPr>
        <p:spPr>
          <a:xfrm>
            <a:off x="621504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ssessment, evaluation, an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hree major types of assess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significance of the “Cycle of Continuous Improvemen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some types of traditional and alternative or performance-based assess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instances of good and poor alignment in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Content Placeholder 3"/>
          <p:cNvSpPr/>
          <p:nvPr/>
        </p:nvSpPr>
        <p:spPr>
          <a:xfrm>
            <a:off x="0" y="342900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ight Arrow 4"/>
          <p:cNvSpPr/>
          <p:nvPr/>
        </p:nvSpPr>
        <p:spPr>
          <a:xfrm>
            <a:off x="1785960" y="357192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ight Arrow 5"/>
          <p:cNvSpPr/>
          <p:nvPr/>
        </p:nvSpPr>
        <p:spPr>
          <a:xfrm>
            <a:off x="5929200" y="35719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rved Up Arrow 10"/>
          <p:cNvSpPr/>
          <p:nvPr/>
        </p:nvSpPr>
        <p:spPr>
          <a:xfrm flipH="1">
            <a:off x="999360" y="400068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3928680"/>
            <a:ext cx="8740800" cy="9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rved Up Arrow 4"/>
          <p:cNvSpPr/>
          <p:nvPr/>
        </p:nvSpPr>
        <p:spPr>
          <a:xfrm>
            <a:off x="1000080" y="4429080"/>
            <a:ext cx="7072200" cy="1000080"/>
          </a:xfrm>
          <a:custGeom>
            <a:avLst/>
            <a:gdLst>
              <a:gd name="textAreaLeft" fmla="*/ 1674360 w 7072200"/>
              <a:gd name="textAreaRight" fmla="*/ 5272920 w 707220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-3683771"/>
                <a:lnTo>
                  <a:pt x="21275" y="5400"/>
                </a:lnTo>
                <a:lnTo>
                  <a:pt x="20837" y="0"/>
                </a:lnTo>
                <a:lnTo>
                  <a:pt x="19748" y="5400"/>
                </a:lnTo>
                <a:lnTo>
                  <a:pt x="20130" y="5400"/>
                </a:lnTo>
                <a:arcTo wR="10228" hR="21600" stAng="1716229" swAng="3623018"/>
                <a:lnTo>
                  <a:pt x="10609" y="21585"/>
                </a:lnTo>
                <a:arcTo wR="10228" hR="21600" stAng="5460754" swAng="5339246"/>
                <a:close/>
              </a:path>
              <a:path fill="darkenLess"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60754"/>
                <a:lnTo>
                  <a:pt x="10609" y="21585"/>
                </a:lnTo>
                <a:arcTo wR="10228" hR="21600" stAng="5460754" swAng="5339246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eft Arrow 5"/>
          <p:cNvSpPr/>
          <p:nvPr/>
        </p:nvSpPr>
        <p:spPr>
          <a:xfrm>
            <a:off x="6072120" y="4000680"/>
            <a:ext cx="571680" cy="4284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eft Arrow 6"/>
          <p:cNvSpPr/>
          <p:nvPr/>
        </p:nvSpPr>
        <p:spPr>
          <a:xfrm>
            <a:off x="1986120" y="4000680"/>
            <a:ext cx="571320" cy="4284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 Aligned/Not 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9000"/>
            <a:ext cx="87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e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define the 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ed/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Content Placeholder 5"/>
          <p:cNvSpPr/>
          <p:nvPr/>
        </p:nvSpPr>
        <p:spPr>
          <a:xfrm>
            <a:off x="324000" y="1844640"/>
            <a:ext cx="874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i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take a current infomercial and analyze it scientifically using the scientific method as evidence for proving or disproving the clai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t’s decontruct a regents ex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end 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ok at 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ck one and pick out content and skil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Your Unit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 creating your assess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questions—traditional or authentic aligned to your objectives/understandings/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v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is a  process of making a decision about student learning. It requires us to make a judgment about student knowledge, student behavior or performance, or student attitu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 is a strategy for measuring that knowledge, behavior or performance, or attitude.  It is a data-gathering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 or data you gain from assessment helps you make the decision of evalua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s of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5"/>
          <p:cNvGrpSpPr/>
          <p:nvPr/>
        </p:nvGrpSpPr>
        <p:grpSpPr>
          <a:xfrm>
            <a:off x="2538000" y="1032120"/>
            <a:ext cx="5810760" cy="5032800"/>
            <a:chOff x="2538000" y="1032120"/>
            <a:chExt cx="5810760" cy="5032800"/>
          </a:xfrm>
        </p:grpSpPr>
        <p:sp>
          <p:nvSpPr>
            <p:cNvPr id="114" name="_s1028"/>
            <p:cNvSpPr/>
            <p:nvPr/>
          </p:nvSpPr>
          <p:spPr>
            <a:xfrm>
              <a:off x="3671280" y="103212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 rot="7200000">
              <a:off x="4155480" y="187056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rot="14400000">
              <a:off x="3186360" y="187164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6415200" y="1681200"/>
              <a:ext cx="142236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732200" y="459504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urin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049560" y="1681200"/>
              <a:ext cx="142200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2484360" y="5734080"/>
            <a:ext cx="617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Palatino Linotype"/>
                <a:ea typeface="Times New Roman"/>
              </a:rPr>
              <a:t>Cycle of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7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ree Major Kinds of Assess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(Befo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(Du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(Af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assessment – an ongoing process designed to guide the teacher in planning and to determine whether learning problems are emer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assessment- occurs at the end of instruction to show the teacher the level of stude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e assessment formative or summativ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what is done with the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eacher uses the outcome to shape future teaching and to “form” instruction, then the assessment is for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s are used to determine how much the student has learned and to assign a grade or final evaluation then it is sum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nativ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ion/Short Ans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/Performance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instr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ecdotal Rec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fol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05:08Z</dcterms:created>
  <dc:creator>Tracy Carol Rock</dc:creator>
  <dc:description/>
  <dc:language>en-US</dc:language>
  <cp:lastModifiedBy>Monica Daigler</cp:lastModifiedBy>
  <dcterms:modified xsi:type="dcterms:W3CDTF">2009-03-25T00:11:29Z</dcterms:modified>
  <cp:revision>24</cp:revision>
  <dc:subject/>
  <dc:title>ASSESSMENT</dc:title>
</cp:coreProperties>
</file>