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F67-4B39-4A92-BB8D-AB8888EBF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778B-823A-40B2-B172-805E9B5A2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C958-EAB9-493F-A061-CCC0E16E2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FDF-0A86-42BB-97D1-E0BC2581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0132-3ADB-4376-AF7E-FE0F5E39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9B0-22DB-4469-81E4-D8189597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726-D341-467E-B98A-7FBDF242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8AA-06BB-4A3E-B85E-9FE4EA65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895-5D27-41E4-94DE-00C0A69F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B12-DB0A-44F8-ACAC-63B95167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BB15-96D0-4DEB-B90D-B79C3718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DD6-0EED-4B3A-853F-B95B9859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9DE-6BD2-4EBF-8CE7-5E2866B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6D1-D4F4-4F64-8D85-A42E9D00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C32-252A-47BB-975C-52C30CC7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AD24-A29C-4CC9-92EA-F86CEB01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4700-7233-4FD7-A4E3-8E3EFA5C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5BEC-0000-477D-AE4D-58F5570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B1DD-0F5D-4311-9CB4-5BB50D8C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294-0CE1-4184-B5F1-D8C28E0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5129-A8BB-4650-8D22-71D54A0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9C68-7140-4EE4-A4E7-F15249A0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F71-A31C-442B-A0AE-663BF66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5FF0-7022-410F-82FC-AF812F6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67E3-837E-456C-A1B5-81297616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4F7D-EDA8-4AF1-A2A5-2EB4641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E08C-82F6-429C-9023-A3E967E0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EE92-E97E-4752-9126-C4DC4042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349-F276-4453-96D0-1D316EE3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927-8F3C-40D5-9517-AA5720C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2C4-7336-42EB-844B-8D280CE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15E-6509-4A5C-832B-40E247FB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402-6659-4BAF-B061-443857F4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4CD-AF2D-4B5C-82DB-39FC2BCF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9EE-BF6A-4878-91E4-D157B91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F1DB-6C0D-43C3-9B95-DAD353DC7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5C92-D381-458D-8FC9-4179DD32F9B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, Evaluation, and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696080" cy="333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type of evaluation would you use in each of the following situations – diagnostic, formative, or summativ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8552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dentify if additional practice is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905120" y="1905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Give a final gra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dentify areas of content that are unclea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repare for transfer of what was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19320" y="1905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Find out what the students already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883440" y="190512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Focus learner attention on topics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09980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Give corrective feedb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ssessing for student achievement, it is important that you use procedures that are compatible with the instructional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4200" y="3142800"/>
            <a:ext cx="8669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rved Up Arrow 10"/>
          <p:cNvSpPr/>
          <p:nvPr/>
        </p:nvSpPr>
        <p:spPr>
          <a:xfrm flipH="1">
            <a:off x="1213560" y="371484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>
            <a:off x="200016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Straight Arrow Connector 15"/>
          <p:cNvCxnSpPr/>
          <p:nvPr/>
        </p:nvCxnSpPr>
        <p:spPr>
          <a:xfrm>
            <a:off x="621504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ssessment, evaluation, an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hree major types of assess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significance of the “Cycle of Continuous Improvemen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some types of traditional and alternative or performance-based assess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instances of good and poor alignment in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Content Placeholder 3"/>
          <p:cNvSpPr/>
          <p:nvPr/>
        </p:nvSpPr>
        <p:spPr>
          <a:xfrm>
            <a:off x="0" y="342900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ight Arrow 4"/>
          <p:cNvSpPr/>
          <p:nvPr/>
        </p:nvSpPr>
        <p:spPr>
          <a:xfrm>
            <a:off x="1785960" y="357192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ight Arrow 5"/>
          <p:cNvSpPr/>
          <p:nvPr/>
        </p:nvSpPr>
        <p:spPr>
          <a:xfrm>
            <a:off x="5929200" y="35719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rved Up Arrow 10"/>
          <p:cNvSpPr/>
          <p:nvPr/>
        </p:nvSpPr>
        <p:spPr>
          <a:xfrm flipH="1">
            <a:off x="999360" y="400068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3928680"/>
            <a:ext cx="8740800" cy="9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rved Up Arrow 4"/>
          <p:cNvSpPr/>
          <p:nvPr/>
        </p:nvSpPr>
        <p:spPr>
          <a:xfrm>
            <a:off x="1000080" y="4429080"/>
            <a:ext cx="7072200" cy="1000080"/>
          </a:xfrm>
          <a:custGeom>
            <a:avLst/>
            <a:gdLst>
              <a:gd name="textAreaLeft" fmla="*/ 1674360 w 7072200"/>
              <a:gd name="textAreaRight" fmla="*/ 5272920 w 707220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-3683771"/>
                <a:lnTo>
                  <a:pt x="21275" y="5400"/>
                </a:lnTo>
                <a:lnTo>
                  <a:pt x="20837" y="0"/>
                </a:lnTo>
                <a:lnTo>
                  <a:pt x="19748" y="5400"/>
                </a:lnTo>
                <a:lnTo>
                  <a:pt x="20130" y="5400"/>
                </a:lnTo>
                <a:arcTo wR="10228" hR="21600" stAng="1716229" swAng="3623018"/>
                <a:lnTo>
                  <a:pt x="10609" y="21585"/>
                </a:lnTo>
                <a:arcTo wR="10228" hR="21600" stAng="5460754" swAng="5339246"/>
                <a:close/>
              </a:path>
              <a:path fill="darkenLess"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60754"/>
                <a:lnTo>
                  <a:pt x="10609" y="21585"/>
                </a:lnTo>
                <a:arcTo wR="10228" hR="21600" stAng="5460754" swAng="5339246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eft Arrow 5"/>
          <p:cNvSpPr/>
          <p:nvPr/>
        </p:nvSpPr>
        <p:spPr>
          <a:xfrm>
            <a:off x="6072120" y="4000680"/>
            <a:ext cx="571680" cy="4284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eft Arrow 6"/>
          <p:cNvSpPr/>
          <p:nvPr/>
        </p:nvSpPr>
        <p:spPr>
          <a:xfrm>
            <a:off x="1986120" y="4000680"/>
            <a:ext cx="571320" cy="4284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 Aligned/Not 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9000"/>
            <a:ext cx="87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e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define the 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ed/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Content Placeholder 5"/>
          <p:cNvSpPr/>
          <p:nvPr/>
        </p:nvSpPr>
        <p:spPr>
          <a:xfrm>
            <a:off x="324000" y="1844640"/>
            <a:ext cx="874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i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take a current infomercial and analyze it scientifically using the scientific method as evidence for proving or disproving the clai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t’s decontruct a regents ex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end 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ok at 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ck one and pick out content and skil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Your Unit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 creating your assess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questions—traditional or authentic aligned to your objectives/understandings/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v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is a  process of making a decision about student learning. It requires us to make a judgment about student knowledge, student behavior or performance, or student attitu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 is a strategy for measuring that knowledge, behavior or performance, or attitude.  It is a data-gathering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 or data you gain from assessment helps you make the decision of evalua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s of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5"/>
          <p:cNvGrpSpPr/>
          <p:nvPr/>
        </p:nvGrpSpPr>
        <p:grpSpPr>
          <a:xfrm>
            <a:off x="2538000" y="1032120"/>
            <a:ext cx="5810760" cy="5032800"/>
            <a:chOff x="2538000" y="1032120"/>
            <a:chExt cx="5810760" cy="5032800"/>
          </a:xfrm>
        </p:grpSpPr>
        <p:sp>
          <p:nvSpPr>
            <p:cNvPr id="114" name="_s1028"/>
            <p:cNvSpPr/>
            <p:nvPr/>
          </p:nvSpPr>
          <p:spPr>
            <a:xfrm>
              <a:off x="3671280" y="103212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 rot="7200000">
              <a:off x="4155480" y="187056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rot="14400000">
              <a:off x="3186360" y="187164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6415200" y="1681200"/>
              <a:ext cx="142236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732200" y="459504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urin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049560" y="1681200"/>
              <a:ext cx="142200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2484360" y="5734080"/>
            <a:ext cx="617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Palatino Linotype"/>
                <a:ea typeface="Times New Roman"/>
              </a:rPr>
              <a:t>Cycle of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7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ree Major Kinds of Assess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(Befo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(Du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(Af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assessment – an ongoing process designed to guide the teacher in planning and to determine whether learning problems are emer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assessment- occurs at the end of instruction to show the teacher the level of stude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e assessment formative or summativ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what is done with the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eacher uses the outcome to shape future teaching and to “form” instruction, then the assessment is for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s are used to determine how much the student has learned and to assign a grade or final evaluation then it is sum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nativ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ion/Short Ans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/Performance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instr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ecdotal Rec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fol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05:08Z</dcterms:created>
  <dc:creator>Tracy Carol Rock</dc:creator>
  <dc:description/>
  <dc:language>en-US</dc:language>
  <cp:lastModifiedBy>Monica Daigler</cp:lastModifiedBy>
  <dcterms:modified xsi:type="dcterms:W3CDTF">2009-03-25T00:11:29Z</dcterms:modified>
  <cp:revision>24</cp:revision>
  <dc:subject/>
  <dc:title>ASSESSMENT</dc:title>
</cp:coreProperties>
</file>