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7F97-3B5B-4472-BDDE-E904D5BD7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AF50-18D3-4F91-9EB5-DD58B0A42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AD42-95B8-4435-8A32-6108389F2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CA2A-2CCD-4437-B9B7-4C0F8D4DA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61BB-8903-485A-9317-76CB54033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9F07-8931-4F31-AB15-8350B6382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8D5D-A94D-4F6C-BDB6-3D6BED39A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4C55-CDC2-4010-B9E9-FDEFF5759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B66E-667D-44D4-8433-77900557F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82CA-4D72-4254-BDB5-1FF72AE4F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350A-2416-4C7C-BBA8-63F9556BE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5FF-6209-41B0-AFBC-300775AF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63D-6575-4C91-A487-A6F34D88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FE3-4183-4C82-8266-2B370094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E27-1197-45B6-B0D5-178E7338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A1C4-E48F-4218-B335-BB0B0305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3D9D-C86F-4ED4-A76B-38E1076F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D4D8-2032-4923-9B55-9EFD77B3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CD96-1901-4CF5-BC51-71B54B40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A3DB-3360-497B-8336-EF5AB8A0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9D04-CD8D-45EF-8B3F-B5951DE2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07DF-01E1-4418-B1F0-12C6A59E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AC3-24FB-4312-AC0E-1585865F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CE15-472E-4981-AE6B-EAB8C9E9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DFBD-698A-4A26-B819-B737EA1A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D44A-03C3-4CD3-9012-1AB98477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52BD-FED5-4F17-999D-12217153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6B1B-59A7-4536-A68B-5B33AA09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A00-069B-4C47-BAEA-685E15E6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20C-886A-4452-9A4A-D25F020C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BA3-D1FF-44D6-A646-E4C63FA6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AE1A-F7B3-4036-8BAB-69A02C64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AF5E-E99D-4150-8DE3-761D92E5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7CD-412C-4B4A-8384-1FFDF58D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085-8873-41BC-AF11-FCDB05F2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1B5C-4BF8-4FB2-A610-2923B71F5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358C-C942-4D3C-886F-5C348C2AC31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, Evaluation, and Alig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0080" y="1857240"/>
            <a:ext cx="7696080" cy="333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type of evaluation would you use in each of the following situations – diagnostic, formative, or summativ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85520" y="2286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Identify if additional practice is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905120" y="19051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Give a final grad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Identify areas of content that are unclea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Prepare for transfer of what was learn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219320" y="1905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Find out what the students already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883440" y="1905120"/>
            <a:ext cx="75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Focus learner attention on topics t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learn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1099800" y="1981080"/>
            <a:ext cx="54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 Give corrective feedbac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ing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ssessing for student achievement, it is important that you use procedures that are compatible with the instructional objecti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14200" y="3142800"/>
            <a:ext cx="86695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instructional activities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7575d1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Curved Up Arrow 10"/>
          <p:cNvSpPr/>
          <p:nvPr/>
        </p:nvSpPr>
        <p:spPr>
          <a:xfrm flipH="1">
            <a:off x="1213560" y="3714840"/>
            <a:ext cx="6286680" cy="857160"/>
          </a:xfrm>
          <a:custGeom>
            <a:avLst/>
            <a:gdLst>
              <a:gd name="textAreaLeft" fmla="*/ 1491120 w 6286680"/>
              <a:gd name="textAreaRight" fmla="*/ 4688280 w 628668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-3686593"/>
                <a:lnTo>
                  <a:pt x="21275" y="5400"/>
                </a:lnTo>
                <a:lnTo>
                  <a:pt x="20864" y="0"/>
                </a:lnTo>
                <a:lnTo>
                  <a:pt x="19802" y="5400"/>
                </a:lnTo>
                <a:lnTo>
                  <a:pt x="20170" y="5400"/>
                </a:lnTo>
                <a:arcTo wR="10248" hR="21600" stAng="1713407" swAng="3627912"/>
                <a:lnTo>
                  <a:pt x="10616" y="21586"/>
                </a:lnTo>
                <a:arcTo wR="10248" hR="21600" stAng="5458681" swAng="5341319"/>
                <a:close/>
              </a:path>
              <a:path fill="darkenLess"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58681"/>
                <a:lnTo>
                  <a:pt x="10616" y="21586"/>
                </a:lnTo>
                <a:arcTo wR="10248" hR="21600" stAng="5458681" swAng="5341319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0" name="Straight Arrow Connector 12"/>
          <p:cNvCxnSpPr/>
          <p:nvPr/>
        </p:nvCxnSpPr>
        <p:spPr>
          <a:xfrm>
            <a:off x="2000160" y="3429000"/>
            <a:ext cx="643320" cy="2160"/>
          </a:xfrm>
          <a:prstGeom prst="straightConnector1">
            <a:avLst/>
          </a:prstGeom>
          <a:ln w="38160">
            <a:solidFill>
              <a:srgbClr val="e7bb01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1" name="Straight Arrow Connector 15"/>
          <p:cNvCxnSpPr/>
          <p:nvPr/>
        </p:nvCxnSpPr>
        <p:spPr>
          <a:xfrm>
            <a:off x="6215040" y="3429000"/>
            <a:ext cx="643320" cy="2160"/>
          </a:xfrm>
          <a:prstGeom prst="straightConnector1">
            <a:avLst/>
          </a:prstGeom>
          <a:ln w="38160">
            <a:solidFill>
              <a:srgbClr val="e7bb01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ssessment, evaluation, and alig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the three major types of assess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the significance of the “Cycle of Continuous Improvement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some types of traditional and alternative or performance-based assess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instances of good and poor alignment in instru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Instr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Content Placeholder 3"/>
          <p:cNvSpPr/>
          <p:nvPr/>
        </p:nvSpPr>
        <p:spPr>
          <a:xfrm>
            <a:off x="0" y="3429000"/>
            <a:ext cx="87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instructional activities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7575d1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ight Arrow 4"/>
          <p:cNvSpPr/>
          <p:nvPr/>
        </p:nvSpPr>
        <p:spPr>
          <a:xfrm>
            <a:off x="1785960" y="357192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ight Arrow 5"/>
          <p:cNvSpPr/>
          <p:nvPr/>
        </p:nvSpPr>
        <p:spPr>
          <a:xfrm>
            <a:off x="5929200" y="3571920"/>
            <a:ext cx="5716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Curved Up Arrow 10"/>
          <p:cNvSpPr/>
          <p:nvPr/>
        </p:nvSpPr>
        <p:spPr>
          <a:xfrm flipH="1">
            <a:off x="999360" y="4000680"/>
            <a:ext cx="6286680" cy="857160"/>
          </a:xfrm>
          <a:custGeom>
            <a:avLst/>
            <a:gdLst>
              <a:gd name="textAreaLeft" fmla="*/ 1491120 w 6286680"/>
              <a:gd name="textAreaRight" fmla="*/ 4688280 w 628668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-3686593"/>
                <a:lnTo>
                  <a:pt x="21275" y="5400"/>
                </a:lnTo>
                <a:lnTo>
                  <a:pt x="20864" y="0"/>
                </a:lnTo>
                <a:lnTo>
                  <a:pt x="19802" y="5400"/>
                </a:lnTo>
                <a:lnTo>
                  <a:pt x="20170" y="5400"/>
                </a:lnTo>
                <a:arcTo wR="10248" hR="21600" stAng="1713407" swAng="3627912"/>
                <a:lnTo>
                  <a:pt x="10616" y="21586"/>
                </a:lnTo>
                <a:arcTo wR="10248" hR="21600" stAng="5458681" swAng="5341319"/>
                <a:close/>
              </a:path>
              <a:path fill="darkenLess"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58681"/>
                <a:lnTo>
                  <a:pt x="10616" y="21586"/>
                </a:lnTo>
                <a:arcTo wR="10248" hR="21600" stAng="5458681" swAng="5341319"/>
                <a:close/>
              </a:path>
            </a:pathLst>
          </a:cu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Instruc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4200" y="3928680"/>
            <a:ext cx="8740800" cy="9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instructional activities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7575d1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Curved Up Arrow 4"/>
          <p:cNvSpPr/>
          <p:nvPr/>
        </p:nvSpPr>
        <p:spPr>
          <a:xfrm>
            <a:off x="1000080" y="4429080"/>
            <a:ext cx="7072200" cy="1000080"/>
          </a:xfrm>
          <a:custGeom>
            <a:avLst/>
            <a:gdLst>
              <a:gd name="textAreaLeft" fmla="*/ 1674360 w 7072200"/>
              <a:gd name="textAreaRight" fmla="*/ 5272920 w 7072200"/>
              <a:gd name="textAreaTop" fmla="*/ 133920 h 1000080"/>
              <a:gd name="textAreaBottom" fmla="*/ 86616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28" hR="21600" stAng="10800000" swAng="-5400000"/>
                <a:lnTo>
                  <a:pt x="10991" y="21600"/>
                </a:lnTo>
                <a:arcTo wR="10228" hR="21600" stAng="5400000" swAng="-3683771"/>
                <a:lnTo>
                  <a:pt x="21275" y="5400"/>
                </a:lnTo>
                <a:lnTo>
                  <a:pt x="20837" y="0"/>
                </a:lnTo>
                <a:lnTo>
                  <a:pt x="19748" y="5400"/>
                </a:lnTo>
                <a:lnTo>
                  <a:pt x="20130" y="5400"/>
                </a:lnTo>
                <a:arcTo wR="10228" hR="21600" stAng="1716229" swAng="3623018"/>
                <a:lnTo>
                  <a:pt x="10609" y="21585"/>
                </a:lnTo>
                <a:arcTo wR="10228" hR="21600" stAng="5460754" swAng="5339246"/>
                <a:close/>
              </a:path>
              <a:path fill="darkenLess" w="21600" h="21600">
                <a:moveTo>
                  <a:pt x="0" y="0"/>
                </a:moveTo>
                <a:arcTo wR="10228" hR="21600" stAng="10800000" swAng="-5400000"/>
                <a:lnTo>
                  <a:pt x="10991" y="21600"/>
                </a:lnTo>
                <a:arcTo wR="10228" hR="21600" stAng="5400000" swAng="60754"/>
                <a:lnTo>
                  <a:pt x="10609" y="21585"/>
                </a:lnTo>
                <a:arcTo wR="10228" hR="21600" stAng="5460754" swAng="5339246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eft Arrow 5"/>
          <p:cNvSpPr/>
          <p:nvPr/>
        </p:nvSpPr>
        <p:spPr>
          <a:xfrm>
            <a:off x="6072120" y="4000680"/>
            <a:ext cx="571680" cy="428400"/>
          </a:xfrm>
          <a:prstGeom prst="leftArrow">
            <a:avLst>
              <a:gd name="adj1" fmla="val 50000"/>
              <a:gd name="adj2" fmla="val 50042"/>
            </a:avLst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eft Arrow 6"/>
          <p:cNvSpPr/>
          <p:nvPr/>
        </p:nvSpPr>
        <p:spPr>
          <a:xfrm>
            <a:off x="1986120" y="4000680"/>
            <a:ext cx="571320" cy="4284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 Aligned/Not Congru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989000"/>
            <a:ext cx="8748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will apply the scientific method process to analyze infomerci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teacher describes the steps of the scientific method and gives examples of each ste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acti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are asked to describe the steps of the scientific method and descern the different parts of the scientific method from a given exam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define the steps of the scientific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ed/Congru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Content Placeholder 5"/>
          <p:cNvSpPr/>
          <p:nvPr/>
        </p:nvSpPr>
        <p:spPr>
          <a:xfrm>
            <a:off x="324000" y="1844640"/>
            <a:ext cx="8748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will apply the scientific method process to analyze infomerci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teacher describes the steps of the scientific method and gives examples of each ste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acti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are asked to describe the steps of the scientific method and discern the different parts of the scientific method from a given exam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take a current infomercial and analyze it scientifically using the scientific method as evidence for proving or disproving the clai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et’s decontruct a regents exa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end map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ook at ques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ick one and pick out content and skill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-1717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Your Unit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gin creating your assess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rite questions—traditional or authentic aligned to your objectives/understandings/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vs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 is a  process of making a decision about student learning. It requires us to make a judgment about student knowledge, student behavior or performance, or student attitud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ment is a strategy for measuring that knowledge, behavior or performance, or attitude.  It is a data-gathering strateg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asurement or data you gain from assessment helps you make the decision of evaluatio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rposes of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t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-ma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Diagram 5"/>
          <p:cNvGrpSpPr/>
          <p:nvPr/>
        </p:nvGrpSpPr>
        <p:grpSpPr>
          <a:xfrm>
            <a:off x="2538000" y="1032120"/>
            <a:ext cx="5810760" cy="5032800"/>
            <a:chOff x="2538000" y="1032120"/>
            <a:chExt cx="5810760" cy="5032800"/>
          </a:xfrm>
        </p:grpSpPr>
        <p:sp>
          <p:nvSpPr>
            <p:cNvPr id="114" name="_s1028"/>
            <p:cNvSpPr/>
            <p:nvPr/>
          </p:nvSpPr>
          <p:spPr>
            <a:xfrm>
              <a:off x="3671280" y="1032120"/>
              <a:ext cx="3544560" cy="3544560"/>
            </a:xfrm>
            <a:custGeom>
              <a:avLst/>
              <a:gdLst>
                <a:gd name="textAreaLeft" fmla="*/ 0 w 3544560"/>
                <a:gd name="textAreaRight" fmla="*/ 3544920 w 354456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_s1029"/>
            <p:cNvSpPr/>
            <p:nvPr/>
          </p:nvSpPr>
          <p:spPr>
            <a:xfrm rot="7200000">
              <a:off x="4155480" y="1870560"/>
              <a:ext cx="3544560" cy="3544560"/>
            </a:xfrm>
            <a:custGeom>
              <a:avLst/>
              <a:gdLst>
                <a:gd name="textAreaLeft" fmla="*/ 0 w 3544560"/>
                <a:gd name="textAreaRight" fmla="*/ 3544920 w 354456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_s1030"/>
            <p:cNvSpPr/>
            <p:nvPr/>
          </p:nvSpPr>
          <p:spPr>
            <a:xfrm rot="14400000">
              <a:off x="3186360" y="1871640"/>
              <a:ext cx="3544560" cy="3544560"/>
            </a:xfrm>
            <a:custGeom>
              <a:avLst/>
              <a:gdLst>
                <a:gd name="textAreaLeft" fmla="*/ 0 w 3544560"/>
                <a:gd name="textAreaRight" fmla="*/ 3544920 w 354456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_s1031"/>
            <p:cNvSpPr/>
            <p:nvPr/>
          </p:nvSpPr>
          <p:spPr>
            <a:xfrm>
              <a:off x="6415200" y="1681200"/>
              <a:ext cx="1422360" cy="14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efor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>
              <a:off x="4732200" y="4595040"/>
              <a:ext cx="142236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durin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_s1033"/>
            <p:cNvSpPr/>
            <p:nvPr/>
          </p:nvSpPr>
          <p:spPr>
            <a:xfrm>
              <a:off x="3049560" y="1681200"/>
              <a:ext cx="1422000" cy="14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ft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0" name="Text Box 13"/>
          <p:cNvSpPr/>
          <p:nvPr/>
        </p:nvSpPr>
        <p:spPr>
          <a:xfrm>
            <a:off x="2484360" y="5734080"/>
            <a:ext cx="6172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Palatino Linotype"/>
                <a:ea typeface="Times New Roman"/>
              </a:rPr>
              <a:t>Cycle of Continuous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57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ree Major Kinds of Assess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gnostic (Befo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ive (Dur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tive (Af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ive assessment – an ongoing process designed to guide the teacher in planning and to determine whether learning problems are emerg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tive assessment- occurs at the end of instruction to show the teacher the level of student accomplish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 the assessment formative or summativ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depends on what is done with the resu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teacher uses the outcome to shape future teaching and to “form” instruction, then the assessment is form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s are used to determine how much the student has learned and to assign a grade or final evaluation then it is summ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 Meas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ternative cho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Cho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ion/Short Answ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ernative/Performance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li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br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ation instru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ecdotal Rec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fol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forman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monst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3:05:08Z</dcterms:created>
  <dc:creator>Tracy Carol Rock</dc:creator>
  <dc:description/>
  <dc:language>en-US</dc:language>
  <cp:lastModifiedBy>Monica Daigler</cp:lastModifiedBy>
  <dcterms:modified xsi:type="dcterms:W3CDTF">2009-03-25T00:11:29Z</dcterms:modified>
  <cp:revision>24</cp:revision>
  <dc:subject/>
  <dc:title>ASSESSMENT</dc:title>
</cp:coreProperties>
</file>