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4453-E392-4CF2-B36A-D16A0C873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F3003-B801-4AF4-B4D4-03BB63AB1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DF348-8F13-4CFB-83D2-DF41EC816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39A70-4AD9-424E-9CD1-F3D07E790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48623-77CF-4768-913B-285523CEF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6DB59-B344-41B5-AD3A-9603646E7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B5123-0AAF-4F20-8AE8-3802DB2F9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FFE80-F341-44E2-955D-940589385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9E61-6CBA-40BD-BD6A-5B291A383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B4F06-8040-48AE-A4FB-EE2124EB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71BA1-9D78-4DC6-BD8C-99114E0F4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FCC1-AC81-4C4B-A85B-FBD3AB89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C857E-AE86-43D5-9169-63E430644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F83D-72BB-4586-9D3E-46F124286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S Scienc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3 Similar Scho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3 Similar Sch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952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5181480" y="541008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752480"/>
            <a:ext cx="739152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1905120"/>
            <a:ext cx="701028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compared to E1).</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Are we teaching what they need to learn?  Prioritizing?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aught</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ction Plan</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30T12:33:46Z</dcterms:modified>
  <cp:revision>35</cp:revision>
  <dc:subject/>
  <dc:title>Slide 1</dc:title>
</cp:coreProperties>
</file>