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499C-36DD-4459-A5AF-FA933B5F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5D72-F4FE-4ED9-9131-1A9691CC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9D20-DB9A-40E3-9249-5EA3833F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B8A0-A04A-4332-9434-2522BF20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F437-87DE-40C2-9053-93E5B17B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E357-31B5-49B3-B063-8A717168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5D45-0906-40B6-A601-FA8B9E67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61C8-31CC-48C8-ACB9-FA0226C0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2B6C-9BAD-4580-A146-88F7658A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2B7C-F54B-4475-A44F-B479392E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E078-D994-4E0A-B134-00E8F3E4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F3F-4408-4C5A-9E9C-8E77E9C9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436B-05AE-4FEC-B72D-C5511DA0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CB59-781E-430C-9554-CA2EAECD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41BC-0355-4E75-AE96-600841F6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1703-916A-4FD7-BBDA-DDBF2D70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F68B-0495-477B-8571-D6B67140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15B-A66E-49B2-9B07-0DD6615E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523-91E0-471A-AA8B-CCF938AC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70C-D047-4619-9F07-9C0D86A9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5B38-48D3-4844-A6E0-39F18521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BF98-9B21-4277-9D5C-3239D76C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437B-2B2F-44D1-A04B-07AF6E89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6A1-5477-465A-B2CC-4A4D0A71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C51E-9C71-46DC-93B4-8ED2A8A02A2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8372-7923-47B9-880C-9F80B5D7C93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assroom Instruction that </a:t>
            </a:r>
            <a:r>
              <a:rPr b="0" i="1" lang="en-US" sz="4400" spc="-1" strike="noStrike">
                <a:solidFill>
                  <a:srgbClr val="ff0000"/>
                </a:solidFill>
                <a:latin typeface="Comic Sans MS"/>
              </a:rPr>
              <a:t>Work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ay 2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752120" y="42667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ing Similariti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Dif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ro: Make a graphic organizer, write a paragraph, outline the similarities and differences between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3200400"/>
            <a:ext cx="6324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al Setting/Learning Go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54864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urpose of this introd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 Goal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a result of today’s training you will be able 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ive examples of each of the four methods of identifying similarities and differen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ply these methods to your cont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earch show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students need explicit structure when first learning to identify similarities and dif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ic and symbolic representations can help students understand and use processes for identifying sims and diff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day’s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hods are divided into 4 s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ify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ng Metaph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ng Analogi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 into content groups and rotate through modules…approx. 30 minutes per modul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complete, there will be a jigsaw style discussion se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1: Living Environmen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2: Earth Sci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3: Physics and Chemis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4: Overflow from Large LE or ES Group …try to pair up with same content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io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057040" y="1142640"/>
            <a:ext cx="4419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1: Station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2: Station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3: Station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4: Station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380988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ummarize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key point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f the LAST station and present to the group.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Give an exampl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f the strategy and explain how you will eithe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plicitly teach it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use it in your cont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8:34:20Z</dcterms:created>
  <dc:creator>Erie 1 Staff-Mobile Labs</dc:creator>
  <dc:description/>
  <dc:language>en-US</dc:language>
  <cp:lastModifiedBy>Monica Burgio</cp:lastModifiedBy>
  <dcterms:modified xsi:type="dcterms:W3CDTF">2009-01-07T23:43:36Z</dcterms:modified>
  <cp:revision>4</cp:revision>
  <dc:subject/>
  <dc:title>Classroom Instruction that Works Day 2</dc:title>
</cp:coreProperties>
</file>