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2BC-D074-45B9-ABA9-01AAA488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1E6-9D35-420C-A222-A8B9751C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946-2199-47AE-A18C-6DC94043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3F3-CD98-4405-99E5-6BB1F03C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644B-B71F-48BF-A294-B0348762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2D30-6B0F-43AC-8B6A-1D2F085A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3249-68A0-4E1D-9423-812D6CD8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BEF3-8CB5-4706-B67F-50000C15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FD76-8E28-4E77-BEC1-38A3793A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3C33-EF34-4F94-9878-2506B999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8B98-9005-4007-A688-E9DB3903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572-752E-4590-AB81-48B26EB6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8457-1769-4D4B-812C-A65C27AB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2F66-B2EA-4C8B-A4C7-1728D273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8F63-3BD2-4580-91A5-16820187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CC57-BF6D-45A5-98A6-3F86C50D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F93D-71D5-4AB7-B4E9-FD3C9FD6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346-0334-4E31-86DC-3C268332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4FA-D47E-4673-8252-E39C0694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48C-5C16-4D0A-B0B1-EA9961EA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981-F592-47EA-9B71-D26B0786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FFA-A54C-44A0-B62D-12027534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357-6E88-4B12-AB5C-2586CA5D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726-4A9A-4C30-BD61-FB9002F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2B4F-B267-4F3C-A0D2-C74120CD91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D42C-B42C-4DF1-9599-33DFE05F08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 Instruction that </a:t>
            </a: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Work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y 2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42667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Similarit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o: Make a graphic organizer, write a paragraph, outline the similarities and differences betwe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200400"/>
            <a:ext cx="632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Setting/Learning Go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5486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urpose of this intro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Goal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a result of today’s training you will be able 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examples of each of the four methods of identifying similarities and differe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y these methods to your cont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show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tudents need explicit structure when first learning to identify similarities and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 and symbolic representations can help students understand and use processes for identifying sims and dif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s are divided into 4 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Analogi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 into content groups and rotate through modules…approx. 30 minutes per modu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omplete, there will be a jigsaw style discussion s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1: Living Environ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2: Earth 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3: Physics and Chemis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4: Overflow from Large LE or ES Group …try to pair up with same content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7040" y="1142640"/>
            <a:ext cx="4419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1: Station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2: Station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3: Stati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4: Station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38098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mmarize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key point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LAST station and present to the group.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ive an exampl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f the strategy and explain how you will eithe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plicitly teach i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se it in your cont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8:34:20Z</dcterms:created>
  <dc:creator>Erie 1 Staff-Mobile Labs</dc:creator>
  <dc:description/>
  <dc:language>en-US</dc:language>
  <cp:lastModifiedBy>Monica Burgio</cp:lastModifiedBy>
  <dcterms:modified xsi:type="dcterms:W3CDTF">2009-01-07T23:43:36Z</dcterms:modified>
  <cp:revision>4</cp:revision>
  <dc:subject/>
  <dc:title>Classroom Instruction that Works Day 2</dc:title>
</cp:coreProperties>
</file>