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B15-5091-473D-9AA8-381EA7F7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61F-19C5-43B6-A8DA-AA26FEB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8EC-E305-416C-AD93-24A4D13F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3EB-3532-4492-A455-E36C77B2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D43-2771-4775-8604-6D2054EC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040-EACE-4CB7-9BDC-84291E9E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366-C2EE-4187-A414-97F8636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202-29A3-4256-ADB9-32974082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E57-81A4-4A6D-8ECC-6930075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C21-F181-49AF-9A9C-4A4D8BC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679-EC43-4FC7-B42E-A2617C7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0AB-4B24-4338-A918-3A70468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C10-82B8-4801-BB95-BFEB765E8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cience vocabulary term explains you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cell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cell analogy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the cell organelles work together to keep the cell a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re skilled at making comparisons of organelles to non-scienc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8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how the earth rotates and rev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human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cells and 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scienc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now organell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91440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understand how cell organelles work tog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organelle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1148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become skilled at making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7056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make 4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be done for units, individual PLE’s or bo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ome time to take a PLE or Unit and look at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 and learning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some mod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Complete NEW Figure 13.6 for a PLE or Unit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air-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…YUM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ime to construct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PLE/Unit from the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ossibilities of feedback and align appropriate rubrics/checklists/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nks to rubric si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lf-assessment through survey giz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alifornian FB"/>
              </a:rPr>
              <a:t>From the images below, choose two which reflect how you are feeling about our work today.  Explain why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1066680"/>
            <a:ext cx="1578960" cy="1752480"/>
            <a:chOff x="2590920" y="1066680"/>
            <a:chExt cx="1578960" cy="1752480"/>
          </a:xfrm>
        </p:grpSpPr>
        <p:sp>
          <p:nvSpPr>
            <p:cNvPr id="150" name=""/>
            <p:cNvSpPr/>
            <p:nvPr/>
          </p:nvSpPr>
          <p:spPr>
            <a:xfrm>
              <a:off x="2590920" y="121896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690640" y="1066680"/>
              <a:ext cx="14792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3520" y="1143000"/>
            <a:ext cx="1426680" cy="1638360"/>
            <a:chOff x="533520" y="1143000"/>
            <a:chExt cx="1426680" cy="1638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1274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33520" y="121932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990720"/>
            <a:ext cx="1676160" cy="1447200"/>
            <a:chOff x="4572000" y="990720"/>
            <a:chExt cx="1676160" cy="1447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2640"/>
              <a:ext cx="121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0" y="99072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914400"/>
            <a:ext cx="1304280" cy="1676520"/>
            <a:chOff x="6934320" y="914400"/>
            <a:chExt cx="1304280" cy="167652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7162560" y="914400"/>
              <a:ext cx="1076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934320" y="91440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048120"/>
            <a:ext cx="1198080" cy="1752480"/>
            <a:chOff x="533520" y="3048120"/>
            <a:chExt cx="1198080" cy="175248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914400" y="3048120"/>
              <a:ext cx="817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3520" y="312408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0" y="2819520"/>
            <a:ext cx="1500120" cy="1676160"/>
            <a:chOff x="2286000" y="2819520"/>
            <a:chExt cx="1500120" cy="16761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438280" y="2819520"/>
              <a:ext cx="1347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6000" y="39621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743200"/>
            <a:ext cx="1347840" cy="1600200"/>
            <a:chOff x="4343400" y="2743200"/>
            <a:chExt cx="1347840" cy="1600200"/>
          </a:xfrm>
        </p:grpSpPr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890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43400" y="35049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2819520"/>
            <a:ext cx="1599840" cy="1828800"/>
            <a:chOff x="6400800" y="2819520"/>
            <a:chExt cx="1599840" cy="182880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flipH="1">
              <a:off x="6781320" y="281952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00800" y="358164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33920" y="4876920"/>
            <a:ext cx="1457280" cy="1675800"/>
            <a:chOff x="3733920" y="4876920"/>
            <a:chExt cx="1457280" cy="16758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267080" y="5028840"/>
              <a:ext cx="9241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733920" y="487692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5029200"/>
            <a:ext cx="1828800" cy="1828800"/>
            <a:chOff x="685800" y="5029200"/>
            <a:chExt cx="1828800" cy="182880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1295280" y="502920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5800" y="5181480"/>
              <a:ext cx="5335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867280" y="4800600"/>
            <a:ext cx="1981080" cy="1832040"/>
            <a:chOff x="5867280" y="4800600"/>
            <a:chExt cx="1981080" cy="183204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6553080" y="487692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67280" y="480060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(B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(C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(A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</cp:lastModifiedBy>
  <dcterms:modified xsi:type="dcterms:W3CDTF">2008-10-28T01:27:07Z</dcterms:modified>
  <cp:revision>99</cp:revision>
  <dc:subject/>
  <dc:title>Slide 1</dc:title>
</cp:coreProperties>
</file>