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E96-4428-4120-AD09-E3767E05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C28-6679-488B-8D58-DB4FCF2F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347-2914-471B-A849-42F390B7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736-6AFB-4F5C-8E4F-D4C20907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0D6-4C2B-4807-9EF7-355A77D6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12A-7D4B-47A2-9D23-1D9D9FDA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6C0-C7DF-4AE8-8451-C1E09075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A23-3A07-43C2-95FC-301FBBAD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0D2-E618-4323-BFCE-F681FB7C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B55-EE22-4E86-A194-2A5B289D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556-862B-4FB9-BC1F-B62AF31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6E6-00A5-410A-85E7-31A400F0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A25E-AF7D-4EFA-8FF8-D5B513C5A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cience vocabulary term explains you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cell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cell analogy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the cell organelles work together to keep the cell a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re skilled at making comparisons of organelles to non-science ex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85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how the earth rotates and revo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human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cells and plants and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scienc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Know organelles and thei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91440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52388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understand how cell organelles work toge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195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organelle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11480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become skilled at making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7056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make 4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n be done for units, individual PLE’s or bo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some time to take a PLE or Unit and look at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ctives and learning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some modif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Complete NEW Figure 13.6 for a PLE or Unit of you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Pair-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nch…YUM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ime to construct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he PLE/Unit from the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possibilities of feedback and align appropriate rubrics/checklists/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inks to rubric si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elf-assessment through survey giz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Californian FB"/>
              </a:rPr>
              <a:t>From the images below, choose two which reflect how you are feeling about our work today.  Explain why to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1066680"/>
            <a:ext cx="1578960" cy="1752480"/>
            <a:chOff x="2590920" y="1066680"/>
            <a:chExt cx="1578960" cy="1752480"/>
          </a:xfrm>
        </p:grpSpPr>
        <p:sp>
          <p:nvSpPr>
            <p:cNvPr id="150" name=""/>
            <p:cNvSpPr/>
            <p:nvPr/>
          </p:nvSpPr>
          <p:spPr>
            <a:xfrm>
              <a:off x="2590920" y="121896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690640" y="1066680"/>
              <a:ext cx="14792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33520" y="1143000"/>
            <a:ext cx="1426680" cy="1638360"/>
            <a:chOff x="533520" y="1143000"/>
            <a:chExt cx="1426680" cy="16383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685800" y="1143000"/>
              <a:ext cx="1274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33520" y="121932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2000" y="990720"/>
            <a:ext cx="1676160" cy="1447200"/>
            <a:chOff x="4572000" y="990720"/>
            <a:chExt cx="1676160" cy="144720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029200" y="1142640"/>
              <a:ext cx="1218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0" y="99072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914400"/>
            <a:ext cx="1304280" cy="1676520"/>
            <a:chOff x="6934320" y="914400"/>
            <a:chExt cx="1304280" cy="167652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7162560" y="914400"/>
              <a:ext cx="1076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934320" y="91440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3048120"/>
            <a:ext cx="1198080" cy="1752480"/>
            <a:chOff x="533520" y="3048120"/>
            <a:chExt cx="1198080" cy="175248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914400" y="3048120"/>
              <a:ext cx="817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33520" y="312408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86000" y="2819520"/>
            <a:ext cx="1500120" cy="1676160"/>
            <a:chOff x="2286000" y="2819520"/>
            <a:chExt cx="1500120" cy="167616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2438280" y="2819520"/>
              <a:ext cx="1347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286000" y="39621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43400" y="2743200"/>
            <a:ext cx="1347840" cy="1600200"/>
            <a:chOff x="4343400" y="2743200"/>
            <a:chExt cx="1347840" cy="1600200"/>
          </a:xfrm>
        </p:grpSpPr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800600" y="2743200"/>
              <a:ext cx="8906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343400" y="35049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400800" y="2819520"/>
            <a:ext cx="1599840" cy="1828800"/>
            <a:chOff x="6400800" y="2819520"/>
            <a:chExt cx="1599840" cy="1828800"/>
          </a:xfrm>
        </p:grpSpPr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 flipH="1">
              <a:off x="6781320" y="281952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00800" y="358164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33920" y="4876920"/>
            <a:ext cx="1457280" cy="1675800"/>
            <a:chOff x="3733920" y="4876920"/>
            <a:chExt cx="1457280" cy="1675800"/>
          </a:xfrm>
        </p:grpSpPr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4267080" y="5028840"/>
              <a:ext cx="9241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733920" y="487692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5800" y="5029200"/>
            <a:ext cx="1828800" cy="1828800"/>
            <a:chOff x="685800" y="5029200"/>
            <a:chExt cx="1828800" cy="1828800"/>
          </a:xfrm>
        </p:grpSpPr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1295280" y="502920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85800" y="5181480"/>
              <a:ext cx="53352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867280" y="4800600"/>
            <a:ext cx="1981080" cy="1832040"/>
            <a:chOff x="5867280" y="4800600"/>
            <a:chExt cx="1981080" cy="1832040"/>
          </a:xfrm>
        </p:grpSpPr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>
              <a:off x="6553080" y="4876920"/>
              <a:ext cx="12952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867280" y="480060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(B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(C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(A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</cp:lastModifiedBy>
  <dcterms:modified xsi:type="dcterms:W3CDTF">2008-10-28T01:27:07Z</dcterms:modified>
  <cp:revision>99</cp:revision>
  <dc:subject/>
  <dc:title>Slide 1</dc:title>
</cp:coreProperties>
</file>