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9F25-C19A-49D5-BD73-844A9B5D6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D29AD-E651-430B-9387-64FAFAB41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2E90-1812-490A-A06D-0E7B3023A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28FC5-DCFA-451D-B2BD-48637177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07933-0B58-4C4D-AAEB-7F14E1169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ECCC2-34E1-4857-9EC7-6DC951A9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624F6-F5B4-4F19-89D2-90403BFB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5CEE9-8BEC-47A5-A6E5-3FFC03456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C3F5E-C716-4AEF-8776-897E039D6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C666-D416-41C6-985D-88BDD363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84D8-7425-414D-9E20-4CA3DBA6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0195-3DA9-404A-BCE1-9320B471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A132-230D-431C-B32C-8824B9B63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0AB4-85FB-407E-BEC8-ACA4204B9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visit PreK-1</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B</a:t>
            </a:r>
            <a:r>
              <a:rPr b="0" lang="en-US" sz="4400" spc="-1" strike="noStrike">
                <a:solidFill>
                  <a:srgbClr val="000000"/>
                </a:solidFill>
                <a:latin typeface="Wingdings"/>
                <a:ea typeface="Wingdings"/>
              </a:rPr>
              <a:t></a:t>
            </a:r>
            <a:r>
              <a:rPr b="0" lang="en-US" sz="4400" spc="-1" strike="noStrike">
                <a:solidFill>
                  <a:srgbClr val="000000"/>
                </a:solidFill>
                <a:latin typeface="Arial"/>
              </a:rPr>
              <a:t>D and what does it look like at each level???</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Skills into map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or attach resources, lessons with skills and/or conten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5"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7"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9"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 </cp:lastModifiedBy>
  <dcterms:modified xsi:type="dcterms:W3CDTF">2008-08-04T17:24:09Z</dcterms:modified>
  <cp:revision>12</cp:revision>
  <dc:subject/>
  <dc:title>What is                 Curriculum Mapping?</dc:title>
</cp:coreProperties>
</file>